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724650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24800" cy="98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0700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898560" y="738000"/>
            <a:ext cx="4927680" cy="36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E6E6-DD3E-4D99-BA69-7FB2FA18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CC51-B58E-4D98-8D16-0E2DC82FF8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BC07-895D-4580-978E-D84C99C808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5751-7A25-4337-AB0C-A4B49F0A8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76C7-4377-4E3C-80A0-C2C3DDA658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F5A-09A9-413C-978F-7F4324296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D153-F7EC-4DDF-863F-2E314A8442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51FF-AC6C-4150-86F2-3C7FC9C38F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D79-47F4-4792-8BD7-FF36B7469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4A2B-329E-46FB-BE48-8FAC70273A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21A7-8644-4EE2-BF8A-0CFB387192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0069-0C38-4DFC-81E4-A897D515E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5539-BBB1-4267-B5B9-D292B999DD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BCC3-957B-4177-A7DC-0FF769F326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349E-8D13-4A0E-8C2D-C043469769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C55F-E8E5-46A3-8734-2CC28FD6DD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825F-6589-4726-B70F-62B482091B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1741-6E9F-441B-A747-2B730B4598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3355-CE8E-4327-9B83-C16C2901B3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4FE-FFE5-464E-AF51-74E1A4BF3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47D9-37E1-471E-922D-5972C2E365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D74A-1032-4622-82D8-3961BF2B8F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0F43-7013-4DE4-BE33-95464E320A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8A2A-4A6B-4AAB-87B8-8ACAF19D49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B6C6-79E1-4705-98DB-1287503417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85A2-BA61-441B-8F05-B4AD2849E3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64DF-45E5-4778-99D4-2CAE21AF4E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9ABD-5A23-4362-BFF5-8DFE2DFB38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6FC-18DB-4792-A601-730F9BF485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1507-1B29-4FEF-9A07-128A9E659A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F517-E467-4B1A-B982-103F9A5EA9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98560" y="738360"/>
            <a:ext cx="4927680" cy="36954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7660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07000" y="935820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E7DC-FB29-4E89-A941-87208585AE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C9D9-36F7-4A1E-AC33-702E1E96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F81C5-02AE-46B5-89AA-78317AC6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64AD-1B8F-4716-8533-4F9F0332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9D36-4B56-48EB-9C7F-FA7BD23D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CA47-007A-479F-B399-5B4DD99B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D27D-E4FE-402A-8A01-795B4F3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423A-84A9-42E8-8C5C-C975B80B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FE54-273F-41E1-817B-53D342E8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C02F-22E3-4275-87B7-173EF28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6E8C-FD7C-42AC-B91B-17B2AD5F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E576-430B-4525-A01B-12C0BEA7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EAB0-7408-40E8-857D-E239F37B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22A2-42DA-45E8-BEED-5A3AF44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DE89-DF65-4348-B6A6-EBDC7E63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36E7-85D3-4118-A177-D404D6A4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2310-FE97-487E-96C7-0450D1B0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BB65-B269-42A9-9CB7-ED007380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776AD-F5A9-4278-AD58-8968B80C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45B02-F37E-4BBF-BC1C-19D687C8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96D3C-8607-4301-ACDC-C6026172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3FC12-325F-49AB-90EF-75F2267A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8F591-326C-4D64-B999-784AEFD0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CF98-B1A7-4043-8EA3-4DC8225D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640FA-9787-490C-80BA-FC23E6E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EEA0E-4B35-4CAE-8468-E453E500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59326-6713-4851-B97C-317A89B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E95E2-A100-48DA-BA0C-4286D5F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7E577-BCFB-4E25-AD0F-16708EE9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0A825-A129-49EB-92D0-3EE15E97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1B206-31A5-4961-891E-9563A3AE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74B2-956C-4FF7-8B5A-0F2F871B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5018-5B05-4D01-BCD2-F0EF596F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6F63-D755-41FF-B1D2-1EED0C1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526E-44FF-4296-8409-BD0ED7AB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8042-96CE-41BB-BBB9-388DAD8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28C8-3E2B-4733-B9BE-DA3126B0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02C5-C8C0-46CB-B264-527FC6A5C4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D056-05CB-493B-8AAB-910D63A7D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3939"/>
                  </a:gs>
                  <a:gs pos="100000">
                    <a:srgbClr val="46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3d3d"/>
                  </a:gs>
                  <a:gs pos="100000">
                    <a:srgbClr val="4646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ef5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3939"/>
                  </a:gs>
                  <a:gs pos="100000">
                    <a:srgbClr val="46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3d3d"/>
                  </a:gs>
                  <a:gs pos="100000">
                    <a:srgbClr val="4646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ef5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F562-606D-43A5-954A-BBB226CBFC4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6C65-075C-4EF3-B45D-17FEDD368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17EE-DDCB-40BA-B004-C09EF43C0E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100000">
                    <a:srgbClr val="404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3939"/>
                  </a:gs>
                  <a:gs pos="100000">
                    <a:srgbClr val="46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3d3d"/>
                  </a:gs>
                  <a:gs pos="100000">
                    <a:srgbClr val="4646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ef5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876560" y="373356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vinia Gasperi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zionario Principale, Educazione Agricola (FA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lavinia2b"/>
          <p:cNvPicPr/>
          <p:nvPr/>
        </p:nvPicPr>
        <p:blipFill>
          <a:blip r:embed="rId2"/>
          <a:stretch/>
        </p:blipFill>
        <p:spPr>
          <a:xfrm>
            <a:off x="3581280" y="1752480"/>
            <a:ext cx="1675080" cy="2286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733920"/>
            <a:ext cx="396252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Ack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e , Educazione Agrico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wa State University, US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808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Garamond"/>
              </a:rPr>
              <a:t>Educazione per le Popolazioni Rurali </a:t>
            </a:r>
            <a:r>
              <a:rPr b="1" i="1" lang="en-US" sz="4000" spc="-1" strike="noStrike">
                <a:solidFill>
                  <a:srgbClr val="ff3300"/>
                </a:solidFill>
                <a:latin typeface="Garamond"/>
              </a:rPr>
              <a:t>(ERP)</a:t>
            </a:r>
            <a:r>
              <a:rPr b="1" i="1" lang="en-US" sz="4000" spc="-1" strike="noStrike">
                <a:solidFill>
                  <a:srgbClr val="008000"/>
                </a:solidFill>
                <a:latin typeface="Garamond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638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Garamond"/>
              </a:rPr>
              <a:t>“</a:t>
            </a:r>
            <a:r>
              <a:rPr b="1" lang="it-IT" sz="2400" spc="-1" strike="noStrike">
                <a:solidFill>
                  <a:srgbClr val="008000"/>
                </a:solidFill>
                <a:latin typeface="Garamond"/>
              </a:rPr>
              <a:t>Sovranità Alimentare: sfida per uno sviluppo sostenibile”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Garamond"/>
              </a:rPr>
              <a:t>Roma, 18 Febbraio 201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0F85-52A0-4A8B-9702-C14BED8C7EE6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Adozione di politiche efficaci a favore delle popolazioni rural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25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26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1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8" name="TextBox 6"/>
          <p:cNvSpPr/>
          <p:nvPr/>
        </p:nvSpPr>
        <p:spPr>
          <a:xfrm>
            <a:off x="533520" y="1905120"/>
            <a:ext cx="7696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11 Paesi africani (Roma, 29 Novembre 200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strategie per la sicurezza alimentare e la riduzione della povertá dipendono direttamente dalla nostra capacitá di promuovere l’accesso dei bambini delle aree rurali ad un’educazione primaria di qualitá“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680E-1144-4196-8530-A13B666B09D0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43040" y="1519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Efficacia organizzativa ed istituzionale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876312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ordinazione tra ministeri dell’educazione, ministeri dell’agricoltura, divulgazione, scuole, ONG e settore privato è essenziale per una ottim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icienz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1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32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2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E304-C335-4F23-8C83-63AF2A60401B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Efficacia organizzativa ed istituzionale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Kosov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a nazionale per ERP sviluppata attraverso la cooperazione tra Ministeri dell’Agricoltura e dell’Educa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sostenitori locali hann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invol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Personale scolastic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Agricoltor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Associazioni di don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36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37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2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AAFF-CEEB-4A4B-B4AE-87456EB9936E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66720" y="38088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Accesso all’Educazione ed alla Formazion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1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42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3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4" name="TextBox 7"/>
          <p:cNvSpPr/>
          <p:nvPr/>
        </p:nvSpPr>
        <p:spPr>
          <a:xfrm>
            <a:off x="228600" y="1752480"/>
            <a:ext cx="731520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imozione di tasse scolastich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taff di divulgazione itinerant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grammi di alimentazione scolastic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spansione della rete scolastic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izzazione di centri scolastici e formativ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uole satellite in aree remote per i ragazz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1B53-94B7-41FE-91C0-DBD2CAB6DDF7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14800" y="3045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Accesso all’educazione e alla formazion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46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47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3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9" name="TextBox 6"/>
          <p:cNvSpPr/>
          <p:nvPr/>
        </p:nvSpPr>
        <p:spPr>
          <a:xfrm>
            <a:off x="380880" y="1828800"/>
            <a:ext cx="7239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Ind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l settore privato – partenariati di governi per fornire pasti scolastici ad 800,000 bambini al giorn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nnessione tra educazione e salute del bambin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 pasti fanno incrementare la frequentazione scolastica, specialmente tra le ragazze, e portano ad un aumento delle abilità di formazi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so di prodotti coltivati localmen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Grandi cucine centralizz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 Cibi distribuiti tutti i giorni con dei cam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4678-2A86-4D2A-8B13-C518CEDD3C51}" type="slidenum">
              <a:t>14</a:t>
            </a:fld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1936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Qualitá dell’educazione e della formazion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qualitá dipende d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ment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egnant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uta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ic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mi con la comunit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2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53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4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87D3-54E1-470B-92E7-37A7EE2B5CFF}" type="slidenum">
              <a:t>15</a:t>
            </a:fld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1480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Qualitá dell’educazione e della formazione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Ugan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á e rilevanza sono leg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gricultura é parte del 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duzione negli orti é di supporto ai programmi di nutrizione scolast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importante legame tra la qualitá e rilevanza é fondamentale per aumentare l’attrattiva e l’utilitá dell’educazione per le popolazioni loca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7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58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4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0324-0EE0-4318-86CB-8A5383F6DDA3}" type="slidenum">
              <a:t>16</a:t>
            </a:fld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14800" y="838080"/>
            <a:ext cx="5029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Decentralizzazione e coinvolgimento comunitario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61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62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5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64" name="TextBox 4"/>
          <p:cNvSpPr/>
          <p:nvPr/>
        </p:nvSpPr>
        <p:spPr>
          <a:xfrm>
            <a:off x="1066680" y="32004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decentralizzazione dell’autorità e della responsabilità per l’educazione e la forma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’importanza di un forte coinvolgimento comunitario nella determinazione di interventi educativi mira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5AD0-9233-41D7-8291-2770079FD199}" type="slidenum">
              <a:t>17</a:t>
            </a:fld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Decentralizzazione e coinvolgimento comunitario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Cambog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zione di comitati scolastici di genitori, insegnanti e leader local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ruzione di scuole satellite nello stile di villaggi per i bambini che non possono percorrere lunghe distanz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genitori si mettono a disposizione per costruire la scuo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i abitanti locali vengono istruiti per diventare insegnan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67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68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5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4850-2F98-47B7-AEEA-12B65C5EDFEB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14440" y="761760"/>
            <a:ext cx="4876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Ambienti formativi in linea con le esigenze di genere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uole a “misura di ragazza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0920" indent="-160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bienti sicuri per ragazze e donn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ari flessibi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o “a portar via” per le ragaz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enti di sesso femmin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2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73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6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CAA1-0F55-4470-9531-45CBEA4557F9}" type="slidenum">
              <a:t>19</a:t>
            </a:fld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Lo scopo di ERP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videre sintesi globali del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oliti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abbiamo appreso su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e02"/>
                </a:solidFill>
                <a:latin typeface="Arial"/>
                <a:ea typeface="ＭＳ Ｐゴシック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cazione per le Popolazioni Rural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ERP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ttp://www.fao.org/erp/i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604F-B783-493D-90FD-7C5BB9E91579}" type="slidenum">
              <a:t>2</a:t>
            </a:fld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91120" y="304560"/>
            <a:ext cx="4952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Ambienti formativi in linea con le esigenze di genere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urkina Fas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’alta percentuale di ragazze non termina la scuola prima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cuole “a misura di ragazza” hanno portato ad un aumento delle iscrizioni in 132 comunit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gni separa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lle ragazze che frequenta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eno il 90% delle lezioni hann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 cibo da portare a ca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7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78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6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7F22-2540-4B09-9F8D-D46612E48D71}" type="slidenum">
              <a:t>20</a:t>
            </a:fld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49528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Inclusione degli studenti atipic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5943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fugiati e senza tet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e che abitano zone inaccessibili o remo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unitá nomadi  e dedite alla pastoriz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gazzi che non frequentano la scuo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e disabi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oranze etnich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 bambini-solda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mbini-lavorato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82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83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7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A830-013E-4029-9165-E5D36249E794}" type="slidenum">
              <a:t>21</a:t>
            </a:fld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Inclusione degli studenti atipic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86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87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7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89" name="TextBox 9"/>
          <p:cNvSpPr/>
          <p:nvPr/>
        </p:nvSpPr>
        <p:spPr>
          <a:xfrm>
            <a:off x="228600" y="1523880"/>
            <a:ext cx="914400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Keny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Formazione non tradizionale per i bambini nelle famiglie dedite alla pastorizia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228600" y="312408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Le lezioni si tengono dopo che il bestiame é rientrato dal pascolo, permettendo agli studenti di mantenere i propri impegni nella cura degli animali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urriculum sviluppato in collaborazione con genitori,  leader locali e studenti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lassi multigrado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C2CF-9A31-44EC-BDC0-0B16FB640757}" type="slidenum">
              <a:t>22</a:t>
            </a:fld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9076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idefinizione del concetto di educazione agricola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92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93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8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95" name="TextBox 3"/>
          <p:cNvSpPr/>
          <p:nvPr/>
        </p:nvSpPr>
        <p:spPr>
          <a:xfrm>
            <a:off x="914400" y="2743200"/>
            <a:ext cx="7010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no necessari cambiamenti fondamentali nella concettualizzazione dell’educazione agricol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’educazione agricola non é al passo con un mondo in mutament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7AA5-6A7B-431F-8337-94DADFAEB0AF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idefinizione del concetto di educazione agricola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97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98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8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0" name="TextBox 6"/>
          <p:cNvSpPr/>
          <p:nvPr/>
        </p:nvSpPr>
        <p:spPr>
          <a:xfrm>
            <a:off x="609480" y="2057400"/>
            <a:ext cx="7848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Paragu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’impresa formativa attraverso l’educazione agrico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685800" y="350532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uole agricole autosufficien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egnare abilitá per la vita, agro-turismo e salute riprodutt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06D9-08A3-4D03-880C-7EFAD6EA52E3}" type="slidenum">
              <a:t>24</a:t>
            </a:fld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191120" y="4568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Formazione di Abilità per le Popolazioni Rurali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228600" y="2819160"/>
            <a:ext cx="9601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 avere successo nelle economie globali sono necessarie abilitá e conoscen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2362320" y="40384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la v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 produ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 auto-impieg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05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306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9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9820-CDF8-45AF-A698-514413618CBD}" type="slidenum">
              <a:t>25</a:t>
            </a:fld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Formazione di Abilità per le Popolazioni Rurali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309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310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9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12" name="TextBox 8"/>
          <p:cNvSpPr/>
          <p:nvPr/>
        </p:nvSpPr>
        <p:spPr>
          <a:xfrm>
            <a:off x="762120" y="2133720"/>
            <a:ext cx="73911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Ugan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viluppo di capacità, formazioni di abilità per la vita, attività che generino entra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cazione comunitaria basata sulla salute e sulla nutrizio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i volontari formati per estendere la formazione alla comunità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C402A-9F7B-45F5-A476-D68A8019C728}" type="slidenum">
              <a:t>26</a:t>
            </a:fld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43400" y="6854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Reclutamento e stabilitá degli organici per insegnanti e divulgatori agricol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314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315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10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17" name="Rectangle 4"/>
          <p:cNvSpPr/>
          <p:nvPr/>
        </p:nvSpPr>
        <p:spPr>
          <a:xfrm>
            <a:off x="1066680" y="3048120"/>
            <a:ext cx="74678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ficoltá nell’attrarre e mantenere personale divulgativo e scolastico nelle aree rural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707A-E34E-455F-824E-F5C07B81FAAC}" type="slidenum">
              <a:t>27</a:t>
            </a:fld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90760" y="6854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Reclutamento e stabilitá degli organici insegnanti e divulgatori agricoli</a:t>
            </a:r>
            <a:endParaRPr b="1" lang="en-US" sz="32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tiche di sviluppo piú accattivan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20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321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Esempio # 10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23" name="TextBox 8"/>
          <p:cNvSpPr/>
          <p:nvPr/>
        </p:nvSpPr>
        <p:spPr>
          <a:xfrm>
            <a:off x="1377720" y="3200400"/>
            <a:ext cx="68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iego di due docenti recentemente qualificati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TextBox 6"/>
          <p:cNvSpPr/>
          <p:nvPr/>
        </p:nvSpPr>
        <p:spPr>
          <a:xfrm>
            <a:off x="990720" y="3581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ari più alti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nzione dei debiti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ggi sovvenzionati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ggiore attenzione al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ut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o alla ter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A7F1-8DC7-4EA6-AA28-EC122530AF7F}" type="slidenum">
              <a:t>28</a:t>
            </a:fld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me si presenterá il successo?</a:t>
            </a:r>
            <a:endParaRPr b="1" lang="en-US" sz="40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P è ben stabilito e sovvenzionato a livello di società, istituzionale ed individuale ed aumenta l’accesso e migliora la qualità dell’educazione per bambini, giovani ed adulti (Sviluppo di capacità a livello di società ed istituziona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olazioni Rurali (Sviluppo di capacità a livello individuale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involte nelle economie basate sulle conoscenz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e ad apprendere come adattarsi ed affrontare la globalizzazione, le forze di mercato, i cambiamenti climatici, le crisi alimentari ed altri shock (resilienza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34ED-0497-4F96-921D-C702E356968F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Arial"/>
              </a:rPr>
              <a:t>Premessa Fondamentale 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re nell’educazione, la formazione e lo sviluppo di capacitá sono prerequisiti fondamentali per la riduzione della povertá e l’aumento della sicurezza alimenta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4D532-366B-4826-B54A-F42E63A7F8CA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I numeri del successo</a:t>
            </a:r>
            <a:endParaRPr b="1" lang="en-US" sz="48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1905120"/>
            <a:ext cx="670572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urezza alimentare ed ERP sono direttamente proporzional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, una ricerca della Banca Mondiale mostra che i contadini scolarizzati hanno una produttività più alta dell’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8.7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ispetto a quelli analfabeti. Laddove vi è anche l’utilizzo di input complementari come fertilizzanti, nuove sementi e macchinari agricoli la produzione è aumentata de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68E9-F6D7-443B-8026-481FBD67C1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9"/>
          <p:cNvSpPr/>
          <p:nvPr/>
        </p:nvSpPr>
        <p:spPr>
          <a:xfrm>
            <a:off x="3430440" y="380880"/>
            <a:ext cx="23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Arial"/>
              </a:rPr>
              <a:t>Gli adult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609480" y="2590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rranno beneficio dalla divulgazione agricola, la formazione di abilitá, la formazione all’alfabetizzazione e l’educazione di b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8D27-5FB5-4D2A-A10E-06FF2B23B477}" type="slidenum">
              <a:t>31</a:t>
            </a:fld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8"/>
          <p:cNvSpPr/>
          <p:nvPr/>
        </p:nvSpPr>
        <p:spPr>
          <a:xfrm>
            <a:off x="1600200" y="457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I bambini ed i giovan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609480" y="312408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rranno beneficio da un’educazione di qualitá e dalle opportunitá di formazione che assicureranno un miglioramento del proprio stile di vita rispetto a quelle dei propri genitor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9564D-EF48-4EF5-8356-B422116A400E}" type="slidenum">
              <a:t>32</a:t>
            </a:fld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04920" y="4495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 will work to increase public investments and encourage private investment in the country- developed plans for rural infrastructure and support services, including- but not limited- to roads, storage, irrigation, communication infrastructure, education, technical support and health.”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Declaration of the World Summit on Food Security, Rome, 2009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3049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Ci impegneremo ad aumentare gli investimenti pubblici e ad incoraggiare quelli privati nei piani dei Paesi nei settori delle infrastrutture rurali e dei servizi di supporto, incluse, ma non solo, le strade, i depositi, l’irrigazione, la comunicazione, l’educazione, il supporto tecnico, la salute ed altro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E3C3-29B3-49B8-9FA0-0F43B554C4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Gli Obiettivi di ERP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re ERP in una posizione rilevante nell’agenda nazionale ed internazionale per il raggiungimento degli OS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liorare l’accesso ad un’educazione di qualità per le popolazioni rural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fforzare le capacità nazionali di individuare le necessità di apprendimento delle popolazioni rurali per superare il divario educativo tra le popolazioni urbane e quelle rural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DAAD-D831-44B0-B776-C693ABB6119F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RP contribuisce al raggiungimento degli OSM:</a:t>
            </a:r>
            <a:endParaRPr b="1" lang="en-US" sz="40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P é fondamentale per il raggiungimento di tutti gli OSM ed in particolare de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SM 1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re la poverta' estrema e la fa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SM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ggiungere léducazione primaria   univers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SM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tá di genere e responsabilizzazione delle don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a1f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SM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ssicurare la sostenibilita' ambienta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46ED-9A30-49E3-976F-0C47827A7519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e02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44956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380880" y="152280"/>
            <a:ext cx="1447920" cy="642600"/>
          </a:xfrm>
          <a:prstGeom prst="rect">
            <a:avLst/>
          </a:prstGeom>
          <a:solidFill>
            <a:srgbClr val="00808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OS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3581280" y="2819520"/>
            <a:ext cx="2133720" cy="2057400"/>
          </a:xfrm>
          <a:prstGeom prst="ellipse">
            <a:avLst/>
          </a:prstGeom>
          <a:solidFill>
            <a:srgbClr val="00808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4114800" y="350532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ER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477120" y="1523880"/>
            <a:ext cx="144756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1295280" y="480060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1371600" y="137160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6781680" y="464832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1290960" y="1600200"/>
            <a:ext cx="16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curezz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iment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6531480" y="2057400"/>
            <a:ext cx="145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Istruzione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1300320" y="502920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quitá d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Box 24"/>
          <p:cNvSpPr/>
          <p:nvPr/>
        </p:nvSpPr>
        <p:spPr>
          <a:xfrm>
            <a:off x="6936120" y="5105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mbien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666880"/>
            <a:ext cx="990360" cy="76212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743200" y="4495680"/>
            <a:ext cx="914400" cy="68580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715000" y="2666880"/>
            <a:ext cx="914400" cy="76212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4572000"/>
            <a:ext cx="1143000" cy="60948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2362320"/>
            <a:ext cx="76320" cy="1066680"/>
          </a:xfrm>
          <a:prstGeom prst="line">
            <a:avLst/>
          </a:prstGeom>
          <a:ln w="8892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895480" y="990720"/>
            <a:ext cx="1447920" cy="137160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1219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duzione povertá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23BC-A865-4595-AC2B-DD5E3B630C08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2"/>
          <p:cNvSpPr/>
          <p:nvPr/>
        </p:nvSpPr>
        <p:spPr>
          <a:xfrm>
            <a:off x="3657600" y="15228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3657600" y="502920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Oval 4"/>
          <p:cNvSpPr/>
          <p:nvPr/>
        </p:nvSpPr>
        <p:spPr>
          <a:xfrm>
            <a:off x="6324480" y="990720"/>
            <a:ext cx="198144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990720" y="106668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6324480" y="403848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990720" y="3962520"/>
            <a:ext cx="1828800" cy="18288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000080" y="1371600"/>
            <a:ext cx="180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nister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ll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gricu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819600" y="762120"/>
            <a:ext cx="14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NES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318720" y="1295280"/>
            <a:ext cx="18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nister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ll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duca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018080" y="41911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nato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rg. Inter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676680" y="57150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cadem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141960" y="4267080"/>
            <a:ext cx="21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G-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ociet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iv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AutoShape 16"/>
          <p:cNvSpPr/>
          <p:nvPr/>
        </p:nvSpPr>
        <p:spPr>
          <a:xfrm>
            <a:off x="3809880" y="2971800"/>
            <a:ext cx="1600200" cy="990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44b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962520" y="3124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  <a:ea typeface="Arial"/>
              </a:rPr>
              <a:t>FA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Left-Right Arrow 19"/>
          <p:cNvSpPr/>
          <p:nvPr/>
        </p:nvSpPr>
        <p:spPr>
          <a:xfrm rot="1916400">
            <a:off x="2606400" y="2692440"/>
            <a:ext cx="1420560" cy="291960"/>
          </a:xfrm>
          <a:prstGeom prst="leftRightArrow">
            <a:avLst>
              <a:gd name="adj1" fmla="val 50000"/>
              <a:gd name="adj2" fmla="val 50188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Left-Right Arrow 21"/>
          <p:cNvSpPr/>
          <p:nvPr/>
        </p:nvSpPr>
        <p:spPr>
          <a:xfrm rot="5400000">
            <a:off x="4069080" y="2331360"/>
            <a:ext cx="993960" cy="2934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Left-Right Arrow 22"/>
          <p:cNvSpPr/>
          <p:nvPr/>
        </p:nvSpPr>
        <p:spPr>
          <a:xfrm rot="19606800">
            <a:off x="5270040" y="2712960"/>
            <a:ext cx="1368360" cy="293760"/>
          </a:xfrm>
          <a:prstGeom prst="leftRightArrow">
            <a:avLst>
              <a:gd name="adj1" fmla="val 50000"/>
              <a:gd name="adj2" fmla="val 49923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Left-Right Arrow 23"/>
          <p:cNvSpPr/>
          <p:nvPr/>
        </p:nvSpPr>
        <p:spPr>
          <a:xfrm rot="20082600">
            <a:off x="2604600" y="3843360"/>
            <a:ext cx="1290600" cy="293760"/>
          </a:xfrm>
          <a:prstGeom prst="leftRightArrow">
            <a:avLst>
              <a:gd name="adj1" fmla="val 50000"/>
              <a:gd name="adj2" fmla="val 49873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Left-Right Arrow 24"/>
          <p:cNvSpPr/>
          <p:nvPr/>
        </p:nvSpPr>
        <p:spPr>
          <a:xfrm rot="5400000">
            <a:off x="4068720" y="4343040"/>
            <a:ext cx="1042920" cy="293760"/>
          </a:xfrm>
          <a:prstGeom prst="leftRightArrow">
            <a:avLst>
              <a:gd name="adj1" fmla="val 50000"/>
              <a:gd name="adj2" fmla="val 49917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Left-Right Arrow 25"/>
          <p:cNvSpPr/>
          <p:nvPr/>
        </p:nvSpPr>
        <p:spPr>
          <a:xfrm rot="1916400">
            <a:off x="5223960" y="3956040"/>
            <a:ext cx="1341720" cy="291960"/>
          </a:xfrm>
          <a:prstGeom prst="leftRightArrow">
            <a:avLst>
              <a:gd name="adj1" fmla="val 50000"/>
              <a:gd name="adj2" fmla="val 50168"/>
            </a:avLst>
          </a:prstGeom>
          <a:solidFill>
            <a:srgbClr val="f4860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49C0-B58B-4C52-A0C1-F9FB05F2648D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Presentazione</a:t>
            </a:r>
            <a:endParaRPr b="1" lang="en-US" sz="4400" spc="-1" strike="noStrike">
              <a:solidFill>
                <a:srgbClr val="def5fa"/>
              </a:solidFill>
              <a:latin typeface="Garamond"/>
            </a:endParaRPr>
          </a:p>
        </p:txBody>
      </p:sp>
      <p:sp>
        <p:nvSpPr>
          <p:cNvPr id="211" name="Right Arrow 6"/>
          <p:cNvSpPr/>
          <p:nvPr/>
        </p:nvSpPr>
        <p:spPr>
          <a:xfrm>
            <a:off x="1143000" y="4038480"/>
            <a:ext cx="2438280" cy="3812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08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Right Arrow 7"/>
          <p:cNvSpPr/>
          <p:nvPr/>
        </p:nvSpPr>
        <p:spPr>
          <a:xfrm>
            <a:off x="1219320" y="2057400"/>
            <a:ext cx="2438280" cy="3808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008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1600200"/>
            <a:ext cx="411480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90512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0 Sfid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657600"/>
            <a:ext cx="4190760" cy="14479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8862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0 Casi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E2D2-99E3-4E77-A112-8D9D8C1C457D}" type="slidenum">
              <a:t>8</a:t>
            </a:fld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4800" y="22824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Politiche efficaci a favore dei rurali</a:t>
            </a:r>
            <a:endParaRPr b="1" lang="en-US" sz="3600" spc="-1" strike="noStrike">
              <a:solidFill>
                <a:srgbClr val="def5fa"/>
              </a:solidFill>
              <a:latin typeface="Garamond"/>
            </a:endParaRPr>
          </a:p>
        </p:txBody>
      </p:sp>
      <p:grpSp>
        <p:nvGrpSpPr>
          <p:cNvPr id="218" name="Rectangle 4"/>
          <p:cNvGrpSpPr/>
          <p:nvPr/>
        </p:nvGrpSpPr>
        <p:grpSpPr>
          <a:xfrm>
            <a:off x="487440" y="407880"/>
            <a:ext cx="3517920" cy="854280"/>
            <a:chOff x="487440" y="407880"/>
            <a:chExt cx="3517920" cy="854280"/>
          </a:xfrm>
        </p:grpSpPr>
        <p:pic>
          <p:nvPicPr>
            <p:cNvPr id="219" name="Rectangle 4" descr=""/>
            <p:cNvPicPr/>
            <p:nvPr/>
          </p:nvPicPr>
          <p:blipFill>
            <a:blip r:embed="rId2"/>
            <a:stretch/>
          </p:blipFill>
          <p:spPr>
            <a:xfrm>
              <a:off x="487440" y="407880"/>
              <a:ext cx="35179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33520" y="457200"/>
              <a:ext cx="3429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Sfida # 1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ff811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1" name="TextBox 7"/>
          <p:cNvSpPr/>
          <p:nvPr/>
        </p:nvSpPr>
        <p:spPr>
          <a:xfrm>
            <a:off x="609480" y="2514600"/>
            <a:ext cx="7239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Promuovere cambiamenti nelle politiche e nella allocazione delle risorse a favore delle popolazioni rural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  <a:ea typeface="Arial"/>
              </a:rPr>
              <a:t>Supportare lo sviluppo di capacità di programmare ERP a livello di società, di istituzioni e di individui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49528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4290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3922-8004-4B8C-9AB0-EF2BB4B65EA2}" type="slidenum">
              <a:t>9</a:t>
            </a:fld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7:08:34Z</dcterms:created>
  <dc:creator>David Acker</dc:creator>
  <dc:description/>
  <dc:language>en-US</dc:language>
  <cp:lastModifiedBy>Bertelli, Francesca (OEKD)</cp:lastModifiedBy>
  <dcterms:modified xsi:type="dcterms:W3CDTF">2011-02-16T13:18:21Z</dcterms:modified>
  <cp:revision>667</cp:revision>
  <dc:subject/>
  <dc:title>Education for Rural People: FAO 4 June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44237847</vt:r8>
  </property>
  <property fmtid="{D5CDD505-2E9C-101B-9397-08002B2CF9AE}" pid="3" name="_AuthorEmail">
    <vt:lpwstr>Francesca.Bertelli@fao.org</vt:lpwstr>
  </property>
  <property fmtid="{D5CDD505-2E9C-101B-9397-08002B2CF9AE}" pid="4" name="_AuthorEmailDisplayName">
    <vt:lpwstr>Bertelli, Francesca (OEKD)</vt:lpwstr>
  </property>
  <property fmtid="{D5CDD505-2E9C-101B-9397-08002B2CF9AE}" pid="5" name="_EmailSubject">
    <vt:lpwstr>PowerPoint Venerdí 18 febbraio</vt:lpwstr>
  </property>
</Properties>
</file>