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2580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2580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8F8-B69B-44B2-95F2-44D71ED9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C95-36BE-4D00-92C4-3D4C12FD3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75E-C32B-4210-9CF1-6972467D99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676-8894-4A5C-976B-115640BE4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966-B3FF-44C5-94C3-897145B728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C967-BB4B-46D0-ABD6-B368895C4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BE03-B7B0-4B52-964F-488CA9828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A42-B6A3-434D-96CD-B3E48756C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AF25-3E29-499B-891D-6D665604F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B57E-876E-439F-8AAF-D29F59D2F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928-FA82-4C00-AB21-7E898C8F8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5BF-F93C-49E9-BD16-D35F7A1FA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09C0-BBCA-4DE7-B653-0CB470624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768-22DF-4ACE-A31C-FB7C1918C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016-524B-4C5A-9E35-C0513EC99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6A17-3F19-48D3-97CC-2C88C671FC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C6C-EDFE-4475-A16A-169197D43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F11B-2E27-4CB0-9DA3-DAE5FC0598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451-B4EC-40E8-A3FB-4428F1AC4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553-8F6F-43E2-B965-8813A86A9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FAA-0DC6-46C3-8E72-6E543E204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C06-EDF2-478B-8884-130AE9DF5B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7F9-E360-4007-9C52-AE09BE0940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0C13-08B3-41A7-9B7D-438F05646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04A-3E88-4653-90F7-0A2DF964D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940-94EB-485C-8430-D0668F44CA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E484-37A1-4B1D-AC0E-3502F85671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25800" y="8756640"/>
            <a:ext cx="300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3F56-CDF3-4F90-A823-5406F6B06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E9D7-F338-4B07-AE9F-1B9F1C6D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F9B7-6172-4D97-ADC2-D3812775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5780-6ABE-4C85-A41C-3D7A3720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5B3D-92CE-47D4-AAE8-D7F9F388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4BDBE-945B-4326-9B9A-BB01A18F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B6AC-ACCC-4564-9560-E75E3502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D0F77-76AC-4D06-80CE-8FD08ECD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E4B68-BE71-4368-A299-63225E5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7CF0-B423-465D-9A60-F272981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6E17-C9C7-4105-92CE-8F32C21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49BAE-FD41-4B37-9F68-8548E17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072B-FC2B-4BFD-B438-A3A3E4F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E93E0-38AF-485C-99A1-CC76212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14CE-1486-4DE7-B7C1-9CB7AB3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966A-3CC1-4658-B177-1D123FB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CF524-1110-4EA2-87BB-8599092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5529-E505-4BBA-8B33-1861772A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213C-8BAC-4193-B537-30DEFDC5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56D5-6681-4706-8721-0E8B774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A555-2CA0-4CBB-AA14-619B625E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0BB5-2A87-4C11-8127-77942EA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6589-0C9A-45D8-890D-8F81D79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871C-808E-4582-9064-ED07F2CA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8FD2-4D0D-4B10-9D2D-053F6DF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CC1D-6135-4C04-B973-0678BA1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E764-CF67-4CB1-AE58-2078FBE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7F8F-F646-4D84-BD40-65C086F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6DCF-D329-4A68-AFDB-DFFF96D1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EB59-5E53-4AAC-AEAA-3EBB0DFB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3DFD-99D4-43A1-B4B5-D1886C3B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B3289-0F7E-44A9-963A-3567D237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5E0B-FC22-48F1-9928-6E95A2C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9DC7-123A-41A5-AAE8-3815D39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1095-6C77-4AC7-B0FC-80DEAB9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6780-E4DE-4900-AF34-E58285B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8986-7475-43C1-9ECE-00489E5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C0D1-2990-4631-BB2F-2C4D171248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D8F-CD17-4255-AE06-33EDE839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697-7B84-4BEA-815A-FC8BE492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41D-11C7-43DF-BFD2-02B174F13FA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939C-88BC-4DA1-8180-DD3827880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876560" y="2895480"/>
            <a:ext cx="4267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1590480" cy="21524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380880" y="487692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vinia Gasperi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O Senior Officer, Agricultural Education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fice of the Director of Knowledge Exchange, Research and Extension (OEKD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Broadening coherence and collaboration for rural development through employment and decent work"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me, 14 November 20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28600" y="228600"/>
            <a:ext cx="8534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Garamond"/>
              </a:rPr>
              <a:t>Education for Rural People 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(ERP)</a:t>
            </a:r>
            <a:r>
              <a:rPr b="1" lang="en-US" sz="3200" spc="-1" strike="noStrike">
                <a:solidFill>
                  <a:srgbClr val="008000"/>
                </a:solidFill>
                <a:latin typeface="Garamond"/>
              </a:rPr>
              <a:t>. The role of Education, Training and Capacity Development in Food Security and Poverty Reduction.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43040" y="1519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rganizational and Institutional Efficiency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7631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mong MoE, MoAg, extension, schools, NGOs and the private sector is essential for optimal effici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2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2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rganizational and Institutional Efficiency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osov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strategy for ERP developed through cooperation between agriculture and education minist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stakeholders involve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School personn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Farm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Women’s associ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 to Education and Training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1" name="TextBox 7"/>
          <p:cNvSpPr/>
          <p:nvPr/>
        </p:nvSpPr>
        <p:spPr>
          <a:xfrm>
            <a:off x="228600" y="2438280"/>
            <a:ext cx="67816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moval of school fe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bile extension staff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hool feeding progra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pansion of the education networ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ool and training center constru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 schools in remote areas for young child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14800" y="3045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 to Education and Training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4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4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6" name="TextBox 6"/>
          <p:cNvSpPr/>
          <p:nvPr/>
        </p:nvSpPr>
        <p:spPr>
          <a:xfrm>
            <a:off x="380880" y="2209680"/>
            <a:ext cx="5029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ivate sector - government partners- to provide school meals to 800,000 children dail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ls increase school attendance, especially among girls and improved learning abi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s locally grown produ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 centralized kitche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eals distributed daily by tru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193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y of Education and Training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depends 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lin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1480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y of Education and Training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ga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and relevance are lin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e is part of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rden produce helps supply school lunch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ink between quality and relevance, vital to increasing appeal and utility of education for rural peop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4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5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14800" y="838080"/>
            <a:ext cx="5029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ation and Community Involvement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6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2" name="TextBox 4"/>
          <p:cNvSpPr/>
          <p:nvPr/>
        </p:nvSpPr>
        <p:spPr>
          <a:xfrm>
            <a:off x="304920" y="2133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entralization of authority and responsibility f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 and trai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ortance of high levels of community involv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determining appropriate education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ation and Community Involvement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ambo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ion of school committees of parents, teachers and local lea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llage based satellite schools for young children who could not walk long dista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nts provided the labor to build the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residents trained as teac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6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14440" y="761760"/>
            <a:ext cx="4876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Gender Responsive Learning Environments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rl friendly scho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 accommodations for girls and wo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ible timetab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-home food for gir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0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71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952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Gender Responsive Learning Environments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urkina Fa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 percentage of girls do not finish primary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 friendly schools see enrolments soar in 132 comm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parate toilet fac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irls who attend 90% or more of the time are given take home 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7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Arial"/>
              </a:rPr>
              <a:t>Underlying Premis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ments in education, training, and capacity development are essential prerequisites to reducing poverty, increasing food securit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ccommodating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on-traditional Learners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7620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ugees and displaced per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ople in inaccessible, remote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adic and pastoral comm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-of-school you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bled per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nic minor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ired child soldi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0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81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ccommodating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on-traditional Learners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84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85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87" name="TextBox 9"/>
          <p:cNvSpPr/>
          <p:nvPr/>
        </p:nvSpPr>
        <p:spPr>
          <a:xfrm>
            <a:off x="228600" y="129528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eny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traditional learning for children of pastoralist fami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457200" y="3048120"/>
            <a:ext cx="7848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lasses take place after animals are penned for the night allowing students to fulfill their duties managing the animal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urriculum developed in consultation with parents, local leaders and student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Multi-grade class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efining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gricultural Education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90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91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3" name="TextBox 3"/>
          <p:cNvSpPr/>
          <p:nvPr/>
        </p:nvSpPr>
        <p:spPr>
          <a:xfrm>
            <a:off x="457200" y="2438280"/>
            <a:ext cx="8686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damental changes needed in how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gricultural education is conceptualize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gricultural education has simply not kep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p with the pace of our changing worl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defining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gricultural Education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9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9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8" name="TextBox 6"/>
          <p:cNvSpPr/>
          <p:nvPr/>
        </p:nvSpPr>
        <p:spPr>
          <a:xfrm>
            <a:off x="609480" y="1828800"/>
            <a:ext cx="8382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Paragu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ching entrepreneurship through agricultural edu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533520" y="33526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f sufficient, fully organic farm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ches value added process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ches life skills, agro-tourism, reproductive heal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kills Training for Rural Peopl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457200" y="19810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s needed to succeed in global, knowledge econom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0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5" name="Text Box 7"/>
          <p:cNvSpPr/>
          <p:nvPr/>
        </p:nvSpPr>
        <p:spPr>
          <a:xfrm>
            <a:off x="457200" y="3505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fe ski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od production ski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employment ski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Technology skill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kills Training for Rural Peopl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30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0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0" name="TextBox 8"/>
          <p:cNvSpPr/>
          <p:nvPr/>
        </p:nvSpPr>
        <p:spPr>
          <a:xfrm>
            <a:off x="304920" y="1752480"/>
            <a:ext cx="83818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gan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, life skills training, income generating activit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-based health and nutrition edu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trained volunteers to extend training throughout commun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43400" y="6854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ruitment and Retention of Extension and School Staff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743200" y="4343040"/>
            <a:ext cx="37339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1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6" name="Rectangle 4"/>
          <p:cNvSpPr/>
          <p:nvPr/>
        </p:nvSpPr>
        <p:spPr>
          <a:xfrm>
            <a:off x="304920" y="304812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y in attracting and retaining exten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chool staff to rural are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760" y="6854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ruitment and Retention of Extension and School Staff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Multiple count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ttractive deployment policie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2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2" name="TextBox 8"/>
          <p:cNvSpPr/>
          <p:nvPr/>
        </p:nvSpPr>
        <p:spPr>
          <a:xfrm>
            <a:off x="228600" y="3276720"/>
            <a:ext cx="53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ing newly qualified staff in pai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-228600" y="36576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r sala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orgive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sidized hous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health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to l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at Will Success Look Like?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ral people will have the capacities to be peop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d in knowledge-based econom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learn how to adapt and cope with to globalization and market forces, climate change, food crises and other shock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will work to increase public investments and encourage private investment in the country- developed plans for rural infrastructure and support services, including- but not limited- to roads, storage, irrigation, communication infrastructure,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education,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echnical support and health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Declaration of the World Summit on Food Security, Rome, 2009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990720"/>
          <a:ext cx="8229600" cy="1719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ural undernourish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ural illiterat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% of the 925 million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47 mill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0 % of the 863 millions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4 mill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1"/>
          <p:cNvSpPr/>
          <p:nvPr/>
        </p:nvSpPr>
        <p:spPr>
          <a:xfrm>
            <a:off x="609480" y="396252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majority of the undernourished people are illiterate and vice vers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ERP Objectives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ERP high in the national and international agenda to reach the MDG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public private partnership to advocate for ERP to be included in the plan of action of Rio 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ing national capacity to implement education programs to address learning needs of rural people with the aim to overcome the urban-rural education ga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e0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4495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80880" y="152280"/>
            <a:ext cx="1600200" cy="642600"/>
          </a:xfrm>
          <a:prstGeom prst="rect">
            <a:avLst/>
          </a:prstGeom>
          <a:solidFill>
            <a:srgbClr val="00808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MD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3581280" y="2819520"/>
            <a:ext cx="2133720" cy="2057400"/>
          </a:xfrm>
          <a:prstGeom prst="ellipse">
            <a:avLst/>
          </a:prstGeom>
          <a:solidFill>
            <a:srgbClr val="00808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114800" y="350532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ER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6477120" y="1523880"/>
            <a:ext cx="144756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1295280" y="4800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1371600" y="1371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6781680" y="464832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6475680" y="1981080"/>
            <a:ext cx="1483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Education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590920" y="2666880"/>
            <a:ext cx="99036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Line 16"/>
          <p:cNvSpPr/>
          <p:nvPr/>
        </p:nvSpPr>
        <p:spPr>
          <a:xfrm flipH="1">
            <a:off x="2743200" y="4495680"/>
            <a:ext cx="914400" cy="68580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5715000" y="2666880"/>
            <a:ext cx="91440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562720" y="4572000"/>
            <a:ext cx="1143000" cy="60948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3581280" y="2362320"/>
            <a:ext cx="76320" cy="106668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2895480" y="99072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1455840" y="1600200"/>
            <a:ext cx="12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2817720" y="1219320"/>
            <a:ext cx="1500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ver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Reduction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379160" y="50292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6707160" y="51055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2"/>
          <p:cNvSpPr/>
          <p:nvPr/>
        </p:nvSpPr>
        <p:spPr>
          <a:xfrm>
            <a:off x="3657600" y="1522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3657600" y="502920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324480" y="99072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990720" y="10666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6324480" y="40384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990720" y="396252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000080" y="1371600"/>
            <a:ext cx="18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r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819600" y="76212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ES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408720" y="1295280"/>
            <a:ext cx="16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r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302480" y="4191120"/>
            <a:ext cx="124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’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044960" y="5715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G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6577200" y="44226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ivi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809880" y="2971800"/>
            <a:ext cx="1600200" cy="990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396252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FA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eft-Right Arrow 19"/>
          <p:cNvSpPr/>
          <p:nvPr/>
        </p:nvSpPr>
        <p:spPr>
          <a:xfrm rot="1916400">
            <a:off x="2606400" y="2692440"/>
            <a:ext cx="1420560" cy="291960"/>
          </a:xfrm>
          <a:prstGeom prst="leftRightArrow">
            <a:avLst>
              <a:gd name="adj1" fmla="val 50000"/>
              <a:gd name="adj2" fmla="val 5018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Left-Right Arrow 21"/>
          <p:cNvSpPr/>
          <p:nvPr/>
        </p:nvSpPr>
        <p:spPr>
          <a:xfrm rot="5400000">
            <a:off x="4069080" y="2331360"/>
            <a:ext cx="993960" cy="2934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eft-Right Arrow 22"/>
          <p:cNvSpPr/>
          <p:nvPr/>
        </p:nvSpPr>
        <p:spPr>
          <a:xfrm rot="19606800">
            <a:off x="5270040" y="2712960"/>
            <a:ext cx="1368360" cy="293760"/>
          </a:xfrm>
          <a:prstGeom prst="leftRightArrow">
            <a:avLst>
              <a:gd name="adj1" fmla="val 50000"/>
              <a:gd name="adj2" fmla="val 4992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eft-Right Arrow 23"/>
          <p:cNvSpPr/>
          <p:nvPr/>
        </p:nvSpPr>
        <p:spPr>
          <a:xfrm rot="20082600">
            <a:off x="2604600" y="3843360"/>
            <a:ext cx="1290600" cy="293760"/>
          </a:xfrm>
          <a:prstGeom prst="leftRightArrow">
            <a:avLst>
              <a:gd name="adj1" fmla="val 50000"/>
              <a:gd name="adj2" fmla="val 4987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eft-Right Arrow 24"/>
          <p:cNvSpPr/>
          <p:nvPr/>
        </p:nvSpPr>
        <p:spPr>
          <a:xfrm rot="5400000">
            <a:off x="4068720" y="4343040"/>
            <a:ext cx="1042920" cy="293760"/>
          </a:xfrm>
          <a:prstGeom prst="leftRightArrow">
            <a:avLst>
              <a:gd name="adj1" fmla="val 50000"/>
              <a:gd name="adj2" fmla="val 49917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eft-Right Arrow 25"/>
          <p:cNvSpPr/>
          <p:nvPr/>
        </p:nvSpPr>
        <p:spPr>
          <a:xfrm rot="1916400">
            <a:off x="5223960" y="3956040"/>
            <a:ext cx="1341720" cy="291960"/>
          </a:xfrm>
          <a:prstGeom prst="leftRightArrow">
            <a:avLst>
              <a:gd name="adj1" fmla="val 50000"/>
              <a:gd name="adj2" fmla="val 5016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ight Arrow 6"/>
          <p:cNvSpPr/>
          <p:nvPr/>
        </p:nvSpPr>
        <p:spPr>
          <a:xfrm>
            <a:off x="1143000" y="4038480"/>
            <a:ext cx="2438280" cy="3812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Right Arrow 7"/>
          <p:cNvSpPr/>
          <p:nvPr/>
        </p:nvSpPr>
        <p:spPr>
          <a:xfrm>
            <a:off x="1219320" y="2057400"/>
            <a:ext cx="2438280" cy="380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67080" y="1600200"/>
            <a:ext cx="411480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114800" y="190512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Challeng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191120" y="3657600"/>
            <a:ext cx="419076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419720" y="38862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Cas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286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ective Pro-rural Policies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1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1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hallenge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8" name="TextBox 7"/>
          <p:cNvSpPr/>
          <p:nvPr/>
        </p:nvSpPr>
        <p:spPr>
          <a:xfrm>
            <a:off x="609480" y="2133720"/>
            <a:ext cx="7696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ting policy and resource allocation to favor rural citiz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for planning ERP at societal (macro), institutional and individual leve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362320" y="4952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286000" y="34290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ective Pro-rural Policies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2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2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ase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5" name="TextBox 6"/>
          <p:cNvSpPr/>
          <p:nvPr/>
        </p:nvSpPr>
        <p:spPr>
          <a:xfrm>
            <a:off x="614160" y="2133720"/>
            <a:ext cx="79182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11 African Countries (Rome, 29 November 200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od security and poverty reduction strategies 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dependent on our capacity to foster rur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ren's access to quality primary educ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7:08:34Z</dcterms:created>
  <dc:creator>David Acker</dc:creator>
  <dc:description/>
  <dc:language>en-US</dc:language>
  <cp:lastModifiedBy>Unset</cp:lastModifiedBy>
  <dcterms:modified xsi:type="dcterms:W3CDTF">2011-11-16T08:50:44Z</dcterms:modified>
  <cp:revision>751</cp:revision>
  <dc:subject/>
  <dc:title>Education for Rural People: FAO 4 June 2009</dc:title>
</cp:coreProperties>
</file>