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24650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24800" cy="98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0700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898560" y="738000"/>
            <a:ext cx="4927680" cy="36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B640-DFD3-4750-88AD-207F3EA5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0439-A75B-49FC-93AC-8DBC0E70A8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E60C-F0AB-4FDE-A22C-FD3265CE70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9363-DF0E-41B3-B2E9-0C7F9B63C9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73CA-5924-4BE4-B309-050D37268D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C804-21AF-4287-9AA6-0926024C46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7DED-67E0-4882-8F03-2B1AA672FD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FB3E-C4F6-43E3-A88E-EF98C620E3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3729-5D74-46E4-8F16-79B4FA6C4F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2EC8-F78D-40E1-87AE-87D5385CB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B249-4468-4E0E-B8DC-D5EC0E2E7F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287F-B192-4FD7-A58D-009F2A2C82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2E8F-AD9C-4813-B13A-CADECCBB5A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C532-B8E8-4879-9224-45E1548D48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D09C-AD6E-4965-8B2D-3ED609CEED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DF41-877C-498F-B217-D92E9B5A5A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4CFA-792B-469A-9074-6D67AAD0ED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3D48-7890-4D99-8834-2336A2C7F7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A326-5ED9-4901-8773-0AC46B8E67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4F8B-D0EE-4C7D-8996-0FA418784F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3ABF-5598-40C9-8B5F-37F7265D59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51E5-045B-461A-88CF-D1CFA113EA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8C86-57BA-4A6A-BD6C-4EF4A0B2D7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64EB-A251-45F2-B1E8-FF9918B04E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4299-6073-4B5A-961F-96E0368DC7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6F02-F053-47C6-829B-F276C19B58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A2ED-532A-43CD-9593-B3F515CD65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4DC4-2D23-4F87-8D3E-6AFFD5E49A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6119-EC8F-4F61-ACDE-27363F7FD7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205C-EB3D-4A6F-B4CD-31C9D4D35D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9F2C-AFA0-4A59-AA59-D6B100A172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FCF5-686F-44DC-8695-DBF51ECF52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54A2-4926-40DD-AD00-3726508FD3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D330-795A-4343-9F31-38833B8E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123F-F5AE-4C5F-B9AE-DB7E6107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881D-21EC-491A-8EB6-093E7B7E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8830-85BF-4E5E-A286-5631E0C9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52A1-8C94-4A14-BE4D-CF1A6E11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0E57-F049-4EEA-B7FC-5304D14A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026E-8457-4AAD-B0F6-7C1F3DAE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390E-7693-441E-82B3-BA256437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357E-A07C-40D9-803A-E150709A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056D-33AB-40B8-9A88-1D35F3A3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D7C2-199B-40B5-A6CB-9C851C8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D833-320A-421D-A4AC-A94680E0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ACE1-1EDE-4912-B710-E8BD5251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FD00-1A1E-4205-A08E-7E802648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0C31-AD88-4F65-9178-B296C98D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3739-CD00-4D80-B89A-ACDE5D2D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5461-9F9C-4AF8-90C3-5E3771DE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19A2-BB1B-49E3-A262-4A92D6AC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F459-F8DE-446B-B5AE-C468F822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A702-17CF-42F2-84C0-78B10674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6F9E-4FF9-4BC0-9CEA-BBCFC2B2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339C-B15E-442E-BE3F-8F1A8C3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3B79-67F5-4ACB-8874-37D6C2FE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2AC8-78B6-4BA8-BBEC-E4ED2635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1B4F-FB75-4C17-8379-841923B1EF6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E871-BD5E-4FC9-9BC4-94F51A771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3939"/>
                  </a:gs>
                  <a:gs pos="100000">
                    <a:srgbClr val="46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3d3d"/>
                  </a:gs>
                  <a:gs pos="100000">
                    <a:srgbClr val="4646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6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ef5f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3939"/>
                  </a:gs>
                  <a:gs pos="100000">
                    <a:srgbClr val="46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3d3d"/>
                  </a:gs>
                  <a:gs pos="100000">
                    <a:srgbClr val="4646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6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ef5f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888F-7EE0-4E82-ADF3-FBCE18D4E33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ECC3-C29B-4C1B-9CD2-A109A8CE04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Educazione per le Popolazioni Rurali - </a:t>
            </a: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ERP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pic>
        <p:nvPicPr>
          <p:cNvPr id="108" name="Picture 5" descr="lavinia2b"/>
          <p:cNvPicPr/>
          <p:nvPr/>
        </p:nvPicPr>
        <p:blipFill>
          <a:blip r:embed="rId2"/>
          <a:stretch/>
        </p:blipFill>
        <p:spPr>
          <a:xfrm>
            <a:off x="6858000" y="1523880"/>
            <a:ext cx="1730520" cy="2362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4114800"/>
            <a:ext cx="4267080" cy="24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avid Ac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fessore, Educazione Agricol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attedra Raymond and Mary Baker in Agricultura Global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acoltá di Agricultura e Scienze della Vit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Universitá dello Stato dell’Iow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US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068720"/>
            <a:ext cx="4191120" cy="29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avinia Gasperi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unzionario Superiore, Educazione Agricol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Ufficio per lo scambio delle conoscenze, ricerca e la divulgazione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(OEK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Organizazzione delle Nazioni Unite per la Alimentazione e l’Agricoltura (FAO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90512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..e sviluppo di capacitá per la riduzione della povertá e la sicurezza aliment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EBDB-2895-4D5E-8D68-54F84A2E0E2C}" type="slidenum">
              <a:t>1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14800" y="3045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Accesso all’educazione e alla formazione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1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172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1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4" name="TextBox 6"/>
          <p:cNvSpPr/>
          <p:nvPr/>
        </p:nvSpPr>
        <p:spPr>
          <a:xfrm>
            <a:off x="1066680" y="2057400"/>
            <a:ext cx="60199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Ind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 partenariato tra settore privato e governo garantisce800,000 pasti nelle scuole ogni giorn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azione: educazione- salute del ragazz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somministrazione di pasti fa aumentare la presenza a scuola, specialmente tra le ragazze, e migliora le abilitá di apprendimen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o della produzione loca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ndi cucine centralizz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Pasti distribuiti ogni giorno con dei cam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5F0F-7863-4E20-9991-17AA4A1EB9D4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1936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Qualitá dell’educazione e della formazione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qualitá dipende d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ment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egnant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tazi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icu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mi con la comunit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7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178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2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A9EB-2DD2-4EDC-B4CA-60874CFF689F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14800" y="609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Qualitá dell’educazione e della formazione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6019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Ugan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á e rilevanza sono concetti lega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gricultura é parte del curricu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duzione negli orti rappresenta un sostegno ai programmi di nutrizione scolast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me tra la qualitá e la rilevanza aumentano l’attrattiva e l’utilitá dell’educazione per le popolazioni rura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2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183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2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06564-2B5B-43B8-A12A-0BA7C4E050EC}" type="slidenum">
              <a:t>12</a:t>
            </a:fld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14800" y="838080"/>
            <a:ext cx="5029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Decentralizzazione e coinvolgimento comunitario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7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188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3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0" name="TextBox 4"/>
          <p:cNvSpPr/>
          <p:nvPr/>
        </p:nvSpPr>
        <p:spPr>
          <a:xfrm>
            <a:off x="380880" y="2590920"/>
            <a:ext cx="838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entralizzazione dell’autoritá e della responsabilitá di educazione e formazion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za del coinvolgimento comunitario nella determinazione di interventi educativi appropria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2D25-E98D-4E0B-B3E1-FA878918F549}" type="slidenum">
              <a:t>13</a:t>
            </a:fld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Decentralizzazione e coinvolgimento comunitario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Cambog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zione di comitati scolastici composti da genitori, insegnanti e capi di villagg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ruzione di villaggi vicini alle scuole “satellite” per bambini che non possono percorrere lunghe distanz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itori che collaborano alla costruzione di scuo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e locale formato per l’insegnamen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3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194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3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E670-EE1C-4A69-929D-719F18E071BC}" type="slidenum">
              <a:t>14</a:t>
            </a:fld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14440" y="761760"/>
            <a:ext cx="4876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Ambienti formativi in linea con le esigenze di genere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uole a “misura di ragazz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tture sicure per ragazze e don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ari flessibi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zioni alimentari per le ragazze, da portare a ca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8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199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4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A79D-0B08-4541-8FFF-9BC2F2ED3326}" type="slidenum">
              <a:t>15</a:t>
            </a:fld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91120" y="304560"/>
            <a:ext cx="4952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Ambienti formativi in linea con le esigenze di genere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601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Burkina Fas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’alta percentuale di ragazze non termina la scuola prima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cuole “a misura di ragazza” permettono un ambiente favorevole per le iscrizioni in 132 comunit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gni separa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lle ragazze che frequentano almeno il 90% delle lezioni viene data una razione alimentare da portare a ca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3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04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4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B74A-64B3-4644-8F8A-36158BED9191}" type="slidenum">
              <a:t>16</a:t>
            </a:fld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43040" y="1519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Efficacia organizzativa ed istituzionale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oordinamento tra ministeri dell’educazione, ministeri dell’Agricoltura, personale di divulgazione, scuole, ONG e settore privato é fondamentale per garantire un’efficienza ottima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8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09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5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8C31-3F7F-4FDE-86A1-4E067462823B}" type="slidenum">
              <a:t>17</a:t>
            </a:fld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66720" y="2282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Efficacia organizzativa ed istituzionale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Kosov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ategia nazionale per ERP formulata in cooperazione tra Ministeri dell’Agricoltura e Ministeri dell’Educazi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keholder locali coinvol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Personale scolastic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Agricoltor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Associazioni di don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3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14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5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1934-FA96-4E21-8AAA-E4A7E7B6D825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91120" y="533160"/>
            <a:ext cx="49528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Inclusione degli studenti atipici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fugiati e senza tet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e che abitano zone inaccessibili o remo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unitá nomadi  e dedite alla pastoriz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gazzi che non frequentano la scuo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e disabi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oranze etnic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 bambini-solda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mbini-lavorator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8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19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6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5286-42F9-4B3C-95A9-48473397EFDB}" type="slidenum">
              <a:t>19</a:t>
            </a:fld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Lo scopo di ERP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videre sintesi globali del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oliti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abbiamo appreso su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e02"/>
                </a:solidFill>
                <a:latin typeface="Arial"/>
                <a:ea typeface="ＭＳ Ｐゴシック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ucazione per le Popolazioni Rural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ERP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ttp://www.fao.org/erp/e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B4CF-962F-4969-B3C0-4BFCC414F13B}" type="slidenum">
              <a:t>2</a:t>
            </a:fld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Inclusione degli studenti atipici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23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24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6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6" name="TextBox 9"/>
          <p:cNvSpPr/>
          <p:nvPr/>
        </p:nvSpPr>
        <p:spPr>
          <a:xfrm>
            <a:off x="685800" y="1676520"/>
            <a:ext cx="79246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Keny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Formazione non tradizionale per i bambini nelle famiglie dedite alla pastorizia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685800" y="3352680"/>
            <a:ext cx="655308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Le lezioni hanno luogo dopo che gli animali sono stati portati via dal pascolo permettendo agli studenti di adempiere alle loro mansioni di pastore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l curriculum si sviluppa in collaborazione con genitori, i capi dei villaggi e gli studenti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lassi multigrado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2CDE-A99F-4E6C-B915-4D803CC4BE1C}" type="slidenum">
              <a:t>20</a:t>
            </a:fld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9076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idefinizione del concetto di educazione agricola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29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30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7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32" name="TextBox 3"/>
          <p:cNvSpPr/>
          <p:nvPr/>
        </p:nvSpPr>
        <p:spPr>
          <a:xfrm>
            <a:off x="990720" y="2438280"/>
            <a:ext cx="7086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no necessari cambiamenti importanti nella concettualizzazione dell’educazione agricol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’educazione agricola non é al passo con le condizioni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utevoli del nostro temp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9CDE-00C0-4E1B-9C6C-BD19560D401D}" type="slidenum">
              <a:t>21</a:t>
            </a:fld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9112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idefinizione del concetto di educazione agricola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34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35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7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37" name="TextBox 6"/>
          <p:cNvSpPr/>
          <p:nvPr/>
        </p:nvSpPr>
        <p:spPr>
          <a:xfrm>
            <a:off x="609480" y="2362320"/>
            <a:ext cx="79250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Paragu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egnare l’imprenditoria attraverso l’educazione agrico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685800" y="35053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uole agricole autosufficienti e totalmente struttu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egnare abilitá per la vita, turismo agricolo e salute dell’apparato riproduttiv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ED90-393A-4F79-8A75-9663362D2F89}" type="slidenum">
              <a:t>22</a:t>
            </a:fld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91120" y="4568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viluppo di competenze ed abilitá per le popolazioni rurali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2514240"/>
            <a:ext cx="6095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ilitá necessarie per riuscire in economie globali e basate sulla conoscenz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598760" y="3962520"/>
            <a:ext cx="482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bilitá relative alla vita quotidian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bilitá relative alla produzione di alimen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bilitá per l’autoimpieg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2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43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8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0C51-092B-4381-ABC6-5D8C8F60E748}" type="slidenum">
              <a:t>23</a:t>
            </a:fld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95320" y="6854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viluppo di competenze ed abilitá per le popolazioni rurali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46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47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8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9" name="TextBox 8"/>
          <p:cNvSpPr/>
          <p:nvPr/>
        </p:nvSpPr>
        <p:spPr>
          <a:xfrm>
            <a:off x="914400" y="1981080"/>
            <a:ext cx="66294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Ugan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viluppo di capacitá, formazione di abilitá per la vita quotidiana, attivitá redditiz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cazione alla salute comunitaria e alla nutrizi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iego di volontari formati per estendere la formazione al di fuori della comunit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9804-76A0-4C1D-B1F8-FFBC4AA6E68B}" type="slidenum">
              <a:t>24</a:t>
            </a:fld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43400" y="6854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Reclutamento e stabilitá degli organici (insegnanti e divulgatori agricoli)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373392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52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53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9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55" name="Rectangle 4"/>
          <p:cNvSpPr/>
          <p:nvPr/>
        </p:nvSpPr>
        <p:spPr>
          <a:xfrm>
            <a:off x="1905120" y="27432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oltá nel reclutamento e nella stabilitá degli organici per insegnanti e divulgatori agricoli nelle aree rural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FF62-C942-489D-A151-3F8C4A6738D1}" type="slidenum">
              <a:t>25</a:t>
            </a:fld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190760" y="6854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Reclutamento e stabilitá degli organici (insegnanti e divulgatori agricoli)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Vari Pae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he per stabilizzare gli organici nelle aree rural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58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59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9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61" name="TextBox 6"/>
          <p:cNvSpPr/>
          <p:nvPr/>
        </p:nvSpPr>
        <p:spPr>
          <a:xfrm>
            <a:off x="1143000" y="3733920"/>
            <a:ext cx="487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pendi piú al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cellazione dei presti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vvenzioni per l’allogg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o ad una salute di      qualit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o alla ter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1609560" y="3352680"/>
            <a:ext cx="61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unzione di divulgatori agricoli in copp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5571-B3B6-4E2F-B8D6-DC1DC0721147}" type="slidenum">
              <a:t>26</a:t>
            </a:fld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43400" y="685800"/>
            <a:ext cx="44956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Adozione di politiche efficaci a favore delle popolazioni rurali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2636640"/>
            <a:ext cx="73152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uovere cambiamenti nella politica e nella distribuzione di risorse in favore delle popolazioni rura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65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66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10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5BD5-B9B8-4613-87AA-8D602B740EC2}" type="slidenum">
              <a:t>27</a:t>
            </a:fld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Adozione di politiche efficaci a favore delle popolazioni rurali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69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70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10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72" name="TextBox 6"/>
          <p:cNvSpPr/>
          <p:nvPr/>
        </p:nvSpPr>
        <p:spPr>
          <a:xfrm>
            <a:off x="609480" y="2133720"/>
            <a:ext cx="79250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11 Paesi africani (Roma, 29 Novembre 200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 and poverty reduction strategies 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dependent on our capacity to foster rur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's access to quality primary education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strategie per la sicurezza alimentare e la riduzione della povertá dipendono direttamente dalla nostra capacitá di promuovere l’accesso dei bambini delle aree rurali ad un’educazione primaria di qualitá“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4D87-F45E-49DD-9093-B5349D9527AA}" type="slidenum">
              <a:t>28</a:t>
            </a:fld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6"/>
          <p:cNvSpPr/>
          <p:nvPr/>
        </p:nvSpPr>
        <p:spPr>
          <a:xfrm>
            <a:off x="2673720" y="228600"/>
            <a:ext cx="36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Conclusioni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2438280" y="1981080"/>
            <a:ext cx="487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educazione per le popolazioni rurali é fondamentale per assicurare che gli sforzi per lo sviluppo abbiano successo oggi e nel fut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1E60-BC3F-4680-B78A-705BB617A7BC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Arial"/>
              </a:rPr>
              <a:t>Premessa 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re nell’educazione, la formazione e lo sviluppo di capacitá sono requisiti fondamentali per la riduzione della povertá e l’aumento della sicurezza alimentar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DB65-8A3C-4322-9F79-E41E8B21D4C8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me si presenterá il successo?</a:t>
            </a:r>
            <a:endParaRPr b="1" lang="en-US" sz="40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gliore accesso e maggiore qualitá dell’educazione e formazione (inclusa la divulgazione) per tutti i bambini, giovani ed adulti rurali. Popolazioni rural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involte in economie basate sulle conoscenz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e ad apprendere per adattarsi e far fronte alla globalizzazione ed alle forze di mercato, cambiamento climatico, crisi alimentare ed altri sho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255EE-19BC-4627-A157-BD5367B0B412}" type="slidenum">
              <a:t>30</a:t>
            </a:fld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9"/>
          <p:cNvSpPr/>
          <p:nvPr/>
        </p:nvSpPr>
        <p:spPr>
          <a:xfrm>
            <a:off x="3659040" y="685800"/>
            <a:ext cx="23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Arial"/>
              </a:rPr>
              <a:t>Gli adulti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2057400" y="251460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rranno beneficio dalla divulgazione agricola, la formazione di abilitá, l’alfabetizzazione e l’educazione di ba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6E34-5DFB-450D-B3E6-3C5A7A1E4349}" type="slidenum">
              <a:t>31</a:t>
            </a:fld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8"/>
          <p:cNvSpPr/>
          <p:nvPr/>
        </p:nvSpPr>
        <p:spPr>
          <a:xfrm>
            <a:off x="1600200" y="457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I bambini ed i giovan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1676520" y="213372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rranno beneficio da un’educazione di qualitá e dalle opportunitá formative per assicurare che le proprie condizioni di vita migliorino, cosí come quelle dei propri genitor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35C6-DD02-48AB-8E12-C8F081C53F23}" type="slidenum">
              <a:t>32</a:t>
            </a:fld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will work to increase public investments and encourage private investment in the country- developed plans for rural infrastructure and support services, including- but not limited- to roads, storage, irrigation, communication infrastructure, education, technical support and health.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 impegneremo ad aumentare gli investimenti pubblici ed a incoraggiare quelli privati nei piani di sviluppo dei Paesi per garantire servizi di infrastrutture e di supporto come, ma non solo, strade, rifornimenti, sistemi di irrigazione e comunicazione, educazione, supporto tecnico e salute”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Declaration of the World Summit on Food Security, Roma, 2009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7968-4801-4EFA-B4DB-95456A3BC4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Gli Obiettivi di ERP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ire a migliorare la sicurezza alimentare trami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ccesso all’educazione di base per le popolazioni rura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pacitá delle Nazioni di mettere in pratica piani educativi per venire incontro alle necessitá educative delle popolazioni rural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mpegno a colmare il divario educativo tra zone urbane e rura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D2FF-6C9D-4B0B-9D28-47DC69A29D11}" type="slidenum">
              <a:t>4</a:t>
            </a:fld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RP contribuisce al raggiungimento degli OSM:</a:t>
            </a:r>
            <a:endParaRPr b="1" lang="en-US" sz="40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P é fondamentale per il raggiungimento di tutti gli OSM ed in particolare de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SM 1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re la poverta' estrema e la fa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SM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ggiungere l'istruzione elementare    universa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SM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uovere l'uguaglianza fra i sessi e conferire potere e responsabilita' alle don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SM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ssicurare la sostenibilita' ambienta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FEB76-89C5-4570-884D-957E85BD5E19}" type="slidenum">
              <a:t>5</a:t>
            </a:fld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e02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44956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380880" y="152280"/>
            <a:ext cx="1447920" cy="642600"/>
          </a:xfrm>
          <a:prstGeom prst="rect">
            <a:avLst/>
          </a:prstGeom>
          <a:solidFill>
            <a:srgbClr val="00808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OS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Oval 11"/>
          <p:cNvSpPr/>
          <p:nvPr/>
        </p:nvSpPr>
        <p:spPr>
          <a:xfrm>
            <a:off x="3581280" y="2819520"/>
            <a:ext cx="2133720" cy="2057400"/>
          </a:xfrm>
          <a:prstGeom prst="ellipse">
            <a:avLst/>
          </a:prstGeom>
          <a:solidFill>
            <a:srgbClr val="00808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4114800" y="350532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ER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6477120" y="1523880"/>
            <a:ext cx="144756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1295280" y="4800600"/>
            <a:ext cx="144792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1371600" y="1371600"/>
            <a:ext cx="144792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6781680" y="4648320"/>
            <a:ext cx="144792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1297080" y="160020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curezz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iment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6471000" y="1676520"/>
            <a:ext cx="15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iduzi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l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vert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1240200" y="5029200"/>
            <a:ext cx="148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quitá t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 sess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6936120" y="51055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mbien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666880"/>
            <a:ext cx="990360" cy="76212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3200" y="4495680"/>
            <a:ext cx="914400" cy="68580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15000" y="2666880"/>
            <a:ext cx="914400" cy="76212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4572000"/>
            <a:ext cx="1143000" cy="60948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C919-3A20-4B10-8426-685E4F990878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val 2"/>
          <p:cNvSpPr/>
          <p:nvPr/>
        </p:nvSpPr>
        <p:spPr>
          <a:xfrm>
            <a:off x="3657600" y="15228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3657600" y="502920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6324480" y="990720"/>
            <a:ext cx="198144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990720" y="106668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6324480" y="403848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990720" y="396252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000080" y="1371600"/>
            <a:ext cx="18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nister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ll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gricul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819600" y="762120"/>
            <a:ext cx="14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NESC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318720" y="1295280"/>
            <a:ext cx="18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nister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ll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ducazi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1018080" y="41911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onator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rg. Intern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12848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580440" y="442260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ociet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iv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3809880" y="2971800"/>
            <a:ext cx="1600200" cy="990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44b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962520" y="3124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  <a:ea typeface="Arial"/>
              </a:rPr>
              <a:t>FA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eft-Right Arrow 19"/>
          <p:cNvSpPr/>
          <p:nvPr/>
        </p:nvSpPr>
        <p:spPr>
          <a:xfrm rot="1916400">
            <a:off x="2606400" y="2692440"/>
            <a:ext cx="1420560" cy="291960"/>
          </a:xfrm>
          <a:prstGeom prst="leftRightArrow">
            <a:avLst>
              <a:gd name="adj1" fmla="val 50000"/>
              <a:gd name="adj2" fmla="val 50188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eft-Right Arrow 21"/>
          <p:cNvSpPr/>
          <p:nvPr/>
        </p:nvSpPr>
        <p:spPr>
          <a:xfrm rot="5400000">
            <a:off x="4069080" y="2331360"/>
            <a:ext cx="993960" cy="2934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eft-Right Arrow 22"/>
          <p:cNvSpPr/>
          <p:nvPr/>
        </p:nvSpPr>
        <p:spPr>
          <a:xfrm rot="19606800">
            <a:off x="5270040" y="2712960"/>
            <a:ext cx="1368360" cy="293760"/>
          </a:xfrm>
          <a:prstGeom prst="leftRightArrow">
            <a:avLst>
              <a:gd name="adj1" fmla="val 50000"/>
              <a:gd name="adj2" fmla="val 49923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eft-Right Arrow 23"/>
          <p:cNvSpPr/>
          <p:nvPr/>
        </p:nvSpPr>
        <p:spPr>
          <a:xfrm rot="20082600">
            <a:off x="2604600" y="3843360"/>
            <a:ext cx="1290600" cy="293760"/>
          </a:xfrm>
          <a:prstGeom prst="leftRightArrow">
            <a:avLst>
              <a:gd name="adj1" fmla="val 50000"/>
              <a:gd name="adj2" fmla="val 49873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eft-Right Arrow 24"/>
          <p:cNvSpPr/>
          <p:nvPr/>
        </p:nvSpPr>
        <p:spPr>
          <a:xfrm rot="5400000">
            <a:off x="4068720" y="4343040"/>
            <a:ext cx="1042920" cy="293760"/>
          </a:xfrm>
          <a:prstGeom prst="leftRightArrow">
            <a:avLst>
              <a:gd name="adj1" fmla="val 50000"/>
              <a:gd name="adj2" fmla="val 49917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eft-Right Arrow 25"/>
          <p:cNvSpPr/>
          <p:nvPr/>
        </p:nvSpPr>
        <p:spPr>
          <a:xfrm rot="1916400">
            <a:off x="5223960" y="3956040"/>
            <a:ext cx="1341720" cy="291960"/>
          </a:xfrm>
          <a:prstGeom prst="leftRightArrow">
            <a:avLst>
              <a:gd name="adj1" fmla="val 50000"/>
              <a:gd name="adj2" fmla="val 50168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7651-876C-4AE0-B2BC-C19334CB217D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resentazione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58" name="Right Arrow 6"/>
          <p:cNvSpPr/>
          <p:nvPr/>
        </p:nvSpPr>
        <p:spPr>
          <a:xfrm>
            <a:off x="1143000" y="4038480"/>
            <a:ext cx="2438280" cy="3812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080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ight Arrow 7"/>
          <p:cNvSpPr/>
          <p:nvPr/>
        </p:nvSpPr>
        <p:spPr>
          <a:xfrm>
            <a:off x="1219320" y="2057400"/>
            <a:ext cx="2438280" cy="38088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0080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1600200"/>
            <a:ext cx="411480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190512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0 Sfid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3657600"/>
            <a:ext cx="4190760" cy="14479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38862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0 Casi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7C38-4812-46AB-A161-6F854B5F9394}" type="slidenum">
              <a:t>8</a:t>
            </a:fld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14800" y="22824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Accesso all’educazione e alla formazione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165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166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1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8" name="TextBox 7"/>
          <p:cNvSpPr/>
          <p:nvPr/>
        </p:nvSpPr>
        <p:spPr>
          <a:xfrm>
            <a:off x="990720" y="2514600"/>
            <a:ext cx="65530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imozione di tasse scolastich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e di divulgazione itinerant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grammi di nutrizione scolastic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mpliamento della rete scolastic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ruzione di centri scolastici e formativ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uole “satellite” in zone remote per i piú giova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61F4-DD3A-423F-8584-3EA8CFBEC0BF}" type="slidenum">
              <a:t>9</a:t>
            </a:fld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7:08:34Z</dcterms:created>
  <dc:creator>David Acker</dc:creator>
  <dc:description/>
  <dc:language>en-US</dc:language>
  <cp:lastModifiedBy>Maramici</cp:lastModifiedBy>
  <dcterms:modified xsi:type="dcterms:W3CDTF">2011-01-11T14:11:52Z</dcterms:modified>
  <cp:revision>582</cp:revision>
  <dc:subject/>
  <dc:title>Education for Rural People: FAO 4 June 2009</dc:title>
</cp:coreProperties>
</file>