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BF5D-2DF2-4651-87BD-80909BF164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8AB-64CC-43F2-9E89-00E07481C6B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A62-B937-4C58-B424-07CAF24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4CF-0D92-4525-9EB6-BFC0F208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624-8C88-443D-9536-45F87CC5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19E-FF87-4578-9B19-C1414B8C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07B-308D-47C9-869E-EF03C5CF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BF9-8343-4B3E-ABC6-923BD54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EB0-29AF-41B6-BFC2-E49E7C24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D49D-9666-4DE8-81DE-BE93F32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AFA-69E2-430E-A3E3-CB77AFB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145-CA3B-4DA3-BEDB-76EC54D3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8FA9-F532-45D5-9AD6-FC9C29B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020-11B1-48F3-A8F7-E5B5C57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0DCE-C836-4B1B-8B9D-529E4D09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2F31-33A7-48B2-99F0-D97D898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C2BA-64A7-4218-B597-27A3497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DA69-60A0-4797-A657-DB35A644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968-28A5-4B31-8424-6E36DA11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5EE-3240-4244-AF41-3AE80A2E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A1D-BB3D-4E44-A7DF-F9690C1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D94-18E9-432F-B81B-996AB582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600-E67C-45F6-8F80-003857AA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007-9B4C-4289-98B2-852E9B8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251-CB84-4A27-9C3B-B7C9984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C5C-3DE5-4D0E-8A20-BABD2C8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nesco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17640"/>
            <a:ext cx="17719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4EEC-1BD6-4FF2-97F0-AD590969FF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ducation For All by 2015: 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eposition of UNESCO Education Sector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9880" y="5030280"/>
            <a:ext cx="7619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WGW Meeting, Stockholm, 6. – 7. June 2010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lav Seim, UNESCO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4" descr="education_header"/>
          <p:cNvPicPr/>
          <p:nvPr/>
        </p:nvPicPr>
        <p:blipFill>
          <a:blip r:embed="rId1"/>
          <a:stretch/>
        </p:blipFill>
        <p:spPr>
          <a:xfrm>
            <a:off x="1477800" y="228600"/>
            <a:ext cx="591372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228600" y="76320"/>
            <a:ext cx="8686800" cy="66294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26708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28429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eposition the Sect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e the need to revitalize UNESCO’s role as global leader in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y EFA efforts over the next 5 yea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preparing for 2015 and thinking beyo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move away from 35 C/5, but strengthen a common vision in the S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urning to a broader interpretation for EF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6 Dakar goals are broad &gt; but interpretation has often been more limited (eg. access to primary education, gend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not achieve EFA unless we take an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listic approac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education (all levels, all forms of delivery as part of one education system) and invest more in improving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al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f education, which will also guide action post 201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FA is thus relevant to all countries. UNESCO needs to be relevant to all cou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 is not an end in itself, it serves broader development objec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defining UNESCO’s global EFA coordination ro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hance consultation with EFA convening agencie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rticularly WB &amp; UNICEF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 global coordination mechanism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LG, WG, IA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y a more active role in September MDG sum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hance the qualitative dimensions of the EFA monitoring process 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g. bringing experiences gained in the 20 target countries to the attention of the HL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ract higher level representation in the HL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3840" y="18252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ositioning UNESCO as a global leader in education (1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inforcing quality as an overarching issue of the EFA agenda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29680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ccesses in increasing access to education, have not been matched by increase in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bated in all countries: “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hat kind of education do we want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 &amp;   “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ow can we improve learning outcomes in our school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lity education goes beyond individual learning achievements and can lay the foundations for more equitable, just and tolerant societi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 is working on a quality assurance framework, as an assessment tool to provide more guidance to Member Stat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3840" y="18252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ositioning UNESCO as a global leader in education (2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oking to the future &amp; responding to emerg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8209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ector shoul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pond more swiftly to new emerging issues critical for education. (Eg. Climate change educ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y a key role in anticipating the opportunities and challenges of the futu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ke the lead in instigating the debate and become a true platform for discussion on what education for tomorrow/post 201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3840" y="18252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ositioning UNESCO as a global leader in education (3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Policy &amp; Planning: streamlining our support to countri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2320" y="11592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vitalizing country-level support to the achievement of EFA (1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5128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olidating actions initiated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eg. decentralization, increased programmatic focus, moving operations upstream , shaping common capacity development approaches, reinforcing support to priority countries…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improved backstopping to cluster &amp; field offices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g. DRC miss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more and better policy advice and support countries to prepare and implement sector progra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stronger partnerships at country level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eg. Seize review of FTI to better articulate UNESCO’ role with that of other partner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inue clarification of roles between different UNESCO ent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panding our support to Priority Afric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2320" y="11592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vitalizing country-level support to the achievement of EFA (2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ed to find new ways of scaling up impact for Afric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tential extrabudgetarty funding for Africa from emrging don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at Africa is given priority status in global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engthen implementation of TTIS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rough holistic approach – ensure that Africa receives increased support in the field of Higher Education (requested at WCH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nhancing our contribution to Priority Gend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2320" y="11592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vitalizing country-level support to the achievement of EFA (3/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unch an extrabudgetary funded programme on literacy for development  focusing on women &amp; gir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 countries in integrating gender analyses into national right-to-education legislation and poli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 internal network of ED’s focal points for gender and mainstream gender in review of workplans (Septemb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11:22Z</dcterms:created>
  <dc:creator>am_gillet</dc:creator>
  <dc:description/>
  <dc:language>en-US</dc:language>
  <cp:lastModifiedBy>o_seim</cp:lastModifiedBy>
  <dcterms:modified xsi:type="dcterms:W3CDTF">2010-06-04T18:01:16Z</dcterms:modified>
  <cp:revision>9</cp:revision>
  <dc:subject/>
  <dc:title>Presentation for ED staff</dc:title>
</cp:coreProperties>
</file>