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7C12-E7EA-4284-BFB8-A1C097F48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67458-5AFB-4141-B1A4-01071B5F308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E2AC-00FF-4B56-AD53-03C61340460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 depends largely on perceptions of quality and in turn on PT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 again issue of quality and also the transition rates to public secondary schools. Could be that thepressure for fee abolition for lower secondary and higher fees for higher secondary will in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tiary – from mid 1980s some governments began to with draw feeding subsidies and then starting to charge for accom. Later into. Of tuition fees at moderate levels which have risen over time. At the same time, (Nigeria is good example) private universities were first allowed and then encouraged. Likely that both of these trends will continue. If not then some of the ambitious schemes to expand higher education – eg. Ethiopia – will result in a squeeze on primary and secondary educ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9DFB-A726-40C7-A11E-B904F9C0ECD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aid as a share of total aid or of aid directed to specific development programmes has been constant or fallen over past decade. Unlikely the share will increase in the future. More education aid will require more aid i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aid in 2009 (taking out volatile debt reduction operations for Iraq and Nig) increased by 6.8% . Commitments fopr development projects and programmes increased by 8.5%. So, aid has held up s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Gleneagles/G8 commitments have not yet been reached and the OECD suggests that not surprisingly it is SSA (the largest recipient) which will have the greatest shortfall of ‘promised’ 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are currently worries of a double dip recession in several donor countries, IMF projections envisage that 2011 will see the return of most countries to growth rates close to those of the past. And there seems some concern to keep to ‘international commitments’ –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 perhaps more of a danger for education aid is not a reduction in total aid but an increase in the use of this aid for more overtly strategic, defence and economic trade reasons. Currently SSA countries overall receive much more aid per capita than other regions -  $51 compared to EA $6, LA $16 or SWA $9. Any switch away from poverty as the criteria for aid allocations would impact strongly on SSA.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4C91C-04C4-496B-8433-4EDB931FFB9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DGs and PRSPs etc bolstered aid for primary education (though the share has fallen) – many lobbies domestic and donor for tertiary. Secondary has few lobbyists – can they be fou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ft to sector programmes – around one fifth in general and perhaps half for basic education. Is this trend likely to continue? Finance ministries like it, donors seem to encourage it. But interesting that the share for sector programmes in middle income countries is much lower than in poorer countries – much higher share for TC.</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lict. GMR 2010 20 CA countries of which 16 are in SSA. One third of all OOS and one fifth of aid (and Pak, Afgh and Eth get 50% of this). Major challenge for dono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or strategies. Vary widely. Does it matter. Is there a role for comparative advantage? France and Germ criticised by GMR for several years for post primary share – without these donors sec aid reduced by half and tertiary by 2/3rd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CS  Limited for education but in future recipients may require more domestic implementation and hence large training programm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A FTI. Come in for a great deal of criticism lately. 22 of the 36 endorsed plans from SSA and 18 received grants. As a funder – small 2004-07 just 4% of total commitments to basic.  70% of total pledges made by just three countries. Many recommendations – bottom line is that donors in general have not been prepared to transfer powers away from themselves in a way that they have done through IDA and other development bank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if coordinated donor activity has proved too difficult to achieve in the area of primary education when this level is linked to internationally set goals, it is unlikely that any intentional initiative will be developed successfully for secondary and post secondary educ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ottom line is that most countries in SSA will need to continue to depend on their own financial resources for expanding and improving their educational systems and for making the appropriate decisions to respond to influences on these system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C55B-9710-44C9-83E5-F90387B14DF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 of education financing revolves around 3 main sets of issues. Total amount of exp., distribution across levels and the sources of f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 focuses on future scenarios in context of recent trends and factors which may alter these trends – changes in social demand to expand post primary education, recent global economic turndown and changes in donor ‘ priorities and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 stresses that countries vary considerably in education structures and patterns of ed. finan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EC4DB-4FAF-43D1-A82E-A945770803E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lack of basic financial data. Review of available ed data from UIS 208 countries 1999 to 2006, annual average percentage of missing observations ranged from 45% to 88% depending on the variable. Pole de Dakar has assembled estimates of key but very basic public financial indicators for 33 of 51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Y 1991-5 negative. 1996-2000 2.2%. 2001-05 4.0%. And then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 3.6%. SWA 3.8%. Arab states 4.0%. LA 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 / TGE 20% - SWA 16%. LA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tions – apart from shares in GDP, growth in exps. 12/32 countries &gt;10% compared to 4% in another 12 countries.    EE/TGE over 23% in 10 countries and below 17% in 12 countries. Allocations to primary over 55% in at least 6 countri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21B1-4DA1-46E9-95A3-3D39B7FF299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of aid for education in total aid is similar to world average (though below SWA)– only in Senegal and Niger is aid for ed. above 20% of the to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pecified is sector wide – (45, 16, 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s P 35 to 30%. Tertiary 22-26%.  Reduction in pp from 13 to 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07 eight countries received 56% of the total aid – Tanz, Eth, Moz, Sen, Nig Gh mali, Ken. Those receiving little included Gambia, Chad, Somalia, SL, Togo CAR Congo GB.  Conflict affected – challenge se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onors – France, IDA, 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different priorities across donors – by levels. Again taken up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takes over 20% of total aid for Aus, NZ, Greece, Port.   Basic over 50% for Can, Den, Fin, Ire, NZ Sp Nor Sw.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DA5FF-E5DA-4435-B6B7-C19A85DEBD0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 will be haring later from John Pierre of the Pole de Dakar’s recent work on estimating household expenditures on education from household expenditure surveys in 18 SSA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ya, Tan, Mal Gh Eth Mo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S - Enrolment in private institutions as % of total enrolments – 53% primary and 14% secondary. But many private institutions partly or fully financed by gov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2953B-AAF4-403E-B2EE-4983A8A60D3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2000 international and domestic the public rhetoric around basic education. But increasing atentio to post primary thro greater nujmber ofg praimry graduates and the arguments about the social benefits of sec/higher education in a global economy. Changing levels of relative demand could alter financing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trends – primary increase 6% a year thereby increasing enrolment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 GER – 40% lower and 26% hig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rate 64% compared to 84% in SWA. Lower rate in SSA demonstrates limited ability of many governments to provide secondary education. Again variations – Bot, Gh SA high rates and  Bur Cam CAR CI Niger below 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tiary GER increased 4 to 6 but numbers low. 50% of enrolment are in Nig and SA in SWA – 1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5A29-0533-4555-8BBC-E60C1BE59CA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the region as whole, with GIR currently of 115% , future expansion is likely to slow down. At the same time, both primary survival rates and the P/S transition rates are low – as primary graduate numbers increase, huge pressure to increase lower secondary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secondary as a whole depends on govts ability to enforce a division between lower and upper secondary and to ration access to the upper second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beyond the regional averages – different immediate futures for different country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primary net intake and enrol rates, primary expansion will slow but secondary pressures intensify as survival rates improve and parental ambitions in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counties not yet close to UPE no option but to expand primary and curtail at least a growth in the transition rates to sec and to continue to differentiate between lower and upper second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evitable that with secondary growth rates of 8%, and economies growing rapidly, that demand for tertiary education will intensif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9A34-3691-4F28-8DC9-33AF0769A5F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lel to changes in social demand for education, the main determinant of ed exp will be increases in GDP and govts’ ability to  capture part of these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global recession felt most so far in countries most closely connected to global commodity markets – Nig, Ang, SA B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re are the conflict affected countries where growth is low and governments do not have access to that which does occu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AB86D-326D-417F-AD81-24710764916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the education sector in general, and the separate levels, will fare in future depends of pol. will for UPE will fare and more generally on how education is perceived as important in attaining goals such a econ growth, social cohesion, equity etc. In past decade PRSPs may have safeguarded basic education exps. This may weaken as economic growth objectives are given more priority. Result may be more ring fencing for sec and tert. Question arises of whether it is more strategic for the education sector policy makers to present demands for resources for the sector as a whole or for separate levels, stressing the societal benefits of each separate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allenge for  policymakers in the education sector is to maximise the public resources and their effectiveness that can be gained by using advocacy arguments for specific levels of the education sector through linking then to specific societal objectives while ensuring that the planning of specific activities and paths of expansion for each level  of education link together coheren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ly expansion of social demand for higher unit cost levels of education will put pressure on expenditures – in addition two sources of cost are not likely to diminish. 9 SSA countries which provided information to UIS suggested that 82% of total cost for primary education is teachers salaries. Ave PT ratio is 44 and has been increasing. Much higher than EA 19, LA 24 and even SWA 39.  In at least 10 countries the ratio is above 50. With a quarter of children still not in school and PTRs at this level, the number of teachers will need to expand significantly.  Second, the abolition of primary school fees is becoming a universal movement. But for UPE, evidence of LA has shown this is not sufficient for the poor. Many countries implemented social protection anti poverty programmes to provide cash payments conditional on behaviours such as enrolling or ensuring attendance at school. In general the unit costs of ensuring the final 20% of children in school are likely to be above the average unit cost. And the next battleground for fee abolition is lower secondar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D0C74-17B8-433F-B2B8-D605EF1FF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5A318-7FF0-43DA-93D5-62E5F616B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27E67-9619-4CC5-AAFD-36BA364E4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245B2-C603-491A-8972-8DBDB3266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34937E-FA70-47D3-B35D-70AD754F12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65CCD-C302-44AE-8100-92CA78D19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EEFC6-0250-44F1-ACFB-DC1E9B815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56C4C-017F-4781-AB6E-0685D3CC6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E1545-0E8F-49D1-A45C-632C6E7C2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89465-C7E9-494B-9111-3C78B1B10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34453-9F8D-4D88-A6AF-897F9DE71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09DD8-241F-457B-96EE-BC7DDD2D3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1C44F-2B15-44E3-B448-4158BDB90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9B7B5-D1BA-4951-A301-35EDB33FF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6D11C-3C8E-4F08-BFB2-0937396D9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615ABC-8B7D-4579-837C-4DAE4DDB0D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99A747-9C2F-41AC-89FE-03B4F50117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8022E-D845-4CF4-A93C-1FBC14605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3CF53-03C6-4567-804D-B8841F1EE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AB132-F287-41F8-882E-6FD82B80C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0D4DA-EA06-4F5C-BDB2-8BD9E04B4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1C613-4B8B-4DB1-B944-984DE3CA9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57821-B05B-4B16-B21A-7A737559D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7FFD9-2BDC-4BA9-8EAB-928D911F2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72487-18B3-43E8-AEE5-CF9E17F124E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F709-5D3E-4A78-9558-6947BDB38F5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226AF-12DF-4272-AC21-037284855D8F}"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03"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FINANCING EDUCATION IN SUB-SAHARAN AFRICA </a:t>
            </a:r>
            <a:br>
              <a:rPr sz="4000"/>
            </a:br>
            <a:r>
              <a:rPr b="1" lang="en-US" sz="2800" spc="-1" strike="noStrike">
                <a:solidFill>
                  <a:srgbClr val="003366"/>
                </a:solidFill>
                <a:latin typeface="Arial"/>
              </a:rPr>
              <a:t>National strategies and aid architecture</a:t>
            </a:r>
            <a:r>
              <a:rPr b="1" lang="en-US" sz="4000" spc="-1" strike="noStrike">
                <a:solidFill>
                  <a:srgbClr val="003366"/>
                </a:solidFill>
                <a:latin typeface="Arial"/>
              </a:rPr>
              <a:t> </a:t>
            </a:r>
            <a:endParaRPr b="1" lang="en-US" sz="4000" spc="-1" strike="noStrike">
              <a:solidFill>
                <a:srgbClr val="006666"/>
              </a:solidFill>
              <a:latin typeface="Arial"/>
            </a:endParaRPr>
          </a:p>
        </p:txBody>
      </p:sp>
      <p:sp>
        <p:nvSpPr>
          <p:cNvPr id="104"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KEITH HINCHLIFFE</a:t>
            </a:r>
            <a:endParaRPr b="0" lang="en-US" sz="2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94257-E8CA-4336-8DB0-0B21E51D2890}"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useholds</a:t>
            </a:r>
            <a:endParaRPr b="0" lang="en-US" sz="24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imary – private schools and perceptions of quality</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ary – quality and transition rate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rtiary – transition rates, cost sharing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61D56-632F-4898-BBC4-46BEF2B3E76B}"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nors – overall aid</a:t>
            </a:r>
            <a:endParaRPr b="0" lang="en-US" sz="24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mited impact of recession so far</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Gleneagles’ not reached, but aid share trends positiv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of aid – security etc.</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9528-EB91-44AC-AF9A-5823966D661C}"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nors – aid for education</a:t>
            </a:r>
            <a:endParaRPr b="0" lang="en-US" sz="24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ribution across level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dalities and sector/budget suppor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flict-affected countrie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ultiple donor strategie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RIC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FA-F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166F-C4D7-4849-8F8A-BB83B028DA89}"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UTLINE</a:t>
            </a:r>
            <a:endParaRPr b="0" lang="en-US" sz="2800" spc="-1" strike="noStrike">
              <a:solidFill>
                <a:srgbClr val="003366"/>
              </a:solidFill>
              <a:latin typeface="Arial"/>
            </a:endParaRPr>
          </a:p>
          <a:p>
            <a:pPr marL="609480" indent="-609480">
              <a:lnSpc>
                <a:spcPct val="90000"/>
              </a:lnSpc>
              <a:spcBef>
                <a:spcPts val="499"/>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ducation financing – amounts, distributions and sources.</a:t>
            </a:r>
            <a:endParaRPr b="0" lang="en-US" sz="2000" spc="-1" strike="noStrike">
              <a:solidFill>
                <a:srgbClr val="003366"/>
              </a:solidFill>
              <a:latin typeface="Arial"/>
            </a:endParaRPr>
          </a:p>
          <a:p>
            <a:pPr marL="609480" indent="-609480">
              <a:lnSpc>
                <a:spcPct val="90000"/>
              </a:lnSpc>
              <a:spcBef>
                <a:spcPts val="499"/>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ent trends, (mainly) governments and donors</a:t>
            </a:r>
            <a:endParaRPr b="0" lang="en-US" sz="2000" spc="-1" strike="noStrike">
              <a:solidFill>
                <a:srgbClr val="003366"/>
              </a:solidFill>
              <a:latin typeface="Arial"/>
            </a:endParaRPr>
          </a:p>
          <a:p>
            <a:pPr marL="609480" indent="-609480">
              <a:lnSpc>
                <a:spcPct val="90000"/>
              </a:lnSpc>
              <a:spcBef>
                <a:spcPts val="499"/>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uture financing scenarios responding to:</a:t>
            </a:r>
            <a:endParaRPr b="0" lang="en-US" sz="2000" spc="-1" strike="noStrike">
              <a:solidFill>
                <a:srgbClr val="003366"/>
              </a:solidFill>
              <a:latin typeface="Arial"/>
            </a:endParaRPr>
          </a:p>
          <a:p>
            <a:pPr lvl="2" marL="608040" indent="-608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anges in social demand for education</a:t>
            </a:r>
            <a:endParaRPr b="0" lang="en-US" sz="1800" spc="-1" strike="noStrike">
              <a:solidFill>
                <a:srgbClr val="003366"/>
              </a:solidFill>
              <a:latin typeface="Arial"/>
            </a:endParaRPr>
          </a:p>
          <a:p>
            <a:pPr lvl="2" marL="608040" indent="-608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lobal economic downturn and future economic growth</a:t>
            </a:r>
            <a:endParaRPr b="0" lang="en-US" sz="1800" spc="-1" strike="noStrike">
              <a:solidFill>
                <a:srgbClr val="003366"/>
              </a:solidFill>
              <a:latin typeface="Arial"/>
            </a:endParaRPr>
          </a:p>
          <a:p>
            <a:pPr lvl="2" marL="608040" indent="-608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olution of government development strategies </a:t>
            </a:r>
            <a:endParaRPr b="0" lang="en-US" sz="1800" spc="-1" strike="noStrike">
              <a:solidFill>
                <a:srgbClr val="003366"/>
              </a:solidFill>
              <a:latin typeface="Arial"/>
            </a:endParaRPr>
          </a:p>
          <a:p>
            <a:pPr lvl="2" marL="608040" indent="-608040">
              <a:lnSpc>
                <a:spcPct val="90000"/>
              </a:lnSpc>
              <a:spcBef>
                <a:spcPts val="451"/>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anges in donor priorities and behaviours</a:t>
            </a:r>
            <a:endParaRPr b="0" lang="en-US" sz="1800" spc="-1" strike="noStrike">
              <a:solidFill>
                <a:srgbClr val="003366"/>
              </a:solidFill>
              <a:latin typeface="Arial"/>
            </a:endParaRPr>
          </a:p>
          <a:p>
            <a:pPr marL="609480" indent="-609480">
              <a:lnSpc>
                <a:spcPct val="90000"/>
              </a:lnSpc>
              <a:spcBef>
                <a:spcPts val="499"/>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ducation structures and patterns of financing vary considerably across countries.</a:t>
            </a:r>
            <a:endParaRPr b="0" lang="en-US" sz="2000" spc="-1" strike="noStrike">
              <a:solidFill>
                <a:srgbClr val="003366"/>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70E78-3DFF-4B8D-9F17-DB464EA4F9E0}"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RECENT TRENDS IN EDUCATION EXPENDITURE</a:t>
            </a:r>
            <a:endParaRPr b="1" lang="en-US" sz="24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660240" indent="-660240">
              <a:lnSpc>
                <a:spcPct val="80000"/>
              </a:lnSpc>
              <a:spcBef>
                <a:spcPts val="60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TIONAL PUBLIC EXPENDITURE</a:t>
            </a:r>
            <a:endParaRPr b="0" lang="en-US" sz="2400" spc="-1" strike="noStrike">
              <a:solidFill>
                <a:srgbClr val="003366"/>
              </a:solidFill>
              <a:latin typeface="Arial"/>
            </a:endParaRPr>
          </a:p>
          <a:p>
            <a:pPr marL="660240" indent="-6602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asic expenditure data limited for 1/3 SSA countries. But several positive messages.</a:t>
            </a:r>
            <a:endParaRPr b="0" lang="en-US" sz="2000" spc="-1" strike="noStrike">
              <a:solidFill>
                <a:srgbClr val="003366"/>
              </a:solidFill>
              <a:latin typeface="Arial"/>
            </a:endParaRPr>
          </a:p>
          <a:p>
            <a:pPr marL="660240" indent="-6602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gh rates of economic growth post 2000</a:t>
            </a:r>
            <a:endParaRPr b="0" lang="en-US" sz="2000" spc="-1" strike="noStrike">
              <a:solidFill>
                <a:srgbClr val="003366"/>
              </a:solidFill>
              <a:latin typeface="Arial"/>
            </a:endParaRPr>
          </a:p>
          <a:p>
            <a:pPr marL="660240" indent="-6602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blic EE as % GDP increased significantly since 2000. Highest developing regional share</a:t>
            </a:r>
            <a:endParaRPr b="0" lang="en-US" sz="2000" spc="-1" strike="noStrike">
              <a:solidFill>
                <a:srgbClr val="003366"/>
              </a:solidFill>
              <a:latin typeface="Arial"/>
            </a:endParaRPr>
          </a:p>
          <a:p>
            <a:pPr marL="660240" indent="-6602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E as % of TGE – again highest regional share</a:t>
            </a:r>
            <a:endParaRPr b="0" lang="en-US" sz="2000" spc="-1" strike="noStrike">
              <a:solidFill>
                <a:srgbClr val="003366"/>
              </a:solidFill>
              <a:latin typeface="Arial"/>
            </a:endParaRPr>
          </a:p>
          <a:p>
            <a:pPr marL="660240" indent="-6602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verall EE grew by 7.7% a year 1999–2007</a:t>
            </a:r>
            <a:endParaRPr b="0" lang="en-US" sz="2000" spc="-1" strike="noStrike">
              <a:solidFill>
                <a:srgbClr val="003366"/>
              </a:solidFill>
              <a:latin typeface="Arial"/>
            </a:endParaRPr>
          </a:p>
          <a:p>
            <a:pPr marL="660240" indent="-6602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nditure share for primary fell from 49% to 45%:  secondary share (28%) </a:t>
            </a:r>
            <a:r>
              <a:rPr b="0" i="1" lang="en-US" sz="2000" spc="-1" strike="noStrike">
                <a:solidFill>
                  <a:srgbClr val="003366"/>
                </a:solidFill>
                <a:latin typeface="Arial"/>
              </a:rPr>
              <a:t>much </a:t>
            </a:r>
            <a:r>
              <a:rPr b="0" lang="en-US" sz="2000" spc="-1" strike="noStrike">
                <a:solidFill>
                  <a:srgbClr val="003366"/>
                </a:solidFill>
                <a:latin typeface="Arial"/>
              </a:rPr>
              <a:t>lower than other regions</a:t>
            </a:r>
            <a:endParaRPr b="0" lang="en-US" sz="2000" spc="-1" strike="noStrike">
              <a:solidFill>
                <a:srgbClr val="003366"/>
              </a:solidFill>
              <a:latin typeface="Arial"/>
            </a:endParaRPr>
          </a:p>
          <a:p>
            <a:pPr marL="660240" indent="-6602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T - wide variations in all of these measures. </a:t>
            </a:r>
            <a:endParaRPr b="0" lang="en-US" sz="2000" spc="-1" strike="noStrike">
              <a:solidFill>
                <a:srgbClr val="003366"/>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9FC4-2B6B-453D-95E2-742716FA948C}"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i)  DEVELOPMENT AID</a:t>
            </a:r>
            <a:endParaRPr b="0" lang="en-US" sz="24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SA largest regional recipient of education aid but share fallen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tant share of education in total aid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7 direct aid to education: 30% primary, 11% secondary, 26% tertiary (32% level unspecifi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ends – reduction in primary and increase in tertiar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ide differences in allocations across countries – conflic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donors provide 40% of all aid for education, 8 donors provide 80%.</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ny small donors high priority education, and basic educatio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60478-2001-4435-B064-01189A3C9E3C}"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ii) HOUSEHOLD EXPENDITURE</a:t>
            </a:r>
            <a:endParaRPr b="0" lang="en-US" sz="24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ggregate country/regional data very patchy</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 in public education: recent trends to reduce costs in primary and increase in post secondary</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 in private education: no regional estimates of enrolments in privately-funded school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7BCF-19E2-4A5A-8FFC-56020442AC2E}"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UTURE EDUCATION EXPENDITURE</a:t>
            </a:r>
            <a:endParaRPr b="1" lang="en-US" sz="32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  Enrolment growth</a:t>
            </a:r>
            <a:endParaRPr b="0" lang="en-US" sz="20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999-2007 enrolments increased 51% primary, 73% secondary, 94% tertiary</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007.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NER</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GER</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rimary</a:t>
            </a:r>
            <a:r>
              <a:rPr b="0" lang="en-US" sz="1600" spc="-1" strike="noStrike">
                <a:solidFill>
                  <a:srgbClr val="003366"/>
                </a:solidFill>
                <a:latin typeface="Arial"/>
              </a:rPr>
              <a:t>	</a:t>
            </a:r>
            <a:r>
              <a:rPr b="0" lang="en-US" sz="1600" spc="-1" strike="noStrike">
                <a:solidFill>
                  <a:srgbClr val="003366"/>
                </a:solidFill>
                <a:latin typeface="Arial"/>
              </a:rPr>
              <a:t>73</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99</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econdary         </a:t>
            </a:r>
            <a:r>
              <a:rPr b="0" lang="en-US" sz="1600" spc="-1" strike="noStrike">
                <a:solidFill>
                  <a:srgbClr val="003366"/>
                </a:solidFill>
                <a:latin typeface="Arial"/>
              </a:rPr>
              <a:t>	</a:t>
            </a:r>
            <a:r>
              <a:rPr b="0" lang="en-US" sz="1600" spc="-1" strike="noStrike">
                <a:solidFill>
                  <a:srgbClr val="003366"/>
                </a:solidFill>
                <a:latin typeface="Arial"/>
              </a:rPr>
              <a:t>27</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34</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Tertiary</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6</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rimary NER&gt; 85</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14 countries</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60-85</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14 countries</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lt; 60</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6 countries</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No data</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8 countries</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              </a:t>
            </a:r>
            <a:endParaRPr b="0" lang="en-US" sz="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E812-5B7C-494A-BDBE-226B82B01273}"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utur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7, GIR 115% likely to fal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rease in primary survival and P/S transition rates, plus expanded primary intake will result in lower secondary pressures.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wer and higher secondary differentiation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tions across country groups. </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8CEF-D064-4071-B73E-28A17078601B}"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i)  Economic growth and global downturn</a:t>
            </a:r>
            <a:endParaRPr b="0" lang="en-US" sz="24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mited impact so far. GDP growth of 7% a year 2006 and 2007 – followed by 5.5%, 2.0%, 4.8% and projected 6.8% in 2011(IMF)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blic expenditures reduced by less than economic growth declin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mittances may have fallen, but unemployment increase in DCs less than anticipated</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ears of double dip with consequences for exporters (commodity and consumer)</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3038-600B-4B23-9566-B6CB26CFA79B}"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HALLENGES</a:t>
            </a:r>
            <a:r>
              <a:rPr b="1" lang="en-US" sz="3600" spc="-1" strike="noStrike">
                <a:solidFill>
                  <a:srgbClr val="006666"/>
                </a:solidFill>
                <a:latin typeface="Arial"/>
              </a:rPr>
              <a:t> </a:t>
            </a:r>
            <a:r>
              <a:rPr b="1" lang="en-US" sz="3200" spc="-1" strike="noStrike">
                <a:solidFill>
                  <a:srgbClr val="006666"/>
                </a:solidFill>
                <a:latin typeface="Arial"/>
              </a:rPr>
              <a:t>AND RESPONSES</a:t>
            </a:r>
            <a:endParaRPr b="1" lang="en-US" sz="32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vernments</a:t>
            </a:r>
            <a:endParaRPr b="0" lang="en-US" sz="24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SP protection for basi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rowth protection post basi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udget strategy – overall or aggregation of part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uture pressures on education expenditure </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acher salarie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hool fees and expansion of subsidies</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30T11:23:02Z</dcterms:created>
  <dc:creator>keithhinchliffe</dc:creator>
  <dc:description/>
  <dc:language>en-US</dc:language>
  <cp:lastModifiedBy>m.jones</cp:lastModifiedBy>
  <dcterms:modified xsi:type="dcterms:W3CDTF">2010-06-03T07:21:12Z</dcterms:modified>
  <cp:revision>22</cp:revision>
  <dc:subject/>
  <dc:title>FINANCING EDUCATION IN SUB SAHARAN AFRICA</dc:title>
</cp:coreProperties>
</file>