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456C6A-8EAB-4A72-97B2-726602F61F7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ear are data available for now – check Data 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BENCHMARK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assess and monitor effort and inves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provide a point of reference with similar education systems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o governments with similar resources invest per primary pup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oes a national figure of spending on its own really tell 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an intuitive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purchasing power parities (PP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960" y="15228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15228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828800" y="57024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219320" y="6222960"/>
            <a:ext cx="1646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e004e"/>
                </a:solidFill>
                <a:latin typeface="Agfa Rotis Serif"/>
              </a:rPr>
              <a:t>UNE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1080" y="6480000"/>
            <a:ext cx="1554120" cy="0"/>
          </a:xfrm>
          <a:prstGeom prst="line">
            <a:avLst/>
          </a:prstGeom>
          <a:ln w="28440">
            <a:solidFill>
              <a:srgbClr val="4e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25800" y="6353280"/>
            <a:ext cx="2232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e004e"/>
                </a:solidFill>
                <a:latin typeface="Agfa Rotis Serif"/>
              </a:rPr>
              <a:t>INSTITUTE </a:t>
            </a:r>
            <a:r>
              <a:rPr b="0" i="1" lang="fr-FR" sz="1200" spc="-1" strike="noStrike">
                <a:solidFill>
                  <a:srgbClr val="4e004e"/>
                </a:solidFill>
                <a:latin typeface="Agfa Rotis Serif"/>
              </a:rPr>
              <a:t>for</a:t>
            </a:r>
            <a:r>
              <a:rPr b="0" lang="fr-FR" sz="1200" spc="-1" strike="noStrike">
                <a:solidFill>
                  <a:srgbClr val="4e004e"/>
                </a:solidFill>
                <a:latin typeface="Agfa Rotis Serif"/>
              </a:rPr>
              <a:t>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8120" y="6362640"/>
            <a:ext cx="5715000" cy="0"/>
          </a:xfrm>
          <a:prstGeom prst="line">
            <a:avLst/>
          </a:prstGeom>
          <a:ln w="28440">
            <a:solidFill>
              <a:srgbClr val="4e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57024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6222960"/>
            <a:ext cx="1646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e004e"/>
                </a:solidFill>
                <a:latin typeface="Agfa Rotis Serif"/>
              </a:rPr>
              <a:t>UNE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080" y="6480000"/>
            <a:ext cx="1554120" cy="0"/>
          </a:xfrm>
          <a:prstGeom prst="line">
            <a:avLst/>
          </a:prstGeom>
          <a:ln w="28440">
            <a:solidFill>
              <a:srgbClr val="4e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25800" y="6353280"/>
            <a:ext cx="2232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e004e"/>
                </a:solidFill>
                <a:latin typeface="Agfa Rotis Serif"/>
              </a:rPr>
              <a:t>INSTITUTE </a:t>
            </a:r>
            <a:r>
              <a:rPr b="0" i="1" lang="fr-FR" sz="1200" spc="-1" strike="noStrike">
                <a:solidFill>
                  <a:srgbClr val="4e004e"/>
                </a:solidFill>
                <a:latin typeface="Agfa Rotis Serif"/>
              </a:rPr>
              <a:t>for</a:t>
            </a:r>
            <a:r>
              <a:rPr b="0" lang="fr-FR" sz="1200" spc="-1" strike="noStrike">
                <a:solidFill>
                  <a:srgbClr val="4e004e"/>
                </a:solidFill>
                <a:latin typeface="Agfa Rotis Serif"/>
              </a:rPr>
              <a:t>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6362640"/>
            <a:ext cx="5715000" cy="0"/>
          </a:xfrm>
          <a:prstGeom prst="line">
            <a:avLst/>
          </a:prstGeom>
          <a:ln w="28440">
            <a:solidFill>
              <a:srgbClr val="4e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523880" y="0"/>
            <a:ext cx="5881680" cy="3006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04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004e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156120"/>
            <a:ext cx="7993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0000"/>
                </a:solidFill>
                <a:latin typeface="Calibri"/>
              </a:rPr>
              <a:t>Education investment and commitment: reassessing the international benchmark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004e"/>
                </a:solidFill>
                <a:latin typeface="Calibri"/>
              </a:rPr>
              <a:t>Albert Motivan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UNESCO Institute for Statistic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IWGE 2010, Stockholm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7 June 2010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38160"/>
            <a:ext cx="843264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Relative and absolute measures of per primary pupil public expenditure in SS Africa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6521400"/>
            <a:ext cx="35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UNESCO Institute for Statistics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125360"/>
          <a:ext cx="8964720" cy="551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89647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8240" y="50760"/>
            <a:ext cx="838224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alibri"/>
              </a:rPr>
              <a:t>Effort/commitment, 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The share of national income (GDP) invested in education – often interpreted as a measure of commitment to education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Countries range from less than 1% to 15%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Often misapplied, e.g., ‘5-6% of GDP should be spent on education’ cited (based on OECD)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Not always a good measure of government ‘effort’ because of differences in duration of schooling, coverage of education and other national context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2709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alibri"/>
              </a:rPr>
              <a:t>Effort/commitment, 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341360"/>
            <a:ext cx="7489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The share of public expenditure invested in education – also interpreted as a measure of commitment to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Countries range from less than 10% to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Closer to commitment in that it represents  the actual government 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4e004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Level highly dependent upon the role of governments and societies; whether governments play a redistributive role or families and communities are more directly responsible for the education of thei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8073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Comparing national ‘effort’ from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the perspective of fiscal sp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7440" y="1190520"/>
          <a:ext cx="8751960" cy="549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190520"/>
                    <a:ext cx="8751960" cy="54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 rot="10800000">
            <a:off x="900000" y="2435760"/>
            <a:ext cx="546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er share of public spe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5720" y="1457280"/>
            <a:ext cx="720720" cy="4417920"/>
          </a:xfrm>
          <a:prstGeom prst="upArrow">
            <a:avLst>
              <a:gd name="adj1" fmla="val 50000"/>
              <a:gd name="adj2" fmla="val 153247"/>
            </a:avLst>
          </a:prstGeom>
          <a:solidFill>
            <a:srgbClr val="00cc99">
              <a:alpha val="16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3420360" y="3556440"/>
            <a:ext cx="690480" cy="4781520"/>
          </a:xfrm>
          <a:prstGeom prst="upArrow">
            <a:avLst>
              <a:gd name="adj1" fmla="val 50000"/>
              <a:gd name="adj2" fmla="val 173123"/>
            </a:avLst>
          </a:prstGeom>
          <a:solidFill>
            <a:srgbClr val="00cc99">
              <a:alpha val="16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2920" y="573264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er share of education s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Developing the measurement 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Improve relevance of benchmark measures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Explore grade or school-year based measures of investments/cost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Capture the full picture of investments/cost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Improve comparative frameworks for measuring household contributions to education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Reach consensus on what represents an education cost in different societies/economie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Data/indicators that are needed to address emerging issues...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open for discussion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0840" y="114480"/>
            <a:ext cx="874404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3333cc"/>
                </a:solidFill>
                <a:latin typeface="Calibri"/>
              </a:rPr>
              <a:t>UIS and global education financ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004e"/>
                </a:solidFill>
                <a:latin typeface="Calibri"/>
              </a:rPr>
              <a:t>The UNESCO Institute for Statistics: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Collects national domestic finance data annually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Disseminates data three times a year  on the UIS Data Centre which is revised retrospectively based on new GDP estimate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Uses and interprets data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Impact of financial crisis on education budgets (2009)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Financing education in Africa (with Pole de Dakar and IIEP in 2010) 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Provides technical assistance/data quality diagnoses 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Sustainable reporting of financing data in sub-Saharan Africa        (sector review follow-up)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Data quality assessment framework (DQAF)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50760"/>
            <a:ext cx="777744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The global distribution of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education spending,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1704960"/>
          <a:ext cx="3456000" cy="428400"/>
        </p:xfrm>
        <a:graphic>
          <a:graphicData uri="http://schemas.openxmlformats.org/drawingml/2006/table">
            <a:tbl>
              <a:tblPr/>
              <a:tblGrid>
                <a:gridCol w="2014560"/>
                <a:gridCol w="144144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United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72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51280" y="1700280"/>
          <a:ext cx="4608360" cy="3757680"/>
        </p:xfrm>
        <a:graphic>
          <a:graphicData uri="http://schemas.openxmlformats.org/drawingml/2006/table">
            <a:tbl>
              <a:tblPr/>
              <a:tblGrid>
                <a:gridCol w="3168720"/>
                <a:gridCol w="143964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78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Arab States (15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8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Central/Eastern Europe (18/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2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Central Asia (7/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Latin America/ Caribbean (35/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26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South/West Asia (7/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15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Sub-Saharan Africa (38/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5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1042920" y="1125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Verdana"/>
              </a:rPr>
              <a:t>Public education expenditure (billion PPP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6521400"/>
            <a:ext cx="35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UNESCO Institute for Statistics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88840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The investment to educate a chi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68360" y="1700280"/>
          <a:ext cx="3810240" cy="1552680"/>
        </p:xfrm>
        <a:graphic>
          <a:graphicData uri="http://schemas.openxmlformats.org/drawingml/2006/table">
            <a:tbl>
              <a:tblPr/>
              <a:tblGrid>
                <a:gridCol w="2641680"/>
                <a:gridCol w="116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ech R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ych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0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68360" y="3313080"/>
          <a:ext cx="3816000" cy="647640"/>
        </p:xfrm>
        <a:graphic>
          <a:graphicData uri="http://schemas.openxmlformats.org/drawingml/2006/table">
            <a:tbl>
              <a:tblPr/>
              <a:tblGrid>
                <a:gridCol w="2645640"/>
                <a:gridCol w="1170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Esto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268360" y="4005360"/>
          <a:ext cx="3816360" cy="1552320"/>
        </p:xfrm>
        <a:graphic>
          <a:graphicData uri="http://schemas.openxmlformats.org/drawingml/2006/table">
            <a:tbl>
              <a:tblPr/>
              <a:tblGrid>
                <a:gridCol w="2646000"/>
                <a:gridCol w="117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Calibri"/>
                        </a:rPr>
                        <a:t>Po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Arial"/>
                        </a:rPr>
                        <a:t>3,04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Arial"/>
                        </a:rPr>
                        <a:t>Rep. Kore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Arial"/>
                        </a:rPr>
                        <a:t>3,9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Arial"/>
                        </a:rPr>
                        <a:t>Hung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e004e"/>
                          </a:solidFill>
                          <a:latin typeface="Arial"/>
                        </a:rPr>
                        <a:t>3,97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802160" y="112536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year of primary school, PPP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6521400"/>
            <a:ext cx="35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UNESCO Institute for Statistics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3760"/>
            <a:ext cx="770580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Calibri"/>
              </a:rPr>
              <a:t>Risks in benchmarking public   </a:t>
            </a:r>
            <a:br>
              <a:rPr sz="3600"/>
            </a:br>
            <a:r>
              <a:rPr b="0" lang="en-GB" sz="3600" spc="-1" strike="noStrike">
                <a:solidFill>
                  <a:srgbClr val="3333cc"/>
                </a:solidFill>
                <a:latin typeface="Calibri"/>
              </a:rPr>
              <a:t> education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004e"/>
                </a:solidFill>
                <a:latin typeface="Calibri"/>
              </a:rPr>
              <a:t>Crude measures of macro-level inputs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Missing a big part of the picture where household contributions are not counted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Likewise miss the contributions from local and regional governments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004e"/>
                </a:solidFill>
                <a:latin typeface="Calibri"/>
              </a:rPr>
              <a:t>Relying only on relative measures one can lose sight of absolute needs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Missing the underlying story of the conditions that influence spending/costs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188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600" spc="-1" strike="noStrike">
                <a:solidFill>
                  <a:srgbClr val="3333cc"/>
                </a:solidFill>
                <a:latin typeface="Calibri"/>
              </a:rPr>
              <a:t>Accounting for national contex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Overall proportion of and growth rates of the school age population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Coverage of the education system 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even by single grades!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The roles of government and societie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Redistributive or direct channel for families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Volume of education provision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years of primary schooling, hours of instruction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Quality of education provision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teaching standards, teaching/learning environment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Efficiency of education provision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e004e"/>
                </a:solidFill>
                <a:latin typeface="Calibri"/>
              </a:rPr>
              <a:t>repetition, retention and completion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569440" cy="706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Different levels of capacity and demand imply different resource n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035000"/>
          <a:ext cx="8964720" cy="58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5000"/>
                    <a:ext cx="896472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708360" y="1341360"/>
            <a:ext cx="1944720" cy="1368360"/>
            <a:chOff x="3708360" y="1341360"/>
            <a:chExt cx="1944720" cy="1368360"/>
          </a:xfrm>
        </p:grpSpPr>
        <p:sp>
          <p:nvSpPr>
            <p:cNvPr id="118" name=""/>
            <p:cNvSpPr/>
            <p:nvPr/>
          </p:nvSpPr>
          <p:spPr>
            <a:xfrm>
              <a:off x="3708360" y="1341360"/>
              <a:ext cx="1944720" cy="1368360"/>
            </a:xfrm>
            <a:prstGeom prst="ellipse">
              <a:avLst/>
            </a:prstGeom>
            <a:solidFill>
              <a:srgbClr val="3333cc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42160" y="141444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Group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24360" y="1268280"/>
            <a:ext cx="2953080" cy="2016000"/>
            <a:chOff x="5724360" y="1268280"/>
            <a:chExt cx="2953080" cy="2016000"/>
          </a:xfrm>
        </p:grpSpPr>
        <p:sp>
          <p:nvSpPr>
            <p:cNvPr id="121" name=""/>
            <p:cNvSpPr/>
            <p:nvPr/>
          </p:nvSpPr>
          <p:spPr>
            <a:xfrm>
              <a:off x="5724360" y="1268280"/>
              <a:ext cx="2953080" cy="2016000"/>
            </a:xfrm>
            <a:prstGeom prst="ellipse">
              <a:avLst/>
            </a:prstGeom>
            <a:solidFill>
              <a:srgbClr val="ff33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8160" y="17017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Group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51640" y="3716280"/>
            <a:ext cx="3095640" cy="2232000"/>
            <a:chOff x="5651640" y="3716280"/>
            <a:chExt cx="3095640" cy="2232000"/>
          </a:xfrm>
        </p:grpSpPr>
        <p:sp>
          <p:nvSpPr>
            <p:cNvPr id="124" name=""/>
            <p:cNvSpPr/>
            <p:nvPr/>
          </p:nvSpPr>
          <p:spPr>
            <a:xfrm>
              <a:off x="5651640" y="3716280"/>
              <a:ext cx="3095640" cy="22320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22160" y="527364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  <a:ea typeface="Arial"/>
                </a:rPr>
                <a:t>Group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alibri"/>
              </a:rPr>
              <a:t>The traditional benchma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137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04e"/>
                </a:solidFill>
                <a:latin typeface="Calibri"/>
              </a:rPr>
              <a:t>Investment/cost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Per pupil public expenditure (PPP$)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Per pupil public expenditure as a share of GDP per capita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004e"/>
                </a:solidFill>
                <a:latin typeface="Calibri"/>
              </a:rPr>
              <a:t>Effort/commitment</a:t>
            </a: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Public education expenditure as a share of national income (GDP) or per capita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004e"/>
                </a:solidFill>
                <a:latin typeface="Calibri"/>
              </a:rPr>
              <a:t>Public education expenditure as a share of government budget (TGE)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Share of education expenditure by source of fund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3333cc"/>
                </a:solidFill>
                <a:latin typeface="Calibri"/>
              </a:rPr>
              <a:t>Investment/c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Per pupil expenditure is calculated as the annual expenditure (recurrent or total) divided by the number of pupil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Countries range from 2% to 25% and less than PPP$100 to more than PPP$15,000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Often presented as ‘unit costs’ but only represents part of total costs; better described as </a:t>
            </a:r>
            <a:r>
              <a:rPr b="0" i="1" lang="en-US" sz="2400" spc="-1" strike="noStrike">
                <a:solidFill>
                  <a:srgbClr val="4e004e"/>
                </a:solidFill>
                <a:latin typeface="Calibri"/>
              </a:rPr>
              <a:t>public investment per pupil</a:t>
            </a: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004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004e"/>
                </a:solidFill>
                <a:latin typeface="Calibri"/>
              </a:rPr>
              <a:t>Two complementary measures</a:t>
            </a:r>
            <a:endParaRPr b="0" lang="en-US" sz="24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Relative (as a % of GDP per capita) allows cross-national comparisons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004e"/>
                </a:solidFill>
                <a:latin typeface="Calibri"/>
              </a:rPr>
              <a:t>Absolute measures (in PPP$) allow assessment of its sufficiency </a:t>
            </a:r>
            <a:endParaRPr b="0" lang="en-US" sz="2000" spc="-1" strike="noStrike">
              <a:solidFill>
                <a:srgbClr val="4e004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4:26:48Z</dcterms:created>
  <dc:creator>statistics</dc:creator>
  <dc:description/>
  <dc:language>en-US</dc:language>
  <cp:lastModifiedBy>Albert Motivans</cp:lastModifiedBy>
  <cp:lastPrinted>2000-11-02T10:58:06Z</cp:lastPrinted>
  <dcterms:modified xsi:type="dcterms:W3CDTF">2010-06-07T10:44:38Z</dcterms:modified>
  <cp:revision>283</cp:revision>
  <dc:subject/>
  <dc:title>THIS IS THE MAIN TITLE FOR YOUR  PRESENTATION</dc:title>
</cp:coreProperties>
</file>