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66432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18A6-F0C7-4FE1-A10B-153E0A61A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7435-72F3-4FAD-9FE1-1AD8D42C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2859-A0EB-4C13-A62F-4EDD48D67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D93D-22D7-4340-9B3E-ACA7D83A6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BCAF-ECED-4013-8C6E-818A6E020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ED3D-E2B6-4799-A3DE-A7141CE4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008C-3731-49A0-9ABB-87FAAF77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EA5D-EA6C-4DF4-BE84-FABDA37D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E5D9-3A28-4EE0-B833-46F326C8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30F1E-684E-4FFF-95A1-65DA46F5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46D2-A3B3-45A0-8C9F-7485F7DC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966F-DF5E-42E5-A9D3-471E9C75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F7706-75EE-435B-ADD3-EF963378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5F86-0790-4D22-B6C6-2C16414D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D3370-5E62-40B7-8821-3279C449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6DB08-A648-46DE-85E4-E3A9D9A0D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E25C-AEBA-4CE2-AF1F-839464FB4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23FB-7265-406B-8BED-F8ACB919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C8A5-BACF-4D02-84E1-999ABEDA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209F-F13A-489D-ACBA-C22AABFD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FBD1-8609-4221-B2C9-003AE306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2B64-FE99-479E-9033-261C4E3F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C8A6-A7A2-4053-A3E1-13421B65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63F3-57AD-4BF4-8D1F-BF790F71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rot="6480000">
            <a:off x="729720" y="1488600"/>
            <a:ext cx="901800" cy="901800"/>
          </a:xfrm>
          <a:prstGeom prst="rtTriangle">
            <a:avLst/>
          </a:prstGeom>
          <a:noFill/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6666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08CE-A463-41A0-AF62-915BCDA4D745}" type="slidenum">
              <a:rPr b="0" lang="en-US" sz="14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3953520" y="1539000"/>
            <a:ext cx="5415480" cy="5886720"/>
            <a:chOff x="3953520" y="1539000"/>
            <a:chExt cx="5415480" cy="5886720"/>
          </a:xfrm>
        </p:grpSpPr>
        <p:sp>
          <p:nvSpPr>
            <p:cNvPr id="7" name=""/>
            <p:cNvSpPr/>
            <p:nvPr/>
          </p:nvSpPr>
          <p:spPr>
            <a:xfrm flipH="1" rot="13500000">
              <a:off x="7068600" y="60008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6200000">
              <a:off x="7478640" y="52682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853400" y="41464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rot="13500000">
              <a:off x="4365720" y="50223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8100000">
              <a:off x="5906880" y="39607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12" name=""/>
            <p:cNvGrpSpPr/>
            <p:nvPr/>
          </p:nvGrpSpPr>
          <p:grpSpPr>
            <a:xfrm>
              <a:off x="6959520" y="3466800"/>
              <a:ext cx="638280" cy="1902240"/>
              <a:chOff x="6959520" y="3466800"/>
              <a:chExt cx="638280" cy="1902240"/>
            </a:xfrm>
          </p:grpSpPr>
          <p:sp>
            <p:nvSpPr>
              <p:cNvPr id="13" name=""/>
              <p:cNvSpPr/>
              <p:nvPr/>
            </p:nvSpPr>
            <p:spPr>
              <a:xfrm>
                <a:off x="7594560" y="3483000"/>
                <a:ext cx="0" cy="12445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966000" y="4098960"/>
                <a:ext cx="0" cy="12700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V="1">
                <a:off x="6966000" y="4730400"/>
                <a:ext cx="631800" cy="63180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V="1">
                <a:off x="6959520" y="3466800"/>
                <a:ext cx="638280" cy="638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17" name=""/>
            <p:cNvSpPr/>
            <p:nvPr/>
          </p:nvSpPr>
          <p:spPr>
            <a:xfrm rot="18900000">
              <a:off x="6965640" y="19512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953520" y="1539000"/>
            <a:ext cx="5415480" cy="5886720"/>
            <a:chOff x="3953520" y="1539000"/>
            <a:chExt cx="5415480" cy="5886720"/>
          </a:xfrm>
        </p:grpSpPr>
        <p:sp>
          <p:nvSpPr>
            <p:cNvPr id="55" name=""/>
            <p:cNvSpPr/>
            <p:nvPr/>
          </p:nvSpPr>
          <p:spPr>
            <a:xfrm flipH="1" rot="13500000">
              <a:off x="7068600" y="60008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7478640" y="52682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853400" y="41464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3500000">
              <a:off x="4365720" y="50223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rot="8100000">
              <a:off x="5906880" y="39607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6959520" y="3466800"/>
              <a:ext cx="638280" cy="1902240"/>
              <a:chOff x="6959520" y="3466800"/>
              <a:chExt cx="638280" cy="1902240"/>
            </a:xfrm>
          </p:grpSpPr>
          <p:sp>
            <p:nvSpPr>
              <p:cNvPr id="61" name=""/>
              <p:cNvSpPr/>
              <p:nvPr/>
            </p:nvSpPr>
            <p:spPr>
              <a:xfrm>
                <a:off x="7594560" y="3483000"/>
                <a:ext cx="0" cy="12445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966000" y="4098960"/>
                <a:ext cx="0" cy="12700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6966000" y="4730400"/>
                <a:ext cx="631800" cy="63180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6959520" y="3466800"/>
                <a:ext cx="638280" cy="638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 rot="18900000">
              <a:off x="6965640" y="19512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66ff"/>
                </a:solidFill>
                <a:latin typeface="Arial Black"/>
              </a:rPr>
              <a:t>Click to edit the title text format</a:t>
            </a:r>
            <a:endParaRPr b="0" lang="en-US" sz="6600" spc="-1" strike="noStrike">
              <a:solidFill>
                <a:srgbClr val="6666ff"/>
              </a:solidFill>
              <a:latin typeface="Arial Black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344760" y="2457360"/>
            <a:ext cx="5450040" cy="4683960"/>
            <a:chOff x="3344760" y="2457360"/>
            <a:chExt cx="5450040" cy="4683960"/>
          </a:xfrm>
        </p:grpSpPr>
        <p:sp>
          <p:nvSpPr>
            <p:cNvPr id="68" name=""/>
            <p:cNvSpPr/>
            <p:nvPr/>
          </p:nvSpPr>
          <p:spPr>
            <a:xfrm>
              <a:off x="7512120" y="3355920"/>
              <a:ext cx="1282680" cy="128268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446880" y="3071880"/>
              <a:ext cx="639720" cy="1892160"/>
            </a:xfrm>
            <a:custGeom>
              <a:avLst/>
              <a:gdLst/>
              <a:ahLst/>
              <a:rect l="l" t="t" r="r" b="b"/>
              <a:pathLst>
                <a:path w="403" h="1192">
                  <a:moveTo>
                    <a:pt x="399" y="0"/>
                  </a:moveTo>
                  <a:lnTo>
                    <a:pt x="0" y="399"/>
                  </a:lnTo>
                  <a:lnTo>
                    <a:pt x="0" y="1191"/>
                  </a:lnTo>
                  <a:lnTo>
                    <a:pt x="402" y="789"/>
                  </a:lnTo>
                  <a:lnTo>
                    <a:pt x="399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8900000">
              <a:off x="4011120" y="4175280"/>
              <a:ext cx="1990800" cy="19904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13500000">
              <a:off x="6050520" y="6052680"/>
              <a:ext cx="901800" cy="90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7021440" y="4646520"/>
              <a:ext cx="1362240" cy="1352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0800000">
              <a:off x="3344760" y="2457360"/>
              <a:ext cx="1990800" cy="1990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8100000">
              <a:off x="5412240" y="4289040"/>
              <a:ext cx="901800" cy="90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6588000" y="5181480"/>
            <a:ext cx="2556000" cy="38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1B16-E805-445E-995E-3D21D21E7FB9}" type="slidenum">
              <a:rPr b="0" lang="en-US" sz="14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ff"/>
              </a:buClr>
              <a:buSzPct val="65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Berlin Sans FB"/>
              </a:rPr>
              <a:t> </a:t>
            </a:r>
            <a:r>
              <a:rPr b="0" lang="en-US" sz="4800" spc="-1" strike="noStrike">
                <a:solidFill>
                  <a:srgbClr val="ffccff"/>
                </a:solidFill>
                <a:latin typeface="Berlin Sans FB"/>
              </a:rPr>
              <a:t>Global Financial Crisis and the Financing of Education in Asia</a:t>
            </a:r>
            <a:r>
              <a:rPr b="0" lang="en-US" sz="4400" spc="-1" strike="noStrike">
                <a:solidFill>
                  <a:srgbClr val="ffccff"/>
                </a:solidFill>
                <a:latin typeface="Berlin Sans FB"/>
              </a:rPr>
              <a:t>: </a:t>
            </a:r>
            <a:br>
              <a:rPr sz="4400"/>
            </a:br>
            <a:r>
              <a:rPr b="0" i="1" lang="en-US" sz="3600" spc="-1" strike="noStrike">
                <a:solidFill>
                  <a:srgbClr val="ffff66"/>
                </a:solidFill>
                <a:latin typeface="Berlin Sans FB"/>
              </a:rPr>
              <a:t>National &amp; International Trends and Strategies</a:t>
            </a:r>
            <a:endParaRPr b="0" lang="en-US" sz="3600" spc="-1" strike="noStrike">
              <a:solidFill>
                <a:srgbClr val="6666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28240" y="4876560"/>
            <a:ext cx="8915400" cy="1737000"/>
          </a:xfrm>
          <a:prstGeom prst="rect">
            <a:avLst/>
          </a:prstGeom>
          <a:noFill/>
          <a:ln w="12600">
            <a:noFill/>
          </a:ln>
        </p:spPr>
        <p:txBody>
          <a:bodyPr lIns="90000" rIns="9000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ff66"/>
                </a:solidFill>
                <a:latin typeface="Berlin Sans FB"/>
              </a:rPr>
              <a:t>Jandhyala Tilak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National University of Educatio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Planning &amp; Administration, New Delhi,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Berlin Sans FB"/>
              </a:rPr>
              <a:t>E-mail: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Berlin Sans FB"/>
              </a:rPr>
              <a:t> </a:t>
            </a:r>
            <a:r>
              <a:rPr b="0" lang="en-US" sz="2400" spc="-1" strike="noStrike">
                <a:solidFill>
                  <a:srgbClr val="ccff33"/>
                </a:solidFill>
                <a:latin typeface="Berlin Sans FB"/>
              </a:rPr>
              <a:t>jtilak@nuepa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cc00"/>
                </a:solidFill>
                <a:latin typeface="Albertus"/>
              </a:rPr>
              <a:t>Macro Context in Asia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826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lbertus"/>
              </a:rPr>
              <a:t>Global Financial crisis: Adverse effects on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lbertus"/>
              </a:rPr>
              <a:t>fiscal capacity of the governments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lbertus"/>
              </a:rPr>
              <a:t>Trade, FDI, remittances, aid to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lbertus"/>
              </a:rPr>
              <a:t>Employment levels, economic capacity of household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lbertus"/>
              </a:rPr>
              <a:t>Projected growth rates are much below the recently experienced growth rates; yet they are reasonably high above 5%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315720"/>
            <a:ext cx="86104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lbertus"/>
              </a:rPr>
              <a:t>Global Financial Crisis: Predicted Fall in Growth rate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57200" y="1600200"/>
          <a:ext cx="845820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4582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cc00"/>
                </a:solidFill>
                <a:latin typeface="Albertus"/>
              </a:rPr>
              <a:t>Macro Context in Asia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74640" y="1523880"/>
            <a:ext cx="7826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lbertus"/>
              </a:rPr>
              <a:t>The adverse impact of the crisis on education is widely feared; but no hard data are available so far….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lbertus"/>
              </a:rPr>
              <a:t>Likely effects quite uneven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lbertus"/>
              </a:rPr>
              <a:t>Some countries are less affected by the crisis than other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cc00"/>
                </a:solidFill>
                <a:latin typeface="Albertus"/>
              </a:rPr>
              <a:t>Global Financial Crisis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8264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lbertus"/>
              </a:rPr>
              <a:t>Public expenditure on education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lbertus"/>
              </a:rPr>
              <a:t>% of GNP, % of Budget Expenditure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lbertus"/>
              </a:rPr>
              <a:t>Intra-sectoral allocation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lbertus"/>
              </a:rPr>
              <a:t>Investments in quality and equity in education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lbertus"/>
              </a:rPr>
              <a:t>Household expenditure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lbertus"/>
              </a:rPr>
              <a:t>External Aid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lbertus"/>
              </a:rPr>
              <a:t>Questions on education as a public good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lbertus"/>
              </a:rPr>
              <a:t>Question on the importance of free education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15720"/>
            <a:ext cx="8763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cc00"/>
                </a:solidFill>
                <a:latin typeface="Albertus"/>
              </a:rPr>
              <a:t>National Priority for Education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74280" y="1600200"/>
            <a:ext cx="81644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lbertus"/>
              </a:rPr>
              <a:t>In a larger number of countries the priority accorded to education declined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lbertus"/>
              </a:rPr>
              <a:t>% of GNP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lbertus"/>
              </a:rPr>
              <a:t>% of Budget Expenditure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lbertus"/>
              </a:rPr>
              <a:t>May be due to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lbertus"/>
              </a:rPr>
              <a:t>declining fiscal capacity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lbertus"/>
              </a:rPr>
              <a:t>Lack of political wil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315720"/>
            <a:ext cx="91440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cc00"/>
                </a:solidFill>
                <a:latin typeface="Albertus"/>
              </a:rPr>
              <a:t>Public Expenditure on Education </a:t>
            </a:r>
            <a:r>
              <a:rPr b="0" lang="en-GB" sz="3600" spc="-1" strike="noStrike">
                <a:solidFill>
                  <a:srgbClr val="ffcc00"/>
                </a:solidFill>
                <a:latin typeface="Albertus"/>
              </a:rPr>
              <a:t>(% of GNP)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51000" y="1600200"/>
          <a:ext cx="862776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000" y="1600200"/>
                    <a:ext cx="862776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 flipV="1">
            <a:off x="4267080" y="1828800"/>
            <a:ext cx="0" cy="3200400"/>
          </a:xfrm>
          <a:prstGeom prst="line">
            <a:avLst/>
          </a:prstGeom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cc00"/>
                </a:solidFill>
                <a:latin typeface="Albertus"/>
              </a:rPr>
              <a:t>Public Expenditure on Education </a:t>
            </a:r>
            <a:r>
              <a:rPr b="0" lang="en-GB" sz="3600" spc="-1" strike="noStrike">
                <a:solidFill>
                  <a:srgbClr val="ffcc00"/>
                </a:solidFill>
                <a:latin typeface="Albertus"/>
              </a:rPr>
              <a:t>(% of Total Budget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0" y="1295280"/>
          <a:ext cx="914400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1440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 flipV="1">
            <a:off x="5105520" y="1523520"/>
            <a:ext cx="0" cy="3505320"/>
          </a:xfrm>
          <a:prstGeom prst="line">
            <a:avLst/>
          </a:prstGeom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315720"/>
            <a:ext cx="8763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cc00"/>
                </a:solidFill>
                <a:latin typeface="Albertus"/>
              </a:rPr>
              <a:t>National Priority for Education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74280" y="1599840"/>
            <a:ext cx="81644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lbertus"/>
              </a:rPr>
              <a:t>No relationship between education priority and economic conditions during normal period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lbertus"/>
              </a:rPr>
              <a:t>But a +ve relationship during the periods of financial crisi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lbertus"/>
              </a:rPr>
              <a:t>Relative Priorities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lbertus"/>
              </a:rPr>
              <a:t>Total spending on education as % of GNP and spending on primary education as % of GNP are not related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lbertu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Albertu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Albertu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Albertus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Albertus"/>
              </a:rPr>
              <a:t>Edn</a:t>
            </a:r>
            <a:r>
              <a:rPr b="0" lang="en-US" sz="3200" spc="-1" strike="noStrike">
                <a:solidFill>
                  <a:srgbClr val="ffff66"/>
                </a:solidFill>
                <a:latin typeface="Albertus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Albertus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Albertus"/>
              </a:rPr>
              <a:t>Primary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lbertus"/>
              </a:rPr>
              <a:t>Lao</a:t>
            </a:r>
            <a:r>
              <a:rPr b="0" lang="en-US" sz="3200" spc="-1" strike="noStrike">
                <a:solidFill>
                  <a:srgbClr val="f8f8f8"/>
                </a:solidFill>
                <a:latin typeface="Albertu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Albertu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Albertus"/>
              </a:rPr>
              <a:t>3.6</a:t>
            </a:r>
            <a:r>
              <a:rPr b="0" lang="en-US" sz="3200" spc="-1" strike="noStrike">
                <a:solidFill>
                  <a:srgbClr val="f8f8f8"/>
                </a:solidFill>
                <a:latin typeface="Albertu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Albertu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Albertus"/>
              </a:rPr>
              <a:t>0.5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lbertus"/>
              </a:rPr>
              <a:t>Philippines</a:t>
            </a:r>
            <a:r>
              <a:rPr b="0" lang="en-US" sz="3200" spc="-1" strike="noStrike">
                <a:solidFill>
                  <a:srgbClr val="f8f8f8"/>
                </a:solidFill>
                <a:latin typeface="Albertu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Albertus"/>
              </a:rPr>
              <a:t>2.3</a:t>
            </a:r>
            <a:r>
              <a:rPr b="0" lang="en-US" sz="3200" spc="-1" strike="noStrike">
                <a:solidFill>
                  <a:srgbClr val="f8f8f8"/>
                </a:solidFill>
                <a:latin typeface="Albertu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Albertu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Albertus"/>
              </a:rPr>
              <a:t>1.2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lbertus"/>
              </a:rPr>
              <a:t>Bhutan</a:t>
            </a:r>
            <a:r>
              <a:rPr b="0" lang="en-US" sz="3200" spc="-1" strike="noStrike">
                <a:solidFill>
                  <a:srgbClr val="f8f8f8"/>
                </a:solidFill>
                <a:latin typeface="Albertu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Albertu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Albertus"/>
              </a:rPr>
              <a:t>5.8</a:t>
            </a:r>
            <a:r>
              <a:rPr b="0" lang="en-US" sz="3200" spc="-1" strike="noStrike">
                <a:solidFill>
                  <a:srgbClr val="f8f8f8"/>
                </a:solidFill>
                <a:latin typeface="Albertu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Albertu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Albertus"/>
              </a:rPr>
              <a:t>1.0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cc00"/>
                </a:solidFill>
                <a:latin typeface="Albertus"/>
              </a:rPr>
              <a:t>Shifts in Priority within education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lbertus"/>
              </a:rPr>
              <a:t>Decline in share of expenditure on primary education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lbertus"/>
              </a:rPr>
              <a:t>Marginal increase in the share of secondary education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cc00"/>
                </a:solidFill>
                <a:latin typeface="Albertus"/>
              </a:rPr>
              <a:t>Asia </a:t>
            </a:r>
            <a:r>
              <a:rPr b="0" lang="en-US" sz="5400" spc="-1" strike="noStrike">
                <a:solidFill>
                  <a:srgbClr val="ffcc00"/>
                </a:solidFill>
                <a:latin typeface="Albertus"/>
              </a:rPr>
              <a:t>is heterogeneous</a:t>
            </a:r>
            <a:r>
              <a:rPr b="0" lang="en-GB" sz="5400" spc="-1" strike="noStrike">
                <a:solidFill>
                  <a:srgbClr val="ffcc00"/>
                </a:solidFill>
                <a:latin typeface="Albertus"/>
              </a:rPr>
              <a:t> 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lbertus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Albertus"/>
              </a:rPr>
              <a:t>Asia: </a:t>
            </a:r>
            <a:r>
              <a:rPr b="0" lang="en-GB" sz="2800" spc="-1" strike="noStrike">
                <a:solidFill>
                  <a:srgbClr val="f8f8f8"/>
                </a:solidFill>
                <a:latin typeface="Albertus"/>
              </a:rPr>
              <a:t>2, 3 or 4 Asia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lbertus"/>
              </a:rPr>
              <a:t>Central Asia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lbertus"/>
              </a:rPr>
              <a:t>East Asia &amp; Pacific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99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lbertus"/>
              </a:rPr>
              <a:t>East Asia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3" marL="1428840" indent="-22860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lbertus"/>
              </a:rPr>
              <a:t>South-East Asia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99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lbertus"/>
              </a:rPr>
              <a:t>Pacific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lbertus"/>
              </a:rPr>
              <a:t>South &amp; West Asia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99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lbertus"/>
              </a:rPr>
              <a:t>South Asia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99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lbertus"/>
              </a:rPr>
              <a:t>West Asia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lbertus"/>
              </a:rPr>
              <a:t>Inter-regional and inter-country variations are very high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lbertus"/>
              </a:rPr>
              <a:t>Changing Priorities: Allocation to Primary Education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674640" y="1066680"/>
          <a:ext cx="7826400" cy="5407200"/>
        </p:xfrm>
        <a:graphic>
          <a:graphicData uri="http://schemas.openxmlformats.org/drawingml/2006/table">
            <a:tbl>
              <a:tblPr/>
              <a:tblGrid>
                <a:gridCol w="1997280"/>
                <a:gridCol w="1457280"/>
                <a:gridCol w="1457280"/>
                <a:gridCol w="1457280"/>
                <a:gridCol w="1457280"/>
              </a:tblGrid>
              <a:tr h="734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8f8f8"/>
                          </a:solidFill>
                          <a:latin typeface="Albertus"/>
                          <a:ea typeface="Times New Roman"/>
                        </a:rPr>
                        <a:t> </a:t>
                      </a:r>
                      <a:endParaRPr b="0" lang="en-US" sz="21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ccff"/>
                          </a:solidFill>
                          <a:latin typeface="Albertus"/>
                          <a:ea typeface="Times New Roman"/>
                        </a:rPr>
                        <a:t>Base Year</a:t>
                      </a:r>
                      <a:endParaRPr b="0" lang="en-US" sz="21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ccff"/>
                          </a:solidFill>
                          <a:latin typeface="Albertus"/>
                          <a:ea typeface="Times New Roman"/>
                        </a:rPr>
                        <a:t>%</a:t>
                      </a:r>
                      <a:endParaRPr b="0" lang="en-US" sz="21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66"/>
                          </a:solidFill>
                          <a:latin typeface="Albertus"/>
                          <a:ea typeface="Times New Roman"/>
                        </a:rPr>
                        <a:t>Latest Year</a:t>
                      </a:r>
                      <a:endParaRPr b="0" lang="en-US" sz="21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66"/>
                          </a:solidFill>
                          <a:latin typeface="Albertus"/>
                          <a:ea typeface="Times New Roman"/>
                        </a:rPr>
                        <a:t>%</a:t>
                      </a:r>
                      <a:endParaRPr b="0" lang="en-US" sz="21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66ff66"/>
                          </a:solidFill>
                          <a:latin typeface="Albertus"/>
                          <a:ea typeface="Times New Roman"/>
                        </a:rPr>
                        <a:t>Lao</a:t>
                      </a:r>
                      <a:endParaRPr b="0" lang="en-US" sz="21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ccff"/>
                          </a:solidFill>
                          <a:latin typeface="Albertus"/>
                          <a:ea typeface="Times New Roman"/>
                        </a:rPr>
                        <a:t>2000</a:t>
                      </a:r>
                      <a:endParaRPr b="0" lang="en-US" sz="21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ccff"/>
                          </a:solidFill>
                          <a:latin typeface="Albertus"/>
                          <a:ea typeface="Times New Roman"/>
                        </a:rPr>
                        <a:t>55.5</a:t>
                      </a:r>
                      <a:endParaRPr b="0" lang="en-US" sz="21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66"/>
                          </a:solidFill>
                          <a:latin typeface="Albertus"/>
                          <a:ea typeface="Times New Roman"/>
                        </a:rPr>
                        <a:t>2007</a:t>
                      </a:r>
                      <a:endParaRPr b="0" lang="en-US" sz="21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66"/>
                          </a:solidFill>
                          <a:latin typeface="Albertus"/>
                          <a:ea typeface="Times New Roman"/>
                        </a:rPr>
                        <a:t>45.9</a:t>
                      </a:r>
                      <a:endParaRPr b="0" lang="en-US" sz="21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66ff66"/>
                          </a:solidFill>
                          <a:latin typeface="Albertus"/>
                          <a:ea typeface="Times New Roman"/>
                        </a:rPr>
                        <a:t>Malaysia</a:t>
                      </a:r>
                      <a:endParaRPr b="0" lang="en-US" sz="21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ccff"/>
                          </a:solidFill>
                          <a:latin typeface="Albertus"/>
                          <a:ea typeface="Times New Roman"/>
                        </a:rPr>
                        <a:t>1990</a:t>
                      </a:r>
                      <a:endParaRPr b="0" lang="en-US" sz="21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ccff"/>
                          </a:solidFill>
                          <a:latin typeface="Albertus"/>
                          <a:ea typeface="Times New Roman"/>
                        </a:rPr>
                        <a:t>34.3</a:t>
                      </a:r>
                      <a:endParaRPr b="0" lang="en-US" sz="21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66"/>
                          </a:solidFill>
                          <a:latin typeface="Albertus"/>
                          <a:ea typeface="Times New Roman"/>
                        </a:rPr>
                        <a:t>2007</a:t>
                      </a:r>
                      <a:endParaRPr b="0" lang="en-US" sz="21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66"/>
                          </a:solidFill>
                          <a:latin typeface="Albertus"/>
                          <a:ea typeface="Times New Roman"/>
                        </a:rPr>
                        <a:t>29.0</a:t>
                      </a:r>
                      <a:endParaRPr b="0" lang="en-US" sz="21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66ff66"/>
                          </a:solidFill>
                          <a:latin typeface="Albertus"/>
                          <a:ea typeface="Times New Roman"/>
                        </a:rPr>
                        <a:t>Korea</a:t>
                      </a:r>
                      <a:endParaRPr b="0" lang="en-US" sz="21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ccff"/>
                          </a:solidFill>
                          <a:latin typeface="Albertus"/>
                          <a:ea typeface="Times New Roman"/>
                        </a:rPr>
                        <a:t>1990</a:t>
                      </a:r>
                      <a:endParaRPr b="0" lang="en-US" sz="21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ccff"/>
                          </a:solidFill>
                          <a:latin typeface="Albertus"/>
                          <a:ea typeface="Times New Roman"/>
                        </a:rPr>
                        <a:t>44.3</a:t>
                      </a:r>
                      <a:endParaRPr b="0" lang="en-US" sz="21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66"/>
                          </a:solidFill>
                          <a:latin typeface="Albertus"/>
                          <a:ea typeface="Times New Roman"/>
                        </a:rPr>
                        <a:t>2007</a:t>
                      </a:r>
                      <a:endParaRPr b="0" lang="en-US" sz="21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66"/>
                          </a:solidFill>
                          <a:latin typeface="Albertus"/>
                          <a:ea typeface="Times New Roman"/>
                        </a:rPr>
                        <a:t>35.1</a:t>
                      </a:r>
                      <a:endParaRPr b="0" lang="en-US" sz="21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66ff66"/>
                          </a:solidFill>
                          <a:latin typeface="Albertus"/>
                          <a:ea typeface="Times New Roman"/>
                        </a:rPr>
                        <a:t>Philippines</a:t>
                      </a:r>
                      <a:endParaRPr b="0" lang="en-US" sz="21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ccff"/>
                          </a:solidFill>
                          <a:latin typeface="Albertus"/>
                          <a:ea typeface="Times New Roman"/>
                        </a:rPr>
                        <a:t>2000</a:t>
                      </a:r>
                      <a:endParaRPr b="0" lang="en-US" sz="21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ccff"/>
                          </a:solidFill>
                          <a:latin typeface="Albertus"/>
                          <a:ea typeface="Times New Roman"/>
                        </a:rPr>
                        <a:t>60.4</a:t>
                      </a:r>
                      <a:endParaRPr b="0" lang="en-US" sz="21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66"/>
                          </a:solidFill>
                          <a:latin typeface="Albertus"/>
                          <a:ea typeface="Times New Roman"/>
                        </a:rPr>
                        <a:t>2007</a:t>
                      </a:r>
                      <a:endParaRPr b="0" lang="en-US" sz="21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66"/>
                          </a:solidFill>
                          <a:latin typeface="Albertus"/>
                          <a:ea typeface="Times New Roman"/>
                        </a:rPr>
                        <a:t>53.6</a:t>
                      </a:r>
                      <a:endParaRPr b="0" lang="en-US" sz="21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66ff66"/>
                          </a:solidFill>
                          <a:latin typeface="Albertus"/>
                          <a:ea typeface="Times New Roman"/>
                        </a:rPr>
                        <a:t>Thailand</a:t>
                      </a:r>
                      <a:endParaRPr b="0" lang="en-US" sz="21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ccff"/>
                          </a:solidFill>
                          <a:latin typeface="Albertus"/>
                          <a:ea typeface="Times New Roman"/>
                        </a:rPr>
                        <a:t>1990</a:t>
                      </a:r>
                      <a:endParaRPr b="0" lang="en-US" sz="21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ccff"/>
                          </a:solidFill>
                          <a:latin typeface="Albertus"/>
                          <a:ea typeface="Times New Roman"/>
                        </a:rPr>
                        <a:t>56.0</a:t>
                      </a:r>
                      <a:endParaRPr b="0" lang="en-US" sz="21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66"/>
                          </a:solidFill>
                          <a:latin typeface="Albertus"/>
                          <a:ea typeface="Times New Roman"/>
                        </a:rPr>
                        <a:t>2001</a:t>
                      </a:r>
                      <a:endParaRPr b="0" lang="en-US" sz="21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66"/>
                          </a:solidFill>
                          <a:latin typeface="Albertus"/>
                          <a:ea typeface="Times New Roman"/>
                        </a:rPr>
                        <a:t>33.6</a:t>
                      </a:r>
                      <a:endParaRPr b="0" lang="en-US" sz="21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66ff66"/>
                          </a:solidFill>
                          <a:latin typeface="Albertus"/>
                          <a:ea typeface="Times New Roman"/>
                        </a:rPr>
                        <a:t>Bhutan</a:t>
                      </a:r>
                      <a:endParaRPr b="0" lang="en-US" sz="21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ccff"/>
                          </a:solidFill>
                          <a:latin typeface="Albertus"/>
                          <a:ea typeface="Times New Roman"/>
                        </a:rPr>
                        <a:t>2000</a:t>
                      </a:r>
                      <a:endParaRPr b="0" lang="en-US" sz="21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ccff"/>
                          </a:solidFill>
                          <a:latin typeface="Albertus"/>
                          <a:ea typeface="Times New Roman"/>
                        </a:rPr>
                        <a:t>56.9</a:t>
                      </a:r>
                      <a:endParaRPr b="0" lang="en-US" sz="21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66"/>
                          </a:solidFill>
                          <a:latin typeface="Albertus"/>
                          <a:ea typeface="Times New Roman"/>
                        </a:rPr>
                        <a:t>2007</a:t>
                      </a:r>
                      <a:endParaRPr b="0" lang="en-US" sz="21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66"/>
                          </a:solidFill>
                          <a:latin typeface="Albertus"/>
                          <a:ea typeface="Times New Roman"/>
                        </a:rPr>
                        <a:t>26.9</a:t>
                      </a:r>
                      <a:endParaRPr b="0" lang="en-US" sz="21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66ff66"/>
                          </a:solidFill>
                          <a:latin typeface="Albertus"/>
                          <a:ea typeface="Times New Roman"/>
                        </a:rPr>
                        <a:t>Bangladesh</a:t>
                      </a:r>
                      <a:endParaRPr b="0" lang="en-US" sz="21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ccff"/>
                          </a:solidFill>
                          <a:latin typeface="Albertus"/>
                          <a:ea typeface="Times New Roman"/>
                        </a:rPr>
                        <a:t>1990</a:t>
                      </a:r>
                      <a:endParaRPr b="0" lang="en-US" sz="21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ccff"/>
                          </a:solidFill>
                          <a:latin typeface="Albertus"/>
                          <a:ea typeface="Times New Roman"/>
                        </a:rPr>
                        <a:t>45.6</a:t>
                      </a:r>
                      <a:endParaRPr b="0" lang="en-US" sz="21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66"/>
                          </a:solidFill>
                          <a:latin typeface="Albertus"/>
                          <a:ea typeface="Times New Roman"/>
                        </a:rPr>
                        <a:t>2007</a:t>
                      </a:r>
                      <a:endParaRPr b="0" lang="en-US" sz="21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66"/>
                          </a:solidFill>
                          <a:latin typeface="Albertus"/>
                          <a:ea typeface="Times New Roman"/>
                        </a:rPr>
                        <a:t>43.4</a:t>
                      </a:r>
                      <a:endParaRPr b="0" lang="en-US" sz="21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66ff66"/>
                          </a:solidFill>
                          <a:latin typeface="Albertus"/>
                          <a:ea typeface="Times New Roman"/>
                        </a:rPr>
                        <a:t>India</a:t>
                      </a:r>
                      <a:endParaRPr b="0" lang="en-US" sz="21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ccff"/>
                          </a:solidFill>
                          <a:latin typeface="Albertus"/>
                          <a:ea typeface="Times New Roman"/>
                        </a:rPr>
                        <a:t> </a:t>
                      </a:r>
                      <a:r>
                        <a:rPr b="0" lang="en-US" sz="2100" spc="-1" strike="noStrike">
                          <a:solidFill>
                            <a:srgbClr val="ffccff"/>
                          </a:solidFill>
                          <a:latin typeface="Albertus"/>
                          <a:ea typeface="Times New Roman"/>
                        </a:rPr>
                        <a:t>1990</a:t>
                      </a:r>
                      <a:endParaRPr b="0" lang="en-US" sz="21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ccff"/>
                          </a:solidFill>
                          <a:latin typeface="Albertus"/>
                          <a:ea typeface="Times New Roman"/>
                        </a:rPr>
                        <a:t>38.9</a:t>
                      </a:r>
                      <a:endParaRPr b="0" lang="en-US" sz="21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66"/>
                          </a:solidFill>
                          <a:latin typeface="Albertus"/>
                          <a:ea typeface="Times New Roman"/>
                        </a:rPr>
                        <a:t> </a:t>
                      </a:r>
                      <a:r>
                        <a:rPr b="0" lang="en-US" sz="2100" spc="-1" strike="noStrike">
                          <a:solidFill>
                            <a:srgbClr val="ffff66"/>
                          </a:solidFill>
                          <a:latin typeface="Albertus"/>
                          <a:ea typeface="Times New Roman"/>
                        </a:rPr>
                        <a:t>2007</a:t>
                      </a:r>
                      <a:endParaRPr b="0" lang="en-US" sz="21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66"/>
                          </a:solidFill>
                          <a:latin typeface="Albertus"/>
                          <a:ea typeface="Times New Roman"/>
                        </a:rPr>
                        <a:t>35.8</a:t>
                      </a:r>
                      <a:endParaRPr b="0" lang="en-US" sz="21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33cc"/>
                          </a:solidFill>
                          <a:latin typeface="Albertus"/>
                          <a:ea typeface="Times New Roman"/>
                        </a:rPr>
                        <a:t>Nepal</a:t>
                      </a:r>
                      <a:endParaRPr b="0" lang="en-US" sz="21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33cc"/>
                          </a:solidFill>
                          <a:latin typeface="Albertus"/>
                          <a:ea typeface="Times New Roman"/>
                        </a:rPr>
                        <a:t> </a:t>
                      </a:r>
                      <a:r>
                        <a:rPr b="0" lang="en-US" sz="2100" spc="-1" strike="noStrike">
                          <a:solidFill>
                            <a:srgbClr val="ff33cc"/>
                          </a:solidFill>
                          <a:latin typeface="Albertus"/>
                          <a:ea typeface="Times New Roman"/>
                        </a:rPr>
                        <a:t>1990</a:t>
                      </a:r>
                      <a:endParaRPr b="0" lang="en-US" sz="21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33cc"/>
                          </a:solidFill>
                          <a:latin typeface="Albertus"/>
                          <a:ea typeface="Times New Roman"/>
                        </a:rPr>
                        <a:t>48.2</a:t>
                      </a:r>
                      <a:endParaRPr b="0" lang="en-US" sz="21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33cc"/>
                          </a:solidFill>
                          <a:latin typeface="Albertus"/>
                          <a:ea typeface="Times New Roman"/>
                        </a:rPr>
                        <a:t> </a:t>
                      </a:r>
                      <a:r>
                        <a:rPr b="0" lang="en-US" sz="2100" spc="-1" strike="noStrike">
                          <a:solidFill>
                            <a:srgbClr val="ff33cc"/>
                          </a:solidFill>
                          <a:latin typeface="Albertus"/>
                          <a:ea typeface="Times New Roman"/>
                        </a:rPr>
                        <a:t>2007</a:t>
                      </a:r>
                      <a:endParaRPr b="0" lang="en-US" sz="21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33cc"/>
                          </a:solidFill>
                          <a:latin typeface="Albertus"/>
                          <a:ea typeface="Times New Roman"/>
                        </a:rPr>
                        <a:t>62.9</a:t>
                      </a:r>
                      <a:endParaRPr b="0" lang="en-US" sz="21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315720"/>
            <a:ext cx="91440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cc00"/>
                </a:solidFill>
                <a:latin typeface="Albertus"/>
              </a:rPr>
              <a:t>Priority Shift towards Secondary Education </a:t>
            </a:r>
            <a:r>
              <a:rPr b="0" lang="en-GB" sz="3600" spc="-1" strike="noStrike">
                <a:solidFill>
                  <a:srgbClr val="ffcc00"/>
                </a:solidFill>
                <a:latin typeface="Albertus"/>
              </a:rPr>
              <a:t>(% of total Edn Expr</a:t>
            </a:r>
            <a:r>
              <a:rPr b="0" lang="en-GB" sz="4800" spc="-1" strike="noStrike">
                <a:solidFill>
                  <a:srgbClr val="ffcc00"/>
                </a:solidFill>
                <a:latin typeface="Albertus"/>
              </a:rPr>
              <a:t>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0" y="1600200"/>
          <a:ext cx="914400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cc00"/>
                </a:solidFill>
                <a:latin typeface="Albertus"/>
              </a:rPr>
              <a:t>Growth in private school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lbertus"/>
              </a:rPr>
              <a:t>Private not for profit /state supported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lbertus"/>
              </a:rPr>
              <a:t>Private for profi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lbertus"/>
              </a:rPr>
              <a:t>Enrolments in private school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lbertus"/>
              </a:rPr>
              <a:t>No disaggregated data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1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6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1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cc00"/>
                </a:solidFill>
                <a:latin typeface="Albertus"/>
              </a:rPr>
              <a:t>Other Developments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74640" y="1794960"/>
            <a:ext cx="7826400" cy="452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lbertus"/>
              </a:rPr>
              <a:t>Increase in efforts to mobilise more resource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lbertus"/>
              </a:rPr>
              <a:t>Education cess in India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lbertus"/>
              </a:rPr>
              <a:t>surcharges in China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lbertus"/>
              </a:rPr>
              <a:t>Decentralisation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lbertus"/>
              </a:rPr>
              <a:t>Rising household expenditure on education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lbertus"/>
              </a:rPr>
              <a:t>Not willingness to spend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lbertus"/>
              </a:rPr>
              <a:t>But compulsion to spend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lbertus"/>
              </a:rPr>
              <a:t>Questions on ‘Free’ Education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lbertus"/>
              </a:rPr>
              <a:t>Legal Status of Free Education vs Practice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lbertus"/>
              </a:rPr>
              <a:t>Legislations on Free Primary Education (e.g., India, China, Thailand..)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lbertus"/>
                <a:ea typeface="ＭＳ Ｐゴシック"/>
              </a:rPr>
              <a:t>External Aid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0438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lbertus"/>
              </a:rPr>
              <a:t>Asia accounted for 32% of total aid for education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lbertus"/>
              </a:rPr>
              <a:t>Unsteady flow of external aid (1999/2000-2006/7)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lbertus"/>
              </a:rPr>
              <a:t>Flow of aid has not been steady (government funding is relatively steady)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lbertus"/>
              </a:rPr>
              <a:t>Share of Education in total ODA has declined in Asia except in South &amp; West Asia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2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7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2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240" y="315720"/>
            <a:ext cx="89154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lbertus"/>
              </a:rPr>
              <a:t>Change in the Share of Education in ODA</a:t>
            </a:r>
            <a:r>
              <a:rPr b="0" lang="en-GB" sz="4800" spc="-1" strike="noStrike">
                <a:solidFill>
                  <a:srgbClr val="ffcc00"/>
                </a:solidFill>
                <a:latin typeface="Albertus"/>
              </a:rPr>
              <a:t> </a:t>
            </a:r>
            <a:r>
              <a:rPr b="0" lang="en-GB" sz="2400" spc="-1" strike="noStrike">
                <a:solidFill>
                  <a:srgbClr val="ffcc00"/>
                </a:solidFill>
                <a:latin typeface="Albertus"/>
              </a:rPr>
              <a:t>(1999/2000-2006/7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0" y="1523880"/>
          <a:ext cx="914400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91440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315720"/>
            <a:ext cx="86868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lbertus"/>
              </a:rPr>
              <a:t>Trends in Aid for Education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3836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lbertus"/>
              </a:rPr>
              <a:t>Declined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lbertus"/>
              </a:rPr>
              <a:t>India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lbertus"/>
              </a:rPr>
              <a:t>Philippines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lbertus"/>
              </a:rPr>
              <a:t>PNG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lbertus"/>
              </a:rPr>
              <a:t>Malaysia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lbertus"/>
              </a:rPr>
              <a:t>Lao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23920" y="1143000"/>
            <a:ext cx="3837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99"/>
                </a:solidFill>
                <a:latin typeface="Albertus"/>
              </a:rPr>
              <a:t>Increased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lbertus"/>
              </a:rPr>
              <a:t>China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lbertus"/>
              </a:rPr>
              <a:t>Pakistan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lbertus"/>
              </a:rPr>
              <a:t>Afghanistan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lbertus"/>
              </a:rPr>
              <a:t>Indonesia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lbertus"/>
              </a:rPr>
              <a:t>Bangladesh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lbertus"/>
              </a:rPr>
              <a:t>Vietnam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lbertus"/>
              </a:rPr>
              <a:t>Nepa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lbertus"/>
              </a:rPr>
              <a:t>Mongolia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lbertus"/>
              </a:rPr>
              <a:t>Sri Lanka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lbertus"/>
              </a:rPr>
              <a:t>Cambodia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" y="5638680"/>
            <a:ext cx="7696080" cy="838440"/>
          </a:xfrm>
          <a:prstGeom prst="rect">
            <a:avLst/>
          </a:prstGeom>
          <a:solidFill>
            <a:srgbClr val="669900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Education Aid (absolute amounts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declined in 12 countries; Increased in 19 countrie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9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2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8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1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00"/>
                            </p:stCondLst>
                            <p:childTnLst>
                              <p:par>
                                <p:cTn id="6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5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000"/>
                            </p:stCondLst>
                            <p:childTnLst>
                              <p:par>
                                <p:cTn id="6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9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500"/>
                            </p:stCondLst>
                            <p:childTnLst>
                              <p:par>
                                <p:cTn id="6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3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7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2500"/>
                            </p:stCondLst>
                            <p:childTnLst>
                              <p:par>
                                <p:cTn id="6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1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5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3500"/>
                            </p:stCondLst>
                            <p:childTnLst>
                              <p:par>
                                <p:cTn id="6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9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4000"/>
                            </p:stCondLst>
                            <p:childTnLst>
                              <p:par>
                                <p:cTn id="6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3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4500"/>
                            </p:stCondLst>
                            <p:childTnLst>
                              <p:par>
                                <p:cTn id="6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7" dur="5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0"/>
                            </p:stCondLst>
                            <p:childTnLst>
                              <p:par>
                                <p:cTn id="6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1" dur="500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500"/>
                            </p:stCondLst>
                            <p:childTnLst>
                              <p:par>
                                <p:cTn id="6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5" dur="500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6000"/>
                            </p:stCondLst>
                            <p:childTnLst>
                              <p:par>
                                <p:cTn id="6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520" y="315720"/>
            <a:ext cx="85345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lbertus"/>
              </a:rPr>
              <a:t>Uneven Distribution of Education Aid in Asia, 2007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0" y="1676520"/>
          <a:ext cx="914400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91440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cc00"/>
                </a:solidFill>
                <a:latin typeface="Albertus"/>
              </a:rPr>
              <a:t>Largest Aid Recipient Countries 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52280" y="1066680"/>
          <a:ext cx="899172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9917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228600" y="6019920"/>
            <a:ext cx="8763120" cy="838080"/>
          </a:xfrm>
          <a:prstGeom prst="rect">
            <a:avLst/>
          </a:prstGeom>
          <a:solidFill>
            <a:srgbClr val="669900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9 countries received more than US$ 100 million in 2007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25 countries received below US$ 50 million each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cc00"/>
                </a:solidFill>
                <a:latin typeface="Albertus"/>
              </a:rPr>
              <a:t>Agreed Premises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lbertus"/>
              </a:rPr>
              <a:t>Education is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lbertus"/>
              </a:rPr>
              <a:t>a public good – pure public good, a global public good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lbertus"/>
              </a:rPr>
              <a:t>A basic need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lbertus"/>
              </a:rPr>
              <a:t>An economic investment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lbertus"/>
              </a:rPr>
              <a:t>Human development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lbertus"/>
              </a:rPr>
              <a:t>A Human right/fundamental right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lbertus"/>
                <a:ea typeface="ＭＳ Ｐゴシック"/>
              </a:rPr>
              <a:t>External Aid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4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lbertus"/>
              </a:rPr>
              <a:t>Aid forms a small proportion of total expenditure on education in developing countries: domestic funding accounts for the most.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lbertus"/>
              </a:rPr>
              <a:t>India: aid 2-3% of total expenditure on education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lbertus"/>
              </a:rPr>
              <a:t>Exception: Nepal 53%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lbertus"/>
              </a:rPr>
              <a:t>FTI is not attractive to many in Asia (except Vietnam)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5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0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5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0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lbertus"/>
              <a:ea typeface="ＭＳ Ｐゴシック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lbertus"/>
              </a:rPr>
              <a:t>Basic education still forms a large part of the total education aid in many countries, though some are marginally shifting towards secondary education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lbertus"/>
              </a:rPr>
              <a:t>Aid organisations may have to adhere to their commitments, and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lbertus"/>
              </a:rPr>
              <a:t>Go beyond and offer more aid to take care of the effects of the crisi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7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2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7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lbertus"/>
              </a:rPr>
              <a:t>% Share of Basic Education in Total Education Aid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0" y="1143000"/>
          <a:ext cx="914400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9144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lbertus"/>
                <a:ea typeface="ＭＳ Ｐゴシック"/>
              </a:rPr>
              <a:t>Funding Issues in Post-Primary Education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74640" y="1828440"/>
            <a:ext cx="7826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lbertus"/>
              </a:rPr>
              <a:t>Low Levels of Government Funding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lbertus"/>
              </a:rPr>
              <a:t>Increasing reliance on cost recovery measure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lbertus"/>
              </a:rPr>
              <a:t>Student fee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lbertus"/>
              </a:rPr>
              <a:t>Student Loan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lbertus"/>
              </a:rPr>
              <a:t>Private Education – growing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lbertus"/>
              </a:rPr>
              <a:t>PPP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lbertus"/>
              </a:rPr>
              <a:t>Aid – unclear trends and prioritie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lbertus"/>
              </a:rPr>
              <a:t>Questions:  Equity, Quality ???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lbertus"/>
              </a:rPr>
              <a:t>Search for innovative methods of financing…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1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6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2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7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0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5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0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5" dur="500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335268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900" spc="-1" strike="noStrike">
                <a:solidFill>
                  <a:srgbClr val="ffcc00"/>
                </a:solidFill>
                <a:latin typeface="Albertus"/>
              </a:rPr>
              <a:t>Thank you</a:t>
            </a:r>
            <a:endParaRPr b="0" lang="en-US" sz="99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cc00"/>
                </a:solidFill>
                <a:latin typeface="Albertus"/>
              </a:rPr>
              <a:t>Agreed Premises …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lbertus"/>
              </a:rPr>
              <a:t>Education is equitable and efficien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lbertus"/>
              </a:rPr>
              <a:t>Quantity, quality, and equity in education are inseparable dimension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lbertus"/>
              </a:rPr>
              <a:t>Primary, secondary and higher education are inter-linked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lbertus"/>
              </a:rPr>
              <a:t>Need to go ‘beyond the basics’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cc00"/>
                </a:solidFill>
                <a:latin typeface="Albertus"/>
              </a:rPr>
              <a:t>Macro Context in Asia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4640" y="1600200"/>
            <a:ext cx="7826400" cy="430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lbertus"/>
              </a:rPr>
              <a:t>Post-Jomtien period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lbertus"/>
              </a:rPr>
              <a:t>Rapid growth in primary education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lbertus"/>
              </a:rPr>
              <a:t>Enrolments, Gross/net enrolment ratios, gender parity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lbertus"/>
              </a:rPr>
              <a:t>Dropout rates, out of school children, illiterate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lbertus"/>
              </a:rPr>
              <a:t>Transition rates to secondary education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lbertus"/>
              </a:rPr>
              <a:t>Growth in Secondary Education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315720"/>
            <a:ext cx="91440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cc00"/>
                </a:solidFill>
                <a:latin typeface="Albertus"/>
              </a:rPr>
              <a:t>Net Enrolment Ratios in Primary Education in Asia (%)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280" y="1676520"/>
          <a:ext cx="899172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76520"/>
                    <a:ext cx="899172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315720"/>
            <a:ext cx="8763120" cy="75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lbertus"/>
              </a:rPr>
              <a:t>Growth in Secondary Education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6320" y="1143000"/>
          <a:ext cx="8762760" cy="5029200"/>
        </p:xfrm>
        <a:graphic>
          <a:graphicData uri="http://schemas.openxmlformats.org/drawingml/2006/table">
            <a:tbl>
              <a:tblPr/>
              <a:tblGrid>
                <a:gridCol w="2657520"/>
                <a:gridCol w="1220760"/>
                <a:gridCol w="1222200"/>
                <a:gridCol w="1220760"/>
                <a:gridCol w="1220760"/>
                <a:gridCol w="1220760"/>
              </a:tblGrid>
              <a:tr h="840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ff"/>
                          </a:solidFill>
                          <a:latin typeface="Albertus"/>
                          <a:ea typeface="Arial"/>
                        </a:rPr>
                        <a:t>  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ff"/>
                          </a:solidFill>
                          <a:latin typeface="Albertus"/>
                          <a:ea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ffccff"/>
                          </a:solidFill>
                          <a:latin typeface="Albertus"/>
                          <a:ea typeface="Arial"/>
                        </a:rPr>
                        <a:t>Transition Rate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ff"/>
                          </a:solidFill>
                          <a:latin typeface="Albertus"/>
                          <a:ea typeface="Arial"/>
                        </a:rPr>
                        <a:t>Enrolment Ratio in Secondary Education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ff"/>
                          </a:solidFill>
                          <a:latin typeface="Albertus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ff"/>
                          </a:solidFill>
                          <a:latin typeface="Albertus"/>
                          <a:ea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ff"/>
                          </a:solidFill>
                          <a:latin typeface="Albertus"/>
                          <a:ea typeface="Arial"/>
                        </a:rPr>
                        <a:t>2006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ff"/>
                          </a:solidFill>
                          <a:latin typeface="Albertus"/>
                          <a:ea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ffccff"/>
                          </a:solidFill>
                          <a:latin typeface="Albertus"/>
                          <a:ea typeface="Arial"/>
                        </a:rPr>
                        <a:t>Gros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ff"/>
                          </a:solidFill>
                          <a:latin typeface="Albertus"/>
                          <a:ea typeface="Arial"/>
                        </a:rPr>
                        <a:t>Net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ff"/>
                          </a:solidFill>
                          <a:latin typeface="Albertus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ff"/>
                          </a:solidFill>
                          <a:latin typeface="Albertus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ff"/>
                          </a:solidFill>
                          <a:latin typeface="Albertus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ff"/>
                          </a:solidFill>
                          <a:latin typeface="Albertus"/>
                          <a:ea typeface="Arial"/>
                        </a:rPr>
                        <a:t>1999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ff"/>
                          </a:solidFill>
                          <a:latin typeface="Albertus"/>
                          <a:ea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ff"/>
                          </a:solidFill>
                          <a:latin typeface="Albertus"/>
                          <a:ea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66"/>
                          </a:solidFill>
                          <a:latin typeface="Albertus"/>
                          <a:ea typeface="Times New Roman"/>
                        </a:rPr>
                        <a:t>Central Asia</a:t>
                      </a:r>
                      <a:endParaRPr b="0" lang="en-US" sz="21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lbertus"/>
                          <a:ea typeface="Arial"/>
                        </a:rPr>
                        <a:t>98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lbertus"/>
                          <a:ea typeface="Arial"/>
                        </a:rPr>
                        <a:t>99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lbertus"/>
                          <a:ea typeface="Arial"/>
                        </a:rPr>
                        <a:t>8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lbertus"/>
                          <a:ea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lbertus"/>
                          <a:ea typeface="Arial"/>
                        </a:rPr>
                        <a:t>88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66"/>
                          </a:solidFill>
                          <a:latin typeface="Albertus"/>
                          <a:ea typeface="Arial"/>
                        </a:rPr>
                        <a:t>East Asia &amp; Pacific</a:t>
                      </a:r>
                      <a:endParaRPr b="0" lang="en-US" sz="21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lbertus"/>
                          <a:ea typeface="Arial"/>
                        </a:rPr>
                        <a:t>88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lbertus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lbertus"/>
                          <a:ea typeface="Arial"/>
                        </a:rPr>
                        <a:t>6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lbertus"/>
                          <a:ea typeface="Arial"/>
                        </a:rPr>
                        <a:t>78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lbertus"/>
                          <a:ea typeface="Arial"/>
                        </a:rPr>
                        <a:t>71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66"/>
                          </a:solidFill>
                          <a:latin typeface="Albertus"/>
                          <a:ea typeface="Times New Roman"/>
                        </a:rPr>
                        <a:t>   </a:t>
                      </a:r>
                      <a:r>
                        <a:rPr b="0" lang="en-US" sz="2100" spc="-1" strike="noStrike">
                          <a:solidFill>
                            <a:srgbClr val="ffff66"/>
                          </a:solidFill>
                          <a:latin typeface="Albertus"/>
                          <a:ea typeface="Times New Roman"/>
                        </a:rPr>
                        <a:t>East Asia</a:t>
                      </a:r>
                      <a:endParaRPr b="0" lang="en-US" sz="21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lbertus"/>
                          <a:ea typeface="Arial"/>
                        </a:rPr>
                        <a:t>..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lbertus"/>
                          <a:ea typeface="Arial"/>
                        </a:rPr>
                        <a:t>93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lbertus"/>
                          <a:ea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lbertus"/>
                          <a:ea typeface="Arial"/>
                        </a:rPr>
                        <a:t>77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lbertus"/>
                          <a:ea typeface="Arial"/>
                        </a:rPr>
                        <a:t>71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66"/>
                          </a:solidFill>
                          <a:latin typeface="Albertus"/>
                          <a:ea typeface="Times New Roman"/>
                        </a:rPr>
                        <a:t>   </a:t>
                      </a:r>
                      <a:r>
                        <a:rPr b="0" lang="en-US" sz="2100" spc="-1" strike="noStrike">
                          <a:solidFill>
                            <a:srgbClr val="ffff66"/>
                          </a:solidFill>
                          <a:latin typeface="Albertus"/>
                          <a:ea typeface="Times New Roman"/>
                        </a:rPr>
                        <a:t>Pacific</a:t>
                      </a:r>
                      <a:endParaRPr b="0" lang="en-US" sz="21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lbertus"/>
                          <a:ea typeface="Arial"/>
                        </a:rPr>
                        <a:t>..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lbertus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lbertus"/>
                          <a:ea typeface="Arial"/>
                        </a:rPr>
                        <a:t>111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lbertus"/>
                          <a:ea typeface="Arial"/>
                        </a:rPr>
                        <a:t>10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lbertus"/>
                          <a:ea typeface="Arial"/>
                        </a:rPr>
                        <a:t>70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66"/>
                          </a:solidFill>
                          <a:latin typeface="Albertus"/>
                          <a:ea typeface="Times New Roman"/>
                        </a:rPr>
                        <a:t>South &amp; West Asia</a:t>
                      </a:r>
                      <a:endParaRPr b="0" lang="en-US" sz="21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lbertus"/>
                          <a:ea typeface="Arial"/>
                        </a:rPr>
                        <a:t>84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lbertus"/>
                          <a:ea typeface="Arial"/>
                        </a:rPr>
                        <a:t>84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lbertus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lbertus"/>
                          <a:ea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lbertus"/>
                          <a:ea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66"/>
                          </a:solidFill>
                          <a:latin typeface="Albertus"/>
                          <a:ea typeface="Times New Roman"/>
                        </a:rPr>
                        <a:t>World</a:t>
                      </a:r>
                      <a:endParaRPr b="0" lang="en-US" sz="21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lbertus"/>
                          <a:ea typeface="Arial"/>
                        </a:rPr>
                        <a:t>91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lbertus"/>
                          <a:ea typeface="Arial"/>
                        </a:rPr>
                        <a:t>93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lbertus"/>
                          <a:ea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lbertus"/>
                          <a:ea typeface="Arial"/>
                        </a:rPr>
                        <a:t>66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lbertus"/>
                          <a:ea typeface="Arial"/>
                        </a:rPr>
                        <a:t>59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66"/>
                          </a:solidFill>
                          <a:latin typeface="Albertus"/>
                          <a:ea typeface="Times New Roman"/>
                        </a:rPr>
                        <a:t>Advanced Countries</a:t>
                      </a:r>
                      <a:endParaRPr b="0" lang="en-US" sz="21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lbertus"/>
                          <a:ea typeface="Arial"/>
                        </a:rPr>
                        <a:t>99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lbertus"/>
                          <a:ea typeface="Arial"/>
                        </a:rPr>
                        <a:t>99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lbertus"/>
                          <a:ea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lbertus"/>
                          <a:ea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lbertus"/>
                          <a:ea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cc00"/>
                </a:solidFill>
                <a:latin typeface="Albertus"/>
              </a:rPr>
              <a:t>Macro Context in Asia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4640" y="1600200"/>
            <a:ext cx="7826400" cy="430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Albertus"/>
              </a:rPr>
              <a:t>Despite improvements problems persist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lbertus"/>
              </a:rPr>
              <a:t>High dropout rates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lbertus"/>
              </a:rPr>
              <a:t>Low levels of learning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lbertus"/>
              </a:rPr>
              <a:t>Asia accounts for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lbertus"/>
              </a:rPr>
              <a:t>65% of World’s illiterate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lbertus"/>
              </a:rPr>
              <a:t>38% of out of school children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cc00"/>
                </a:solidFill>
                <a:latin typeface="Albertus"/>
              </a:rPr>
              <a:t>Macro Context in Asia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74640" y="1523880"/>
            <a:ext cx="7826400" cy="438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lbertus"/>
              </a:rPr>
              <a:t>Growth in Primary education </a:t>
            </a:r>
            <a:r>
              <a:rPr b="1" lang="en-US" sz="32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8f8f8"/>
                </a:solidFill>
                <a:latin typeface="Albertus"/>
              </a:rPr>
              <a:t> demand for secondary/higher education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lbertus"/>
              </a:rPr>
              <a:t>Building knowledge societie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lbertus"/>
              </a:rPr>
              <a:t>Governments are ‘making’ plans for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lbertus"/>
              </a:rPr>
              <a:t>Reaching EFA goal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lbertus"/>
              </a:rPr>
              <a:t>Expansion of secondary education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lbertus"/>
              </a:rPr>
              <a:t>Development of higher education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lbertus"/>
              </a:rPr>
              <a:t>Some shifts in emphasis are already noted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2T05:57:11Z</dcterms:created>
  <dc:creator>Jtilak</dc:creator>
  <dc:description/>
  <dc:language>en-US</dc:language>
  <cp:lastModifiedBy>J.B.G.Tilak</cp:lastModifiedBy>
  <dcterms:modified xsi:type="dcterms:W3CDTF">2010-06-08T07:28:56Z</dcterms:modified>
  <cp:revision>103</cp:revision>
  <dc:subject/>
  <dc:title>PowerPoint Presentation</dc:title>
</cp:coreProperties>
</file>