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xlsx" ContentType="application/vnd.openxmlformats-officedocument.spreadsheetml.sheet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14.jpeg" ContentType="image/jpeg"/>
  <Override PartName="/ppt/media/image1.wmf" ContentType="image/x-wmf"/>
  <Override PartName="/ppt/media/image19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06EE0-1F95-4B57-B615-3CC1B5039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1ACBC-DBAA-4CDC-BF07-10EEF83C5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2FE0-05BF-4093-AC8B-745545BAF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0D99B-5314-4887-8EEB-B0781C096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7FB0-5882-4DCB-945C-9529030C89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6CA1-918E-4FA3-8946-86D72ACB2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AA4CF-7395-409E-8149-E9D5AA5B1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FCA44-C4B6-4D3D-A1A3-4883CEE27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AB1B-266A-4313-9702-BD15EA7B6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25DC-43FF-41D5-BF63-94D8060B4E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D32C-DE9E-4AE0-B78C-83D5872CAD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AC15-5430-4950-8F0C-FA2BF5C97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E329B-68B7-4B41-9893-431667B64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151D-675B-440A-8031-5E15664B3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A3F5C-65BE-4EA0-87CB-6491E61E6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F7E4F-1DC5-45D0-BAA4-008D6F52A8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A28E-F36F-496D-806F-EC725722A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B7481-9F50-45A0-BB0C-4B11609B1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F5418-9003-416E-BD6B-1A06D84DE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01F2-6332-4F04-84CA-B4C63F5D5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D0BDB-0EFD-40D4-BE4A-E1E2A8540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2650-65FF-4A38-B846-77C8BB7B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B78-AF95-4657-AA30-59BAE8D0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BEFD-B885-4F17-B71C-5E82239E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42CF-6587-473F-A0B6-17648C964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D1ED-88C8-49D0-871A-88C183BD6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BB80-1F2B-4A6A-AAB1-DB30476A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F571-2E63-4FF3-BF28-19196A58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D972-B8A2-46B4-932E-BA19A2F00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D9555-29D8-4A95-BB3D-D5FF536B8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62F9E-A740-4F33-A447-63EB136BE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DD033-E76B-42D3-A5AF-3FAEB3CF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2F5F-72B9-4EF0-AA06-EEEC0E36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8E254-689F-4FC5-89D4-410D1B31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12C15-CA9C-43CA-8158-123D8270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85C6-F96D-4AC7-ACD7-98A72B9D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361C-E989-453C-8518-8852213D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E7194-E2E0-4724-ACFC-B41D134A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9D5B87-8703-4D60-9FA2-753CFBC8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1768DF-C5A0-469E-B853-B10904AB2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ABD55-E3C3-4455-BED1-1F117F0A3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C031C0-6517-46DD-B02F-5D1AB21CB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74D5F2-CFF1-499B-97FC-97E4852D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C9AD-ECCE-4454-85D9-6038BD0EE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A78F6-96AE-4A18-A694-94ED69372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E7CE80-5825-419F-BABC-C162609A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08E8B-196C-49DF-8F47-564451903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C01D8-0080-463E-BAB9-C23E4487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1AD8B-486A-4CBA-B5BB-CA4BBF09A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4FE459-497D-43B3-8924-2AE61C9BE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77321B-6B12-425F-85B5-93F46E92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AFEF0-268D-45DF-BA1A-1319985E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7C5029-C43F-49B8-9F6F-B4942687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82E312-1D84-4999-9959-CE8B4D791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6F66-3C02-4A2D-916B-68400F477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59FB6-93B8-406E-93B0-4C047BA6C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1C9E1-91F1-452D-9E43-C7CA8A75A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54B38-6A5B-45F9-BB13-DAB08F0B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57318-78EE-46F6-95FE-81AE9F94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B070A-917D-48C8-81E2-4BE6C3DCA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92EAB-0F78-498A-AC45-8D72D6475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9518B6-76E1-428E-A821-61A8FD87C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A434B-02BB-4188-9A3F-3743572A6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3835C-F889-44CF-B62A-503803C5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56203B-A1BA-4574-9C08-FD83AE10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A11B-28BE-4D12-BACB-C2565BF8E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79D4B1-EEBE-4135-847A-2626172F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97B9A-CC37-4C51-9E1B-991CD560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585528-2613-4068-87A7-E3128050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EAB470-2011-45A2-B93D-09D32362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BE0BA8-28B5-48C7-B33E-9CABCD44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3013B1-922B-4BEB-A4A1-4CC09A28A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4E5F97-6E5D-46EF-9A0D-C7309E4E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FB7722-0DD5-4BE6-B78D-9C9DFB00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14D4C7-0F85-47C3-8F08-2622220B5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19BB8-78DE-4FF2-B0D4-F8A94DA07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B98-9F05-4C20-8596-7BED6589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87D731-BD37-4F68-927A-57A113281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623D83-730F-4C8B-B832-7615BA2DE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D09802-6FBA-4E30-B206-612FEAA7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790225-1607-4C46-920F-CA16E4917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8B61AD-4094-455D-A5FF-2F85E276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F9913F-5FAB-472E-BC2C-EA80186D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311B9F-E424-408B-9AB0-F87E0A04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A603B4-D212-4DB2-AE1F-69A036B6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9867C2-54D1-490B-91F1-C9D456185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BAFF1A-3A43-47A8-8C40-38515C10F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D11D-9F9A-4B54-BA97-C4454CE2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65045B-DBBB-4237-B9CC-F924DCF7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FB3521-1879-4FAE-8254-8E0F7436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71CD73C-8D16-449E-B98F-87BF2DD2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6787F4-1AF4-4818-A1AA-2E2BEFF9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92C8405-906C-4961-BFD2-992FD11B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F49ECC-8F70-4041-8A31-AC8190BF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B840EC-0B64-41EF-8DE3-92DDDA61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64E28E-C060-4405-9D73-14CE545B2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53452B-3A45-471C-9A37-3CBB2689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8D578D-5A5D-4A49-9D66-94186D5F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E728-9F80-4EEC-AF28-4E54C2AFF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B2CEDF-EA61-44AF-9D54-D4C0037E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93D322-8FAD-4448-92EC-B6D7CBCF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5818E4-B72C-4D48-B422-B4845AC2E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A4CF31-9722-4D3D-98C7-CE672F87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7714DB-73FC-4C85-BD27-B7244D8D7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6C112-11C7-455D-87A4-7F2DC3FE3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7A35D-E501-4666-81E5-F4B40B2C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53A313-8C3D-4367-BADC-04B47F1D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2FFA2E-2F6B-4A7D-880A-1E664B85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2613D-E74D-449B-A684-8FEDC8ECC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3DD-4F53-47BD-BEAD-35D32B85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7A14BB-37F0-43F0-830F-AF94695E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C57103-FA6E-4B4A-B08A-D77619BE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F3297-99B7-477C-9BCC-C3D7807B6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0DB9D-39B8-4C5C-B2A4-A35E49DF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F1303-16AA-46E7-A0C9-A69F7C20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6E872A-3C62-4937-8074-F8B95DC97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4BCF6-6039-4A81-839F-352E59473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01D3-24C5-41D6-B361-482EBE4FE6B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3CCDC-01D0-468E-8102-D821B7A4755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33D6-AC46-4134-8BCE-45D71CDBC46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traight Connector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6432-D4BA-4389-AC4A-4C2A28FE66A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0153-7644-4011-B19A-0CB1B71B11B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36BB-A28B-4A21-8F92-D7E21A4914C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2245-A13A-4FFF-A149-BE6DA037E5A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F8A4-F299-4991-AC03-0A8EB7350C6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39d"/>
                </a:solidFill>
                <a:latin typeface="Century Schoolbook"/>
              </a:rPr>
              <a:t>FOOD SECURITY IN SAMOA </a:t>
            </a:r>
            <a:br>
              <a:rPr sz="3000"/>
            </a:b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5640" y="5562360"/>
            <a:ext cx="6172200" cy="81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39d"/>
                </a:solidFill>
                <a:latin typeface="Century Schoolbook"/>
              </a:rPr>
              <a:t>Seve Sinei Fili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39d"/>
                </a:solidFill>
                <a:latin typeface="Century Schoolbook"/>
              </a:rPr>
              <a:t>Ministry of Health</a:t>
            </a:r>
            <a:endParaRPr b="0" lang="en-US" sz="1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407" name="Slide Number Placeholder 3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4ABB-2D1A-4CB9-9D93-45D110DC897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FOOD ADVERTISING INFLUENCES FOOD CHOICES (REDUCES SELECTION OF HEALTHY FOODS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2209680"/>
            <a:ext cx="49528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71% of total food advertising aimed at children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Majority of food advertising to children “unhealthy” foo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ED02-4A31-460F-BBEA-C414D8E91F5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4"/>
          <p:cNvSpPr/>
          <p:nvPr/>
        </p:nvSpPr>
        <p:spPr>
          <a:xfrm>
            <a:off x="1295280" y="4572000"/>
            <a:ext cx="518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levision food marketing to children,” Meredith Muzak, 2008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6" descr="IMG20033.JPG"/>
          <p:cNvPicPr/>
          <p:nvPr/>
        </p:nvPicPr>
        <p:blipFill>
          <a:blip r:embed="rId1"/>
          <a:stretch/>
        </p:blipFill>
        <p:spPr>
          <a:xfrm>
            <a:off x="5727600" y="2057400"/>
            <a:ext cx="251784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OOD INSECURIT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700" spc="-1" strike="noStrike">
                <a:solidFill>
                  <a:srgbClr val="000000"/>
                </a:solidFill>
                <a:latin typeface="Century Schoolbook"/>
              </a:rPr>
              <a:t>Insufficient access to </a:t>
            </a:r>
            <a:r>
              <a:rPr b="1" lang="en-NZ" sz="2700" spc="-1" strike="noStrike">
                <a:solidFill>
                  <a:srgbClr val="000000"/>
                </a:solidFill>
                <a:latin typeface="Century Schoolbook"/>
              </a:rPr>
              <a:t>nutritious </a:t>
            </a:r>
            <a:r>
              <a:rPr b="0" lang="en-NZ" sz="2700" spc="-1" strike="noStrike">
                <a:solidFill>
                  <a:srgbClr val="000000"/>
                </a:solidFill>
                <a:latin typeface="Century Schoolbook"/>
              </a:rPr>
              <a:t>food in Samoa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1EB6-ACFE-465D-9BA6-1C066938675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7" descr="P1010081"/>
          <p:cNvPicPr/>
          <p:nvPr/>
        </p:nvPicPr>
        <p:blipFill>
          <a:blip r:embed="rId1"/>
          <a:stretch/>
        </p:blipFill>
        <p:spPr>
          <a:xfrm rot="21340200">
            <a:off x="3525840" y="2885760"/>
            <a:ext cx="3876840" cy="2722680"/>
          </a:xfrm>
          <a:prstGeom prst="rect">
            <a:avLst/>
          </a:prstGeom>
          <a:ln w="38160">
            <a:solidFill>
              <a:srgbClr val="3b435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39d"/>
                </a:solidFill>
                <a:latin typeface="Century Schoolbook"/>
              </a:rPr>
              <a:t>CONSEQUENCES OF FOOD INSECURITY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6C83-06D4-42F5-B33C-AA039FA7B03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HANGING DIE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hanging consumption between 1991 – 2003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ncreased: rice, pancakes, cakes, chip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Rapidly decreased: fish and papaya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entury Schoolbook"/>
              </a:rPr>
              <a:t>Low fruit &amp; vegetable consumption </a:t>
            </a:r>
            <a:endParaRPr b="0" lang="en-US" sz="23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etary habits of children a concer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003 children compared with older adult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more processed food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ewer fresh fruit &amp; vegetables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2006 school children's most common weekday food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lnSpc>
                <a:spcPct val="90000"/>
              </a:lnSpc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bread, doughnuts, cabin biscuits, ice pops, instant noodles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3DA6-7665-4E62-A8F3-52C20533507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285640" y="2895120"/>
            <a:ext cx="6172200" cy="20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39d"/>
                </a:solidFill>
                <a:latin typeface="Century Schoolbook"/>
              </a:rPr>
              <a:t>EFFORTS TO IMPROVE FOOD SECURITY AND SAFETY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2285640" y="50101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133992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ADFFD-ADAC-46EA-8180-8ABA3B7ED4D7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3E764-5DF4-404B-B6E6-13ED8278E695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FFORTS TO PROMOTE LOCAL FRESH FOOD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43434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mplement food &amp; nutrition policy (Food &amp; Nutrition Policy 2013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mplement and monitor healthy diet guidelines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3600" indent="-231840">
              <a:spcBef>
                <a:spcPts val="49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entury Schoolbook"/>
              </a:rPr>
              <a:t>Healthy Eating and Lifestyle Guidelines for Samoa 2008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Promote fresh local foods e.g. fruit and vegetables, starchy root crops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3600" indent="-231840">
              <a:spcBef>
                <a:spcPts val="425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entury Schoolbook"/>
              </a:rPr>
              <a:t>TV  and Radio Spots &amp; Ads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marL="231840" indent="-2318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 Schoolbook"/>
              </a:rPr>
              <a:t>Improve food in schools and pre-schools  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543600" indent="-231840">
              <a:spcBef>
                <a:spcPts val="45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entury Schoolbook"/>
              </a:rPr>
              <a:t>Samoa School Nutrition Standards 2012  (SPAGHL spport)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53" name="Picture 4" descr="P1010094"/>
          <p:cNvPicPr/>
          <p:nvPr/>
        </p:nvPicPr>
        <p:blipFill>
          <a:blip r:embed="rId1"/>
          <a:stretch/>
        </p:blipFill>
        <p:spPr>
          <a:xfrm>
            <a:off x="5562720" y="2666880"/>
            <a:ext cx="3063600" cy="3310200"/>
          </a:xfrm>
          <a:prstGeom prst="rect">
            <a:avLst/>
          </a:prstGeom>
          <a:ln w="38160">
            <a:solidFill>
              <a:srgbClr val="3b435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EFFORTS TO IMPROVE NUTRITIONAL CONTENT OF PROCESSED FOOD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685440" y="2057400"/>
            <a:ext cx="4343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Update the food law to allow a focus on healthy fo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stablish food standards to improve nutrition e.g. control fat, salt and sugar content of food &amp; fortify foo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k with business community to increase importation and sale of fortified foo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6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A945-5E32-478C-B801-BE51B86087C9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4" descr="IMG_0235.JPG"/>
          <p:cNvPicPr/>
          <p:nvPr/>
        </p:nvPicPr>
        <p:blipFill>
          <a:blip r:embed="rId1"/>
          <a:stretch/>
        </p:blipFill>
        <p:spPr>
          <a:xfrm rot="1447200">
            <a:off x="5638320" y="2109600"/>
            <a:ext cx="2082960" cy="156204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6" descr=""/>
          <p:cNvPicPr/>
          <p:nvPr/>
        </p:nvPicPr>
        <p:blipFill>
          <a:blip r:embed="rId2"/>
          <a:stretch/>
        </p:blipFill>
        <p:spPr>
          <a:xfrm rot="1438800">
            <a:off x="6298920" y="4520880"/>
            <a:ext cx="1635120" cy="18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THER EFFORTS TO IMPROVE FOOD SECURITY AND SAFETY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456840" y="1600200"/>
            <a:ext cx="39625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velop standards for food label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corporate food and  nutrition in primary school curriculu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velop BHSC at the NUS (including nutrition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duct research on nutrition e.g. DHS, Brown Universit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4BE4-E530-40D8-839F-098CF9D62C4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3" descr="DSC02605.JPG"/>
          <p:cNvPicPr/>
          <p:nvPr/>
        </p:nvPicPr>
        <p:blipFill>
          <a:blip r:embed="rId1"/>
          <a:stretch/>
        </p:blipFill>
        <p:spPr>
          <a:xfrm>
            <a:off x="5334120" y="266688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63" name="Content Placeholder 2"/>
          <p:cNvSpPr/>
          <p:nvPr/>
        </p:nvSpPr>
        <p:spPr>
          <a:xfrm>
            <a:off x="5410080" y="487692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Schoolbook"/>
              </a:rPr>
              <a:t>Unlabeled flour for s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Century Schoolbook"/>
              </a:rPr>
              <a:t>– </a:t>
            </a:r>
            <a:r>
              <a:rPr b="0" lang="en-NZ" sz="1800" spc="-1" strike="noStrike">
                <a:solidFill>
                  <a:srgbClr val="000000"/>
                </a:solidFill>
                <a:latin typeface="Century Schoolbook"/>
              </a:rPr>
              <a:t>is it fortifi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FUTURE POSSIBILITIE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457200" y="1600200"/>
            <a:ext cx="556272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xcise tax - increase on soft drinks and apply to other “unhealthy” food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evelop Code of marketing for children's food advertisi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Review price control measures and place emphasis on “healthy foods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Century Schoolbook"/>
              </a:rPr>
              <a:t>Remove import taxes for fruit &amp; vegetabl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F0DA-2F76-45DA-A103-FF011DBBC39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Century Schoolbook"/>
              </a:rPr>
              <a:t>CONCLUSION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838080" y="1752480"/>
            <a:ext cx="7693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amoan diet has modernized -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Increasing reliance on processed foods, especially children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Health consequenc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Increasing rates of lifestyle diseases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Micronutrient deficiencies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eed to overcome these health consequenc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trengthen what we are doing - educating consumers and promoting physical activity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trengthen sustainable production and use of fresh local foods.  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80000"/>
              </a:lnSpc>
              <a:spcBef>
                <a:spcPts val="400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Need to use innovative approaches related to food standards and their effective enforcement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Multi-sectoral task - Ministries need to work closely together to improve nutrition, food production and food quality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entury Schoolbook"/>
              </a:rPr>
              <a:t>Samoa needs to work in a harmonised manner with other Pacific countri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9" name="Slide Number Placeholder 5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25BD-FBD8-4B54-A776-86850CF57718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TALK OUTLIN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od security in Samo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o we have sufficient food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o we have nutritious food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Do we have access to nutritious food?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onsequences of food insecurity in Samo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Efforts to improve food security in Samo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65CA-19BB-4413-942F-85D4FEDD6391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B0E5-3AF5-4BE8-BF92-EF2CBF31E29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Picture 1026" descr="Abiu"/>
          <p:cNvPicPr/>
          <p:nvPr/>
        </p:nvPicPr>
        <p:blipFill>
          <a:blip r:embed="rId1"/>
          <a:stretch/>
        </p:blipFill>
        <p:spPr>
          <a:xfrm>
            <a:off x="609480" y="1143000"/>
            <a:ext cx="2005200" cy="2133720"/>
          </a:xfrm>
          <a:prstGeom prst="rect">
            <a:avLst/>
          </a:prstGeom>
          <a:ln w="0">
            <a:noFill/>
          </a:ln>
        </p:spPr>
      </p:pic>
      <p:sp>
        <p:nvSpPr>
          <p:cNvPr id="472" name="Rectangle 1027"/>
          <p:cNvSpPr/>
          <p:nvPr/>
        </p:nvSpPr>
        <p:spPr>
          <a:xfrm>
            <a:off x="38149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1028" descr="cucumber"/>
          <p:cNvPicPr/>
          <p:nvPr/>
        </p:nvPicPr>
        <p:blipFill>
          <a:blip r:embed="rId2"/>
          <a:stretch/>
        </p:blipFill>
        <p:spPr>
          <a:xfrm rot="831000">
            <a:off x="7093080" y="2199960"/>
            <a:ext cx="1446120" cy="213372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29" descr="carrot 1"/>
          <p:cNvPicPr/>
          <p:nvPr/>
        </p:nvPicPr>
        <p:blipFill>
          <a:blip r:embed="rId3"/>
          <a:stretch/>
        </p:blipFill>
        <p:spPr>
          <a:xfrm flipH="1" rot="9453000">
            <a:off x="5261040" y="5025960"/>
            <a:ext cx="3313080" cy="6746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1030" descr="starfruit"/>
          <p:cNvPicPr/>
          <p:nvPr/>
        </p:nvPicPr>
        <p:blipFill>
          <a:blip r:embed="rId4"/>
          <a:stretch/>
        </p:blipFill>
        <p:spPr>
          <a:xfrm rot="20953800">
            <a:off x="5638680" y="380880"/>
            <a:ext cx="1758960" cy="22100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031" descr="umu taro"/>
          <p:cNvPicPr/>
          <p:nvPr/>
        </p:nvPicPr>
        <p:blipFill>
          <a:blip r:embed="rId5"/>
          <a:stretch/>
        </p:blipFill>
        <p:spPr>
          <a:xfrm>
            <a:off x="685800" y="3657600"/>
            <a:ext cx="1905120" cy="16016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32" descr="lopa"/>
          <p:cNvPicPr/>
          <p:nvPr/>
        </p:nvPicPr>
        <p:blipFill>
          <a:blip r:embed="rId6"/>
          <a:stretch/>
        </p:blipFill>
        <p:spPr>
          <a:xfrm rot="2851800">
            <a:off x="3374280" y="358560"/>
            <a:ext cx="1731960" cy="1623960"/>
          </a:xfrm>
          <a:prstGeom prst="rect">
            <a:avLst/>
          </a:prstGeom>
          <a:ln w="0">
            <a:noFill/>
          </a:ln>
        </p:spPr>
      </p:pic>
      <p:sp>
        <p:nvSpPr>
          <p:cNvPr id="478" name="Rectangle 1033"/>
          <p:cNvSpPr/>
          <p:nvPr/>
        </p:nvSpPr>
        <p:spPr>
          <a:xfrm>
            <a:off x="3307680" y="2971800"/>
            <a:ext cx="26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75f6d"/>
                </a:solidFill>
                <a:latin typeface="Tahoma"/>
                <a:ea typeface="Times New Roman"/>
              </a:rPr>
              <a:t>Faafetai lava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034" descr=""/>
          <p:cNvPicPr/>
          <p:nvPr/>
        </p:nvPicPr>
        <p:blipFill>
          <a:blip r:embed="rId7"/>
          <a:stretch/>
        </p:blipFill>
        <p:spPr>
          <a:xfrm>
            <a:off x="2743200" y="4648320"/>
            <a:ext cx="25909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CHANGES IN FOOD SUPPLY: 1963-2003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33160" y="1984320"/>
            <a:ext cx="5181480" cy="40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Schoolbook"/>
              </a:rPr>
              <a:t>Significant changes 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n the supply patter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Imported cereal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(mainly wheat, also rice) </a:t>
            </a:r>
            <a:r>
              <a:rPr b="1" lang="en-US" sz="2400" spc="-1" strike="noStrike">
                <a:solidFill>
                  <a:srgbClr val="000000"/>
                </a:solidFill>
                <a:latin typeface="Century Schoolbook"/>
              </a:rPr>
              <a:t>replaced locally produced root crops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as most important source of energ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entury Schoolbook"/>
              </a:rPr>
              <a:t>Locally produced meat replaced with imported me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2704-FBF8-4374-96D8-EFC9BD5CC25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Object 2"/>
          <p:cNvGraphicFramePr/>
          <p:nvPr/>
        </p:nvGraphicFramePr>
        <p:xfrm>
          <a:off x="838080" y="1066680"/>
          <a:ext cx="716292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066680"/>
                    <a:ext cx="716292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6" name="Picture 1033" descr="umu taro"/>
          <p:cNvPicPr/>
          <p:nvPr/>
        </p:nvPicPr>
        <p:blipFill>
          <a:blip r:embed="rId3"/>
          <a:stretch/>
        </p:blipFill>
        <p:spPr>
          <a:xfrm rot="20274600">
            <a:off x="7176960" y="4559400"/>
            <a:ext cx="137160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6C11F-B56A-4663-8DFF-47F4DB54BCB3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8" name="Object 2"/>
          <p:cNvGraphicFramePr/>
          <p:nvPr/>
        </p:nvGraphicFramePr>
        <p:xfrm>
          <a:off x="1120680" y="1504800"/>
          <a:ext cx="7345440" cy="424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0680" y="1504800"/>
                    <a:ext cx="7345440" cy="424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DO WE HAVE ACCESS TO NUTRITIOUS FOOD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Slide Number Placeholder 1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22D9-009A-4C34-A4DB-B56287464576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3" descr="DSC00578.JPG"/>
          <p:cNvPicPr/>
          <p:nvPr/>
        </p:nvPicPr>
        <p:blipFill>
          <a:blip r:embed="rId1"/>
          <a:stretch/>
        </p:blipFill>
        <p:spPr>
          <a:xfrm>
            <a:off x="1295280" y="17524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5"/>
          <p:cNvSpPr/>
          <p:nvPr/>
        </p:nvSpPr>
        <p:spPr>
          <a:xfrm>
            <a:off x="8424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0475-AF87-4D0E-B53A-09FB1C3DBBF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ORES FILLED WITH PROCESSED FOOD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5" name="Picture 4" descr="IMG_7941"/>
          <p:cNvPicPr/>
          <p:nvPr/>
        </p:nvPicPr>
        <p:blipFill>
          <a:blip r:embed="rId1"/>
          <a:stretch/>
        </p:blipFill>
        <p:spPr>
          <a:xfrm>
            <a:off x="2057400" y="2057400"/>
            <a:ext cx="53341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LITTLE ACCESS TO “HEALTHY” FOODS IN SCHOOL CANTEENS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27" name="Content Placeholder 5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162920" cy="3883320"/>
          </a:xfrm>
          <a:prstGeom prst="rect">
            <a:avLst/>
          </a:prstGeom>
          <a:ln w="0">
            <a:noFill/>
          </a:ln>
        </p:spPr>
      </p:pic>
      <p:sp>
        <p:nvSpPr>
          <p:cNvPr id="428" name="Slide Number Placeholder 2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E249E-F53D-4178-9A1F-DC357F40F47F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ACCESS TO IMPORTED FRUIT &amp; VEGETABLES RESTRICTED BY HIGH TARIFF RATES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20% tarif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ost fruit &amp; vegetab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0% tariff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Instant noodle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Mutton flaps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gar 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alt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0EF8-89C6-44C3-AFA9-38F1B57E2C22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20:43:03Z</dcterms:created>
  <dc:creator>ChristineQ</dc:creator>
  <dc:description/>
  <dc:language>en-US</dc:language>
  <cp:lastModifiedBy>SSAB Electronics</cp:lastModifiedBy>
  <dcterms:modified xsi:type="dcterms:W3CDTF">2014-10-24T19:15:22Z</dcterms:modified>
  <cp:revision>164</cp:revision>
  <dc:subject/>
  <dc:title>PROCESSED FOOD AND HEALTH IN SAMOA</dc:title>
</cp:coreProperties>
</file>