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8D324EA-4895-4814-972C-8679DBDC18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4CE7861-2912-4CA8-830D-3D2ED30ABF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F19F512-5551-4F11-9596-37EA94EBC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8E00897-5C34-4D27-B3CE-AB757BFBD1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0CEFAD-D79B-444E-8F05-5547F47B9A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9A73E5-3CCB-480C-9D5E-3FAD1A95EE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8D9F1-58FA-4FA3-AAD1-6D47C634D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855E3F-3A5B-470C-980B-850D90B35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4D2C1D-DB38-4A34-9B5B-81325562A6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EA1C06-2844-4314-B6D0-AD8DC0072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967B2-230A-475A-A783-80178D6C5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AFC7532-FF9E-4B03-8302-8F33A442CD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167CCA-32AA-45AE-AAE6-C1B79187C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BA8CFB-B13B-4E00-9AD0-4214334C9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31AB9C-B7DD-4A24-A7AD-967260B0A3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218348-4826-4AAC-84C2-C13C63B24C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0520DE-5A51-474E-B025-8B1A748AA4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A602C96-8993-49CF-AA36-88CD8B0B4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013EF8-92B4-4F3A-BD34-67D93841C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D43EB1D-A2B6-454E-B358-C1F1B4F1A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EE87DC8-08F7-4407-9BFD-3F6814033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9BD4B6C-565C-467E-BADB-032D2223D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8D9BDA4-D63B-4AF8-A716-4E116F706A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114B1A-9F78-4D65-A022-1D4653AF5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49E68-ABB0-42A1-AB88-690464D0E031}"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A9219-2184-41C7-B6B4-BCAF6F2087A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9903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Food and Nutrition Situation </a:t>
            </a:r>
            <a:br>
              <a:rPr sz="6000"/>
            </a:br>
            <a:r>
              <a:rPr b="1" lang="en-US" sz="6000" spc="-1" strike="noStrike">
                <a:solidFill>
                  <a:srgbClr val="e5e5ff"/>
                </a:solidFill>
                <a:latin typeface="Garamond"/>
              </a:rPr>
              <a:t>in Malaysia</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837720" y="3733560"/>
            <a:ext cx="6172200" cy="281916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ssoc. Prof. Dr Rokiah Mohd Yusof</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partment of Nutrition and Dietetics</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aculty of Medicine and Health Sciences</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niversiti Putra Malaysia</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43400 UPM Serdang, </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elangor, Malaysia</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02" name="" descr=""/>
          <p:cNvPicPr/>
          <p:nvPr/>
        </p:nvPicPr>
        <p:blipFill>
          <a:blip r:embed="rId1"/>
          <a:stretch/>
        </p:blipFill>
        <p:spPr>
          <a:xfrm>
            <a:off x="6172200" y="5438880"/>
            <a:ext cx="2971800" cy="1419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1998-2000 MOH/UNICEF Survey recorded 2.9% male and 2.2% female children below 6 years as overweight , with higher prevalence in metropolitan (3%) and large urban areas (2.8%) than in rural areas (1.8%).</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OH surveillance data showed that in 2004, 4.1% of children aged 5 years were overweigh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anwhile in adults, the problem of underweight has also been reported in urban and rural areas.</a:t>
            </a:r>
            <a:endParaRPr b="0" lang="en-US" sz="3200" spc="-1" strike="noStrike">
              <a:solidFill>
                <a:srgbClr val="ffffff"/>
              </a:solidFill>
              <a:latin typeface="Garamond"/>
            </a:endParaRPr>
          </a:p>
          <a:p>
            <a:pPr marL="335880" indent="-3358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HMS II (1996) determined the overall prevalence of underweight in adults as 25.2%, while other studies on smaller numbers of subjects reported underweight rates for men and women at 7% and 11% in urban, and 11% and 14% in the rural areas, respectivel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relation to infant feeding, the overall prevalence of ever breastfeeding remains high at 88.6% according to the Second National Health and Morbidity Survey (NHMS II) in 1996, and compared to the Malaysian Family Life Survey (MFLS) prevalence of 85% in 1988.</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owever the duration of breastfeeding appears to have declined from 6 months (MFLS) to 4.5 months (NHMS II)</a:t>
            </a:r>
            <a:endParaRPr b="0" lang="en-US" sz="2800" spc="-1" strike="noStrike">
              <a:solidFill>
                <a:srgbClr val="ffffff"/>
              </a:solidFill>
              <a:latin typeface="Garamond"/>
            </a:endParaRPr>
          </a:p>
          <a:p>
            <a:pPr marL="322200" indent="-32220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HMS II also noted that the prevalence of exclusive breastfeeding through the first 4-6 months was low at 29% and bottle-feeding was high at 86% among children aged below 2 years.</a:t>
            </a:r>
            <a:endParaRPr b="0" lang="en-US" sz="2800" spc="-1" strike="noStrike">
              <a:solidFill>
                <a:srgbClr val="ffffff"/>
              </a:solidFill>
              <a:latin typeface="Garamond"/>
            </a:endParaRPr>
          </a:p>
          <a:p>
            <a:pPr marL="3222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ile the country is still addressing under-nutrition problems, health problem associated with over nutrition have been on the rise in recent decades.</a:t>
            </a:r>
            <a:endParaRPr b="0" lang="en-US" sz="3200" spc="-1" strike="noStrike">
              <a:solidFill>
                <a:srgbClr val="ffffff"/>
              </a:solidFill>
              <a:latin typeface="Garamond"/>
            </a:endParaRPr>
          </a:p>
          <a:p>
            <a:pPr marL="339480" indent="-33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NHMS II (1996) covering 28,737 adults aged 20 and older, found that 20.1% and 21.4% of the men and women are overweight (Lim, 2000)</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ame survey also reported 4% of the men and 7.6% of the women were obese (BMI exceeding 30kg/m</a:t>
            </a:r>
            <a:r>
              <a:rPr b="0" lang="en-US" sz="3200" spc="-1" strike="noStrike" baseline="30000">
                <a:solidFill>
                  <a:srgbClr val="ffffff"/>
                </a:solidFill>
                <a:latin typeface="Garamond"/>
              </a:rPr>
              <a:t>2</a:t>
            </a:r>
            <a:r>
              <a:rPr b="0" lang="en-US" sz="3200" spc="-1" strike="noStrike">
                <a:solidFill>
                  <a:srgbClr val="ffffff"/>
                </a:solidFill>
                <a:latin typeface="Garamond"/>
              </a:rPr>
              <a:t>).</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ior to the 1990s, overweight and obesity were more often reported among the urban adults and children only (Ismail et al, 1995; Bong and Safurah, 1996) but this problem has caught up with the rural adults too.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survey of 4,595 adults from agriculture and fishing communities found that 19.8% of the men and 28% of the women to be overweight, whilst another 4.2% and 11.1% of the men and women respectively were obese (Khor </a:t>
            </a:r>
            <a:r>
              <a:rPr b="0" i="1" lang="en-US" sz="2800" spc="-1" strike="noStrike">
                <a:solidFill>
                  <a:srgbClr val="ffffff"/>
                </a:solidFill>
                <a:latin typeface="Garamond"/>
              </a:rPr>
              <a:t>et al,</a:t>
            </a:r>
            <a:r>
              <a:rPr b="0" lang="en-US" sz="2800" spc="-1" strike="noStrike">
                <a:solidFill>
                  <a:srgbClr val="ffffff"/>
                </a:solidFill>
                <a:latin typeface="Garamond"/>
              </a:rPr>
              <a:t> 1999).</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besity of the poor may be due to various reasons including excess reliance on cheaper sources of energy, such as rice, flour, roots and tubers, increased sedentary lifestyles, and putting on excess weight during pregnanc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Food supply and Dietary pattern</a:t>
            </a:r>
            <a:endParaRPr b="1" lang="en-US" sz="4400" spc="-1" strike="noStrike">
              <a:solidFill>
                <a:srgbClr val="e5e5ff"/>
              </a:solidFill>
              <a:latin typeface="Garamond"/>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undamental changes in food supply patterns emerged in recent decades.</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se changes have led to not only increasing amounts of food available but also to changes in the composition of the die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mportant changes in food consumption between 1967 and 2000 are summarized below for energy and major foods:</a:t>
            </a:r>
            <a:endParaRPr b="0" lang="en-US" sz="2800" spc="-1" strike="noStrike">
              <a:solidFill>
                <a:srgbClr val="ffffff"/>
              </a:solidFill>
              <a:latin typeface="Garamond"/>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Total calories available for consumption has increased by 21.3% over the past three decades, from 2,407 calories to 2,919 calories per person per day</a:t>
            </a:r>
            <a:endParaRPr b="0" lang="en-US" sz="2800" spc="-1" strike="noStrike">
              <a:solidFill>
                <a:srgbClr val="ffffff"/>
              </a:solidFill>
              <a:latin typeface="Garamond"/>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   Percentage of energy from fat increased from 17.9% to 26.9 % with about 60% from vegetables oil and 40% from animal products.</a:t>
            </a:r>
            <a:endParaRPr b="0" lang="en-US" sz="2800" spc="-1" strike="noStrike">
              <a:solidFill>
                <a:srgbClr val="ffffff"/>
              </a:solidFill>
              <a:latin typeface="Garamond"/>
            </a:endParaRPr>
          </a:p>
          <a:p>
            <a:pPr marL="5850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5850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 The proportion of calories from cereals has declined from 57.1% of the total calories to 43.6%.</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 The proportion of calories from animal products increased from 11.2% of total calories to 19.4%</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 Poultry meat availability rose over six fold from 5.7kg to 36.7kg per person per yea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 Availability of eggs (hen) has almost tripled from 5.0kg per person per year to 14.4 kg.</a:t>
            </a:r>
            <a:endParaRPr b="0" lang="en-US" sz="2800" spc="-1" strike="noStrike">
              <a:solidFill>
                <a:srgbClr val="ffffff"/>
              </a:solidFill>
              <a:latin typeface="Garamon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 The amount of milk available per person per year has risen from 28.9kg to 52.7kg.</a:t>
            </a:r>
            <a:endParaRPr b="0" lang="en-US" sz="2800" spc="-1" strike="noStrike">
              <a:solidFill>
                <a:srgbClr val="ffffff"/>
              </a:solidFill>
              <a:latin typeface="Garamon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 Availability of fish and other seafood has doubled from 29.5kg to 57.9kg per person per year.</a:t>
            </a:r>
            <a:endParaRPr b="0" lang="en-US" sz="2800" spc="-1" strike="noStrike">
              <a:solidFill>
                <a:srgbClr val="ffffff"/>
              </a:solidFill>
              <a:latin typeface="Garamon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 The amount of available sugar (raw) and refined) has increased from 28 kg to 47.6kg per person per yea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opics Present </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roduction</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tritional Status</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ood supply and Dietary Pattern</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iet Related Chronic Diseases </a:t>
            </a:r>
            <a:endParaRPr b="0" lang="en-US" sz="2800" spc="-1" strike="noStrike">
              <a:solidFill>
                <a:srgbClr val="ffffff"/>
              </a:solidFill>
              <a:latin typeface="Garamond"/>
            </a:endParaRPr>
          </a:p>
          <a:p>
            <a:pPr marL="329040" indent="-3290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tervention Activities for Promoting Healthy Nutrition</a:t>
            </a:r>
            <a:endParaRPr b="0" lang="en-US" sz="2800" spc="-1" strike="noStrike">
              <a:solidFill>
                <a:srgbClr val="ffffff"/>
              </a:solidFill>
              <a:latin typeface="Garamond"/>
            </a:endParaRPr>
          </a:p>
        </p:txBody>
      </p:sp>
      <p:pic>
        <p:nvPicPr>
          <p:cNvPr id="105" name="" descr=""/>
          <p:cNvPicPr/>
          <p:nvPr/>
        </p:nvPicPr>
        <p:blipFill>
          <a:blip r:embed="rId1"/>
          <a:stretch/>
        </p:blipFill>
        <p:spPr>
          <a:xfrm>
            <a:off x="5005440" y="4322880"/>
            <a:ext cx="3324240" cy="1419120"/>
          </a:xfrm>
          <a:prstGeom prst="rect">
            <a:avLst/>
          </a:prstGeom>
          <a:ln w="0">
            <a:noFill/>
          </a:ln>
        </p:spPr>
      </p:pic>
      <p:pic>
        <p:nvPicPr>
          <p:cNvPr id="106" name="" descr=""/>
          <p:cNvPicPr/>
          <p:nvPr/>
        </p:nvPicPr>
        <p:blipFill>
          <a:blip r:embed="rId2"/>
          <a:srcRect l="6289" t="0" r="0" b="280"/>
          <a:stretch/>
        </p:blipFill>
        <p:spPr>
          <a:xfrm>
            <a:off x="4952880" y="1676520"/>
            <a:ext cx="3251160" cy="2185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me studies found that the lower income groups tend to depend on a limited range of food items for calories such as rice, flour (like noodles, local cakes and snacks), cooking oil and sugar.</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ice and other cereals followed by chicken and fish constitute their main source of protei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ntrast, people in higher income tend to consume a wider variety of food including more dairy products, fruits and vegetables.</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st studies also showed that the vulnerable groups, comprising growing children, pregnant and lactating mothers and the elderly, from low-income communities generally consume inadequate calories, iron, calcium and the B vitamins (Soon &amp; Khor, 1995; Poh </a:t>
            </a:r>
            <a:r>
              <a:rPr b="0" i="1" lang="en-US" sz="2800" spc="-1" strike="noStrike">
                <a:solidFill>
                  <a:srgbClr val="ffffff"/>
                </a:solidFill>
                <a:latin typeface="Garamond"/>
              </a:rPr>
              <a:t>et al</a:t>
            </a:r>
            <a:r>
              <a:rPr b="0" lang="en-US" sz="2800" spc="-1" strike="noStrike">
                <a:solidFill>
                  <a:srgbClr val="ffffff"/>
                </a:solidFill>
                <a:latin typeface="Garamond"/>
              </a:rPr>
              <a:t>, 1996; Suriah </a:t>
            </a:r>
            <a:r>
              <a:rPr b="0" i="1" lang="en-US" sz="2800" spc="-1" strike="noStrike">
                <a:solidFill>
                  <a:srgbClr val="ffffff"/>
                </a:solidFill>
                <a:latin typeface="Garamond"/>
              </a:rPr>
              <a:t>et al</a:t>
            </a:r>
            <a:r>
              <a:rPr b="0" lang="en-US" sz="2800" spc="-1" strike="noStrike">
                <a:solidFill>
                  <a:srgbClr val="ffffff"/>
                </a:solidFill>
                <a:latin typeface="Garamond"/>
              </a:rPr>
              <a:t>, 1996; Chee </a:t>
            </a:r>
            <a:r>
              <a:rPr b="0" i="1" lang="en-US" sz="2800" spc="-1" strike="noStrike">
                <a:solidFill>
                  <a:srgbClr val="ffffff"/>
                </a:solidFill>
                <a:latin typeface="Garamond"/>
              </a:rPr>
              <a:t>et al,</a:t>
            </a:r>
            <a:r>
              <a:rPr b="0" lang="en-US" sz="2800" spc="-1" strike="noStrike">
                <a:solidFill>
                  <a:srgbClr val="ffffff"/>
                </a:solidFill>
                <a:latin typeface="Garamond"/>
              </a:rPr>
              <a:t> 1997).</a:t>
            </a:r>
            <a:endParaRPr b="0" lang="en-US" sz="2800" spc="-1" strike="noStrike">
              <a:solidFill>
                <a:srgbClr val="ffffff"/>
              </a:solidFill>
              <a:latin typeface="Garamond"/>
            </a:endParaRPr>
          </a:p>
          <a:p>
            <a:pPr marL="312120" indent="-31212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dequate consumption of vitamin A and C tends to vary depending upon day to day and seasonal fluctuations in the intake of fruits and vegetabl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et-Related Chronic Diseas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laysia faces the challenges arising from increasing prevalence of the diet-related chronic diseases including cardiovascular disease (CVD).</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art diseases have been the leading cause of deaths in Malaysia since 1970s, and together with the death due to cerebrovascular disease, constitute 28% of all medically certified death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though CVD mortality rate in Malaysia ranks lower than that in other Asia Pacific region (Khor, 2001), the upward trend of the prevalence of its risk factors is a matter of public health concern.</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major risk factors are hypertension, diabetes, dislipidaemia and obesity.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Hypertension</a:t>
            </a:r>
            <a:endParaRPr b="1" lang="en-US" sz="4400" spc="-1" strike="noStrike">
              <a:solidFill>
                <a:srgbClr val="e5e5ff"/>
              </a:solidFill>
              <a:latin typeface="Garamond"/>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verall prevalence of hypertension among adults aged 30 years and above in all states in Malaysia was 29.9% with self reported hypertension at 14% and undiagnosed hypertension at 15.9% (NHMS II) (MOH, 1997)</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comparison, the NHMS 1 in 1987 had reported 14% of adults 25 years and above had elevated blood pressur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iabetes</a:t>
            </a: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revalence of diabetes appears to have risen from 6.3% in 1987 (NHMS1) to 8.7 % in 1997 (NHMS II).</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n that the population of Malaysia in 1996 was about 21 million, the total number of diabetics is estimated at 1.7 million.</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yslipidaemia</a:t>
            </a: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yslipidaemia, the most commonly assessed component being total cholesterol or hypercholesterolemi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comparing some studies, Ng and co-researchers (2000) noted that the mean total cholesterol values of the rural adults in 1990s were edging closer to the levels of their urban counterpar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revalence of hypercholesterolemia (total cholesterol &gt;6.2 mmol/L) among rural males (n=3153) and females (n=4033) were 11.6% and 16% respectively.</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is an upward shift in the mean total cholesterol values for the rural communities of various age  groups during the 1980s and 1990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tervention Activities for Promoting Healthy Nutrition</a:t>
            </a:r>
            <a:endParaRPr b="1" lang="en-US" sz="4000" spc="-1" strike="noStrike">
              <a:solidFill>
                <a:srgbClr val="e5e5ff"/>
              </a:solidFill>
              <a:latin typeface="Garamond"/>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grams and activities aimed at the promotion of sound dietary practices towards the achievement of good nutritional and health status are carried by Ministry of Health, while others including Ministries of Agriculture, Rural Development and Education.</a:t>
            </a:r>
            <a:endParaRPr b="0" lang="en-US" sz="3200" spc="-1" strike="noStrike">
              <a:solidFill>
                <a:srgbClr val="ffffff"/>
              </a:solidFill>
              <a:latin typeface="Garamond"/>
            </a:endParaRPr>
          </a:p>
          <a:p>
            <a:pPr marL="305280" indent="-3052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iversities and research institutes contributes in research, training and providing extension and consultancy servic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fessional societies like the Nutrition Society of Malaysia and Malaysian Dieticians’ Association are active in advocacy and dissemination of information to the public.</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Introduction</a:t>
            </a:r>
            <a:endParaRPr b="1" lang="en-US" sz="4400" spc="-1" strike="noStrike">
              <a:solidFill>
                <a:srgbClr val="e5e5ff"/>
              </a:solidFill>
              <a:latin typeface="Garamond"/>
            </a:endParaRPr>
          </a:p>
        </p:txBody>
      </p:sp>
      <p:sp>
        <p:nvSpPr>
          <p:cNvPr id="108" name="PlaceHolder 2"/>
          <p:cNvSpPr>
            <a:spLocks noGrp="1"/>
          </p:cNvSpPr>
          <p:nvPr>
            <p:ph/>
          </p:nvPr>
        </p:nvSpPr>
        <p:spPr>
          <a:xfrm>
            <a:off x="914400" y="1447920"/>
            <a:ext cx="7772400" cy="502920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reasingly more developing countries world wide are undergoing  nutritional changes, which are characterized by manifestation of both under and over nutrition.</a:t>
            </a:r>
            <a:endParaRPr b="0" lang="en-US" sz="3200" spc="-1" strike="noStrike">
              <a:solidFill>
                <a:srgbClr val="ffffff"/>
              </a:solidFill>
              <a:latin typeface="Garamond"/>
            </a:endParaRPr>
          </a:p>
          <a:p>
            <a:pPr marL="308520" indent="-308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ile macronutrient and micronutrient deficiencies persist resulting in poor nutritional status and morbidity, the prevalence of overweight and obesity has been on the rise, in urban and rural areas in many countri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ational Plan of Action for Nutrition</a:t>
            </a:r>
            <a:endParaRPr b="1" lang="en-US" sz="40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ormation of the National Coordinating Committee on Food and Nutrition of Malaysia (NCCFN) in 1995 has stimulated active collaboration among the various agencies and groups which carry out nutrition and related activities, towards achieving the general objectives of improving nutritional status and health of Malaysia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CCFN was formed following the FAO/WHO International Conference on Nutrition in Rome in 1992, whereby members countries were committed to developing their own National Plan of Action for Nutrition (NPAN) (Ministry of Health, 1996).</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NPAN of Malaysia was completed in 1996 and one of its major recommendations was the formation of the four Technical Working Groups:</a:t>
            </a:r>
            <a:endParaRPr b="0" lang="en-US" sz="2800" spc="-1" strike="noStrike">
              <a:solidFill>
                <a:srgbClr val="ffffff"/>
              </a:solidFill>
              <a:latin typeface="Garamond"/>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Research, Training, Dietary Guidelines and Nutrition Policy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6" name="PlaceHolder 2"/>
          <p:cNvSpPr>
            <a:spLocks noGrp="1"/>
          </p:cNvSpPr>
          <p:nvPr>
            <p:ph/>
          </p:nvPr>
        </p:nvSpPr>
        <p:spPr>
          <a:xfrm>
            <a:off x="457200" y="685800"/>
            <a:ext cx="8229600" cy="5440320"/>
          </a:xfrm>
          <a:prstGeom prst="rect">
            <a:avLst/>
          </a:prstGeom>
          <a:noFill/>
          <a:ln w="0">
            <a:noFill/>
          </a:ln>
        </p:spPr>
        <p:txBody>
          <a:bodyPr lIns="90000" rIns="90000" tIns="46800" bIns="46800" anchor="t">
            <a:normAutofit fontScale="94000"/>
          </a:bodyPr>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ach Technical Working Groups (TWG) comprises members from agencies wth nutrition activities including universities, the private sector, government and non-government organizations.</a:t>
            </a:r>
            <a:endParaRPr b="0" lang="en-US" sz="2400" spc="-1" strike="noStrike">
              <a:solidFill>
                <a:srgbClr val="ffffff"/>
              </a:solidFill>
              <a:latin typeface="Garamond"/>
            </a:endParaRPr>
          </a:p>
          <a:p>
            <a:pPr marL="322200" indent="-32220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ome of the activities of TWG are:</a:t>
            </a:r>
            <a:endParaRPr b="0" lang="en-US" sz="24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 The research TWG coordinated a workshop in identifying the priority research areas in nutrition under the 8</a:t>
            </a:r>
            <a:r>
              <a:rPr b="0" lang="en-US" sz="2400" spc="-1" strike="noStrike" baseline="30000">
                <a:solidFill>
                  <a:srgbClr val="ffffff"/>
                </a:solidFill>
                <a:latin typeface="Garamond"/>
              </a:rPr>
              <a:t>th</a:t>
            </a:r>
            <a:r>
              <a:rPr b="0" lang="en-US" sz="2400" spc="-1" strike="noStrike">
                <a:solidFill>
                  <a:srgbClr val="ffffff"/>
                </a:solidFill>
                <a:latin typeface="Garamond"/>
              </a:rPr>
              <a:t> Malaysian Plan (2001-2005).</a:t>
            </a:r>
            <a:endParaRPr b="0" lang="en-US" sz="24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 The Training TWG developed five nutrition modules and has been conducting training courses for trainers and community workers from various agencies.</a:t>
            </a:r>
            <a:endParaRPr b="0" lang="en-US" sz="24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The Dietary Guidelines TWG published the Malaysia Dietary Guidelines in 1999, and is coordinating efforts in revising the Malaysian recommended dietary allowance (RDAs)</a:t>
            </a:r>
            <a:endParaRPr b="0" lang="en-US" sz="2400" spc="-1" strike="noStrike">
              <a:solidFill>
                <a:srgbClr val="ffffff"/>
              </a:solidFill>
              <a:latin typeface="Garamond"/>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The Policy TWG has the task of preparing an important milestone namely, “The National Nutrition Policy of Malaysia”, launched in 2003.</a:t>
            </a:r>
            <a:endParaRPr b="0" lang="en-US" sz="2400" spc="-1" strike="noStrike">
              <a:solidFill>
                <a:srgbClr val="ffffff"/>
              </a:solidFill>
              <a:latin typeface="Garamond"/>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laysian Dietary Guidelines</a:t>
            </a:r>
            <a:endParaRPr b="1" lang="en-US" sz="44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etary guidelines are useful principles to guide consumers in making informed choices in food selection and feeding practices.</a:t>
            </a:r>
            <a:endParaRPr b="0" lang="en-US" sz="3200" spc="-1" strike="noStrike">
              <a:solidFill>
                <a:srgbClr val="ffffff"/>
              </a:solidFill>
              <a:latin typeface="Garamond"/>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609480" indent="-6094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re are 8 principles in the Malaysian Dietary Guidelines:</a:t>
            </a:r>
            <a:endParaRPr b="0" lang="en-US" sz="3200" spc="-1" strike="noStrike">
              <a:solidFill>
                <a:srgbClr val="ffffff"/>
              </a:solidFill>
              <a:latin typeface="Garamond"/>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0" name="PlaceHolder 2"/>
          <p:cNvSpPr>
            <a:spLocks noGrp="1"/>
          </p:cNvSpPr>
          <p:nvPr>
            <p:ph/>
          </p:nvPr>
        </p:nvSpPr>
        <p:spPr>
          <a:xfrm>
            <a:off x="456840" y="1600200"/>
            <a:ext cx="8077320" cy="4525920"/>
          </a:xfrm>
          <a:prstGeom prst="rect">
            <a:avLst/>
          </a:prstGeom>
          <a:noFill/>
          <a:ln w="0">
            <a:noFill/>
          </a:ln>
        </p:spPr>
        <p:txBody>
          <a:bodyPr lIns="90000" rIns="90000" tIns="46800" bIns="46800" anchor="t">
            <a:normAutofit fontScale="97000"/>
          </a:bodyPr>
          <a:p>
            <a:pPr marL="591120" indent="-591120">
              <a:lnSpc>
                <a:spcPct val="90000"/>
              </a:lnSpc>
              <a:spcBef>
                <a:spcPts val="601"/>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joy a variety of foods.</a:t>
            </a:r>
            <a:endParaRPr b="0" lang="en-US" sz="2400" spc="-1" strike="noStrike">
              <a:solidFill>
                <a:srgbClr val="ffffff"/>
              </a:solidFill>
              <a:latin typeface="Garamond"/>
            </a:endParaRPr>
          </a:p>
          <a:p>
            <a:pPr marL="591120" indent="-591120">
              <a:lnSpc>
                <a:spcPct val="90000"/>
              </a:lnSpc>
              <a:spcBef>
                <a:spcPts val="601"/>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intain healthy body weight by balancing food intake with regular physical activity.</a:t>
            </a:r>
            <a:endParaRPr b="0" lang="en-US" sz="2400" spc="-1" strike="noStrike">
              <a:solidFill>
                <a:srgbClr val="ffffff"/>
              </a:solidFill>
              <a:latin typeface="Garamond"/>
            </a:endParaRPr>
          </a:p>
          <a:p>
            <a:pPr marL="591120" indent="-591120">
              <a:lnSpc>
                <a:spcPct val="90000"/>
              </a:lnSpc>
              <a:spcBef>
                <a:spcPts val="601"/>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at more rice and other cereals products, legumes, fruits and vegetables.</a:t>
            </a:r>
            <a:endParaRPr b="0" lang="en-US" sz="2400" spc="-1" strike="noStrike">
              <a:solidFill>
                <a:srgbClr val="ffffff"/>
              </a:solidFill>
              <a:latin typeface="Garamond"/>
            </a:endParaRPr>
          </a:p>
          <a:p>
            <a:pPr marL="591120" indent="-591120">
              <a:lnSpc>
                <a:spcPct val="90000"/>
              </a:lnSpc>
              <a:spcBef>
                <a:spcPts val="601"/>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nimize fat in food preparation and choose foods that are low in fat and cholesterol.</a:t>
            </a:r>
            <a:endParaRPr b="0" lang="en-US" sz="2400" spc="-1" strike="noStrike">
              <a:solidFill>
                <a:srgbClr val="ffffff"/>
              </a:solidFill>
              <a:latin typeface="Garamond"/>
            </a:endParaRPr>
          </a:p>
          <a:p>
            <a:pPr marL="591120" indent="-591120">
              <a:lnSpc>
                <a:spcPct val="90000"/>
              </a:lnSpc>
              <a:spcBef>
                <a:spcPts val="601"/>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se small amounts of salts and choose foods low in salt.</a:t>
            </a:r>
            <a:endParaRPr b="0" lang="en-US" sz="2400" spc="-1" strike="noStrike">
              <a:solidFill>
                <a:srgbClr val="ffffff"/>
              </a:solidFill>
              <a:latin typeface="Garamond"/>
            </a:endParaRPr>
          </a:p>
          <a:p>
            <a:pPr marL="591120" indent="-591120">
              <a:lnSpc>
                <a:spcPct val="90000"/>
              </a:lnSpc>
              <a:spcBef>
                <a:spcPts val="601"/>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duce sugar intake and choose foods low in sugar</a:t>
            </a:r>
            <a:endParaRPr b="0" lang="en-US" sz="2400" spc="-1" strike="noStrike">
              <a:solidFill>
                <a:srgbClr val="ffffff"/>
              </a:solidFill>
              <a:latin typeface="Garamond"/>
            </a:endParaRPr>
          </a:p>
          <a:p>
            <a:pPr marL="591120" indent="-591120">
              <a:lnSpc>
                <a:spcPct val="90000"/>
              </a:lnSpc>
              <a:spcBef>
                <a:spcPts val="601"/>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rink plenty of water daily</a:t>
            </a:r>
            <a:endParaRPr b="0" lang="en-US" sz="2400" spc="-1" strike="noStrike">
              <a:solidFill>
                <a:srgbClr val="ffffff"/>
              </a:solidFill>
              <a:latin typeface="Garamond"/>
            </a:endParaRPr>
          </a:p>
          <a:p>
            <a:pPr marL="591120" indent="-591120">
              <a:lnSpc>
                <a:spcPct val="90000"/>
              </a:lnSpc>
              <a:spcBef>
                <a:spcPts val="601"/>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actice and promote breastfeeding.</a:t>
            </a:r>
            <a:endParaRPr b="0" lang="en-US" sz="2400" spc="-1" strike="noStrike">
              <a:solidFill>
                <a:srgbClr val="ffffff"/>
              </a:solidFill>
              <a:latin typeface="Garamond"/>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71" name="" descr=""/>
          <p:cNvPicPr/>
          <p:nvPr/>
        </p:nvPicPr>
        <p:blipFill>
          <a:blip r:embed="rId1"/>
          <a:stretch/>
        </p:blipFill>
        <p:spPr>
          <a:xfrm>
            <a:off x="5334120" y="304920"/>
            <a:ext cx="3324240" cy="1419120"/>
          </a:xfrm>
          <a:prstGeom prst="rect">
            <a:avLst/>
          </a:prstGeom>
          <a:ln w="0">
            <a:noFill/>
          </a:ln>
        </p:spPr>
      </p:pic>
      <p:pic>
        <p:nvPicPr>
          <p:cNvPr id="172" name="" descr=""/>
          <p:cNvPicPr/>
          <p:nvPr/>
        </p:nvPicPr>
        <p:blipFill>
          <a:blip r:embed="rId2"/>
          <a:srcRect l="6289" t="0" r="0" b="280"/>
          <a:stretch/>
        </p:blipFill>
        <p:spPr>
          <a:xfrm>
            <a:off x="6400800" y="5105520"/>
            <a:ext cx="2743200" cy="1752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585000" indent="-585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nistry of Health through its Division o Family Health Development implements several nutrition intervention programs and activities as follows:</a:t>
            </a:r>
            <a:endParaRPr b="0" lang="en-US" sz="2400" spc="-1" strike="noStrike">
              <a:solidFill>
                <a:srgbClr val="ffffff"/>
              </a:solidFill>
              <a:latin typeface="Garamond"/>
            </a:endParaRPr>
          </a:p>
          <a:p>
            <a:pPr marL="585000" indent="-5850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upplementary Feeding Programs:</a:t>
            </a:r>
            <a:endParaRPr b="0" lang="en-US" sz="2400" spc="-1" strike="noStrike">
              <a:solidFill>
                <a:srgbClr val="ffffff"/>
              </a:solidFill>
              <a:latin typeface="Garamond"/>
            </a:endParaRPr>
          </a:p>
          <a:p>
            <a:pPr marL="585000" indent="-585000">
              <a:lnSpc>
                <a:spcPct val="90000"/>
              </a:lnSpc>
              <a:spcBef>
                <a:spcPts val="601"/>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H provided full cream milk powder to undernourished children under 7 years of age, pregnant and lactating mothers.</a:t>
            </a:r>
            <a:endParaRPr b="0" lang="en-US" sz="2400" spc="-1" strike="noStrike">
              <a:solidFill>
                <a:srgbClr val="ffffff"/>
              </a:solidFill>
              <a:latin typeface="Garamond"/>
            </a:endParaRPr>
          </a:p>
          <a:p>
            <a:pPr marL="585000" indent="-585000">
              <a:lnSpc>
                <a:spcPct val="90000"/>
              </a:lnSpc>
              <a:spcBef>
                <a:spcPts val="601"/>
              </a:spcBef>
              <a:buClr>
                <a:srgbClr val="ffcc00"/>
              </a:buClr>
              <a:buSzPct val="70000"/>
              <a:buFont typeface="Garamond"/>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nistry of Education provides subsidized milk and free meals to primary school children from poor families.</a:t>
            </a:r>
            <a:endParaRPr b="0" lang="en-US" sz="2400" spc="-1" strike="noStrike">
              <a:solidFill>
                <a:srgbClr val="ffffff"/>
              </a:solidFill>
              <a:latin typeface="Garamond"/>
            </a:endParaRPr>
          </a:p>
          <a:p>
            <a:pPr marL="585000" indent="-585000">
              <a:lnSpc>
                <a:spcPct val="90000"/>
              </a:lnSpc>
              <a:spcBef>
                <a:spcPts val="601"/>
              </a:spcBef>
              <a:buClr>
                <a:srgbClr val="ffcc00"/>
              </a:buClr>
              <a:buSzPct val="70000"/>
              <a:buFont typeface="Garamond"/>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e Ministry of Rural development through its KEMAS programs provide meals for preschool children, and food assistance to poor families. </a:t>
            </a:r>
            <a:endParaRPr b="0" lang="en-US" sz="2400" spc="-1" strike="noStrike">
              <a:solidFill>
                <a:srgbClr val="ffffff"/>
              </a:solidFill>
              <a:latin typeface="Garamond"/>
            </a:endParaRPr>
          </a:p>
          <a:p>
            <a:pPr marL="585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ltiple Nutrient Supplementation.</a:t>
            </a:r>
            <a:endParaRPr b="0" lang="en-US" sz="2800" spc="-1" strike="noStrike">
              <a:solidFill>
                <a:srgbClr val="ffffff"/>
              </a:solidFill>
              <a:latin typeface="Garamond"/>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he Ministry of Health distributes iron, folic acids, vitamin C and B complex to pregnant women during their antenatal check-ups.</a:t>
            </a:r>
            <a:endParaRPr b="0" lang="en-US" sz="2800" spc="-1" strike="noStrike">
              <a:solidFill>
                <a:srgbClr val="ffffff"/>
              </a:solidFill>
              <a:latin typeface="Garamond"/>
            </a:endParaRPr>
          </a:p>
          <a:p>
            <a:pPr marL="335880" indent="-3358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utrition Rehabilitation Program.</a:t>
            </a:r>
            <a:endParaRPr b="0" lang="en-US" sz="2800" spc="-1" strike="noStrike">
              <a:solidFill>
                <a:srgbClr val="ffffff"/>
              </a:solidFill>
              <a:latin typeface="Garamond"/>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Moderately and severely malnourished childen under 7 years of age are given food aid comprising essential items such as rice, anchovies, biscuits, milk powder, cooking oil, sugar and green gram worth RM 60 every month.</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597240" indent="-5972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odine Deficiency disorder Control program. </a:t>
            </a:r>
            <a:endParaRPr b="0" lang="en-US" sz="2800" spc="-1" strike="noStrike">
              <a:solidFill>
                <a:srgbClr val="ffffff"/>
              </a:solidFill>
              <a:latin typeface="Garamond"/>
            </a:endParaRPr>
          </a:p>
          <a:p>
            <a:pPr marL="5972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Several approaches were used towards the effective control of iodine deficiency disorder (IDD) in Sabah, Sarawak and Peninsula Malaysia:</a:t>
            </a:r>
            <a:endParaRPr b="0" lang="en-US" sz="2800" spc="-1" strike="noStrike">
              <a:solidFill>
                <a:srgbClr val="ffffff"/>
              </a:solidFill>
              <a:latin typeface="Garamond"/>
            </a:endParaRPr>
          </a:p>
          <a:p>
            <a:pPr marL="597240" indent="-597240">
              <a:lnSpc>
                <a:spcPct val="80000"/>
              </a:lnSpc>
              <a:spcBef>
                <a:spcPts val="700"/>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gislation requiring that all salt sold in IDD gazetted areas be iodized.</a:t>
            </a:r>
            <a:endParaRPr b="0" lang="en-US" sz="2800" spc="-1" strike="noStrike">
              <a:solidFill>
                <a:srgbClr val="ffffff"/>
              </a:solidFill>
              <a:latin typeface="Garamond"/>
            </a:endParaRPr>
          </a:p>
          <a:p>
            <a:pPr marL="597240" indent="-597240">
              <a:lnSpc>
                <a:spcPct val="80000"/>
              </a:lnSpc>
              <a:spcBef>
                <a:spcPts val="700"/>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ee distribution of iodized slat by government clinics.</a:t>
            </a:r>
            <a:endParaRPr b="0" lang="en-US" sz="2800" spc="-1" strike="noStrike">
              <a:solidFill>
                <a:srgbClr val="ffffff"/>
              </a:solidFill>
              <a:latin typeface="Garamond"/>
            </a:endParaRPr>
          </a:p>
          <a:p>
            <a:pPr marL="597240" indent="-597240">
              <a:lnSpc>
                <a:spcPct val="80000"/>
              </a:lnSpc>
              <a:spcBef>
                <a:spcPts val="700"/>
              </a:spcBef>
              <a:buClr>
                <a:srgbClr val="ffcc00"/>
              </a:buClr>
              <a:buSzPct val="70000"/>
              <a:buFont typeface="Garamond"/>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of iodinators to iodized water supplied by gravity-freed system to villages and boarding schools in rural area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Nutrition Education and Health Promotion</a:t>
            </a:r>
            <a:endParaRPr b="1" lang="en-US" sz="40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 The Ministry of Health through its network of hospitals, health centers and family health clinics as well as at the community level routinely conducts nutrition education and food preparation classe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 The Ministry of Health coordinating an annual Healthy Lifestyles Campaign since 1990 with nutrition either directly or indirectly as the central theme in the “Healthy Eating Campaign” (1998), “Cardiovascular Diseases” (1991), “Food Safety” (1993), “Cancer” (1995) and “Diabetes mellitus” (1996), and “Healthy Family” (200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 The Ministry of Education includes aspects of nutrition in the primary and secondary curriculum e.g. in Physical and Health education and Home Economics subjects.</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 The Ministry of Rural Development through KEMAS carries out classes and home visits involving food and nutrition components.</a:t>
            </a: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5) Professional societies such as the Nutrition Society of Malaysia, Malaysian Dieticians’ Association, Malaysia Association for the Study of Obesity and the Heart foundation of Malaysia are involved in disseminating information on food and nutrition and health to members and general public through talks, seminars, and exhibi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laysia typifies a rapid developing country, which has undergone major demographic and socioeconomic changes since attaining independence in 1957.</a:t>
            </a:r>
            <a:endParaRPr b="0" lang="en-US" sz="3200" spc="-1" strike="noStrike">
              <a:solidFill>
                <a:srgbClr val="ffffff"/>
              </a:solidFill>
              <a:latin typeface="Garamond"/>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ertility rates have declined from 6.94 in 1955 to 2.94 in 2005</a:t>
            </a:r>
            <a:endParaRPr b="0" lang="en-US" sz="3200" spc="-1" strike="noStrike">
              <a:solidFill>
                <a:srgbClr val="ffffff"/>
              </a:solidFill>
              <a:latin typeface="Garamond"/>
            </a:endParaRPr>
          </a:p>
          <a:p>
            <a:pPr marL="329040" indent="-3290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fe expectancy at birth has increased from 48.5 (1955) to 73.1 years (20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From the above overview, it can be seen that Malaysia has a multitude of nutrition and public health intervention programs and activities, aimed at the promoting healthy eating and nutrition of the general population as well as specific vulnerable groups (e.g. the poor, the malnourished, and the children below 7 years of age).</a:t>
            </a:r>
            <a:endParaRPr b="0" lang="en-US" sz="2800" spc="-1" strike="noStrike">
              <a:solidFill>
                <a:srgbClr val="ffffff"/>
              </a:solidFill>
              <a:latin typeface="Garamond"/>
            </a:endParaRPr>
          </a:p>
          <a:p>
            <a:pPr marL="305280" indent="-3052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Whatever future programs plan for promoting healthy eating could be incorporated into the existing programs carried out in the various ministries and agenci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Thank you </a:t>
            </a:r>
            <a:endParaRPr b="0" lang="en-US" sz="5400" spc="-1" strike="noStrike">
              <a:solidFill>
                <a:srgbClr val="ffffff"/>
              </a:solidFill>
              <a:latin typeface="Garamond"/>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Garamond"/>
              </a:rPr>
              <a:t>for your attention.</a:t>
            </a:r>
            <a:endParaRPr b="0" lang="en-US" sz="5400" spc="-1" strike="noStrike">
              <a:solidFill>
                <a:srgbClr val="ffffff"/>
              </a:solidFill>
              <a:latin typeface="Garamond"/>
            </a:endParaRPr>
          </a:p>
        </p:txBody>
      </p:sp>
      <p:pic>
        <p:nvPicPr>
          <p:cNvPr id="187" name="" descr=""/>
          <p:cNvPicPr/>
          <p:nvPr/>
        </p:nvPicPr>
        <p:blipFill>
          <a:blip r:embed="rId1"/>
          <a:stretch/>
        </p:blipFill>
        <p:spPr>
          <a:xfrm>
            <a:off x="5005440" y="1982880"/>
            <a:ext cx="3324240" cy="1419120"/>
          </a:xfrm>
          <a:prstGeom prst="rect">
            <a:avLst/>
          </a:prstGeom>
          <a:ln w="0">
            <a:noFill/>
          </a:ln>
        </p:spPr>
      </p:pic>
      <p:pic>
        <p:nvPicPr>
          <p:cNvPr id="188" name="" descr=""/>
          <p:cNvPicPr/>
          <p:nvPr/>
        </p:nvPicPr>
        <p:blipFill>
          <a:blip r:embed="rId2"/>
          <a:srcRect l="6289" t="0" r="0" b="280"/>
          <a:stretch/>
        </p:blipFill>
        <p:spPr>
          <a:xfrm>
            <a:off x="5105520" y="3938760"/>
            <a:ext cx="3200400" cy="2187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rbanization growth rate at 3% in recent years resulted in 62% of the present population, which estimated as 25.35 millions in 2005, living in urban areas.</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country also experienced epidemiological transition shifts from a situation with predominance of infectious disease to one distinguished by growing prevalence of chronic and degenerative disease</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recent years, coronary heart disease, cancers and stroke constitute the leading causes of mortality, accounting to more than 40% of total death.</a:t>
            </a:r>
            <a:endParaRPr b="0" lang="en-US" sz="2800" spc="-1" strike="noStrike">
              <a:solidFill>
                <a:srgbClr val="ffffff"/>
              </a:solidFill>
              <a:latin typeface="Garamond"/>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2984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Nutritional Statu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ior to the 1960s, severe forms of protein energy malnutrition, anemia and vitamin A deficiency were widespread especially in children and women from poor rural areas (Viswalingam, 1928; Reed, 1940; IMR, 1957; Thomson, 1960).</a:t>
            </a:r>
            <a:endParaRPr b="0" lang="en-US" sz="2800" spc="-1" strike="noStrike">
              <a:solidFill>
                <a:srgbClr val="ffffff"/>
              </a:solidFill>
              <a:latin typeface="Garamond"/>
            </a:endParaRPr>
          </a:p>
          <a:p>
            <a:pPr marL="315360" indent="-3153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nce the 1980s, only mild to moderate forms of protein-energy malnutrition was found in children, manifested as under weight (too thin for age), stunting (too short for age) and wasting (too thin for height).</a:t>
            </a:r>
            <a:endParaRPr b="0" lang="en-US" sz="2800" spc="-1" strike="noStrike">
              <a:solidFill>
                <a:srgbClr val="ffffff"/>
              </a:solidFill>
              <a:latin typeface="Garamond"/>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ch growth deficits are more common in poor households and interior communities that have low access to adequate and nutritious food and health facilities.</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prevalence of underweight and stunting in poor community has been on the decline in recent years.</a:t>
            </a:r>
            <a:endParaRPr b="0" lang="en-US" sz="2800" spc="-1" strike="noStrike">
              <a:solidFill>
                <a:srgbClr val="ffffff"/>
              </a:solidFill>
              <a:latin typeface="Garamond"/>
            </a:endParaRPr>
          </a:p>
          <a:p>
            <a:pPr marL="312120" indent="-31212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agriculture communities, such in rice growing areas, estates, rubber and coconut smallholdings, the prevalence of underweight and stunting among children below 6 years old in the 1980s was 37% and 43% respectively (Chong </a:t>
            </a:r>
            <a:r>
              <a:rPr b="0" i="1" lang="en-US" sz="2800" spc="-1" strike="noStrike">
                <a:solidFill>
                  <a:srgbClr val="ffffff"/>
                </a:solidFill>
                <a:latin typeface="Garamond"/>
              </a:rPr>
              <a:t>et al</a:t>
            </a:r>
            <a:r>
              <a:rPr b="0" lang="en-US" sz="2800" spc="-1" strike="noStrike">
                <a:solidFill>
                  <a:srgbClr val="ffffff"/>
                </a:solidFill>
                <a:latin typeface="Garamond"/>
              </a:rPr>
              <a:t>, 1984).</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 the 1990s, studies found lower underweight, and stunting ranging from 31-33% and 26-27% respectively (Khor and Tee, 1997)</a:t>
            </a:r>
            <a:endParaRPr b="0" lang="en-US" sz="3200" spc="-1" strike="noStrike">
              <a:solidFill>
                <a:srgbClr val="ffffff"/>
              </a:solidFill>
              <a:latin typeface="Garamond"/>
            </a:endParaRPr>
          </a:p>
          <a:p>
            <a:pPr marL="305280" indent="-3052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ccording to the Ministry of Health (MOH) and UNICEF survey nationwide in 1998-2000 among children less than 6 years, 19.2% were underweight (&lt; -2SD weight-for-age) and 16.7% stunted (&lt; -2SD height-for-ag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ased on surveillance data of MOH, the overall prevalence of underweight among children aged below 5 years was 17.3% in 2004 compared to 25% in 1990.</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revalence of overweight in children is much lower than the adult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09T22:11:13Z</dcterms:created>
  <dc:creator> </dc:creator>
  <dc:description/>
  <dc:language>en-US</dc:language>
  <cp:lastModifiedBy>family</cp:lastModifiedBy>
  <dcterms:modified xsi:type="dcterms:W3CDTF">2006-08-14T20:52:45Z</dcterms:modified>
  <cp:revision>11</cp:revision>
  <dc:subject/>
  <dc:title>Fruits and Vegetables for Health The goals and Expected Output </dc:title>
</cp:coreProperties>
</file>