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68D9-1370-426D-A76C-08387CDCC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278D-2D31-40FB-9C7A-53C2B1AD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8F47-ADC4-4A63-92E3-2363D838E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2A6A-3F4D-472A-8039-4F0AE9256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09AD94-42A1-4503-BB8E-CDC2B98F8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9F9476-9585-47B8-97CA-7F031684D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FE246-B99C-4835-86A9-AB60865AF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892411-5BFE-429D-B3DA-F2B185E5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88F80-6E7E-4134-AA95-060B2451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159F9B-9267-401B-9512-1DDF1615D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9EB00-31A3-4F31-8920-41EA4BDEE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3A4B-9E74-4245-9FB3-E5A3BF14D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5C4C28-9F01-4BB3-901C-8DF4DCD87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45388-8221-4B49-9A02-F5422B25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0CA90-85ED-4496-A81C-50F8B5FEF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42160-6B4B-495F-A98B-4C23EDF45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93E405-7F92-4AED-BB03-EC98959D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596-75AD-4329-9133-4D3E4319C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C1C-430F-4C93-98B4-42D6B91F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3BF7-9D5E-4039-AD17-A98A21D1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863B-88E6-406A-A0EE-392D43C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873C-2989-4410-A068-E8CF0FC6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5A4C-32A8-4CEB-8530-DF01B66A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146E-361D-4275-AE4C-E3BFE685B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374D-B363-4BF7-963B-CB59814C5D5A}" type="slidenum"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848F-EDFD-4BD9-8818-3CA59A6C9093}" type="slidenum"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Arial"/>
                <a:ea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Arial"/>
                <a:ea typeface="굴림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  <a:ea typeface="굴림"/>
              </a:rPr>
              <a:t>The development of fruits and vegetables in relation to the </a:t>
            </a:r>
            <a:br>
              <a:rPr sz="4400"/>
            </a:br>
            <a:r>
              <a:rPr b="1" lang="en-US" sz="4400" spc="-1" strike="noStrike">
                <a:solidFill>
                  <a:srgbClr val="e3e3ff"/>
                </a:solidFill>
                <a:latin typeface="Arial"/>
                <a:ea typeface="굴림"/>
              </a:rPr>
              <a:t>Nutrient situation in Vietna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1680" y="266760"/>
            <a:ext cx="9080640" cy="6324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697640" y="639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13640" y="12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58000" y="236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7640" y="3521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05640" y="424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77280" y="5105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913640" y="5537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3e3ff"/>
                </a:solidFill>
                <a:latin typeface="Arial"/>
                <a:ea typeface="굴림"/>
              </a:rPr>
              <a:t> </a:t>
            </a: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굴림"/>
              </a:rPr>
              <a:t>INTRODUCTION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9280" y="1773360"/>
            <a:ext cx="79930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- Fruit and vegetable production in Vietnam has developed a great deal in recent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- This sector has experienced rapid growth because income per hectare from growing fruits is 4-8 times greater than from rice, and markets are expanding. As it has been easy to sell the products, producers have concentrated on quantity rather than quality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- However, this system of production is likely to change, sooner or later, because traditional growing techniques that already applied are often irregular and inadequate, disease-control measures are poor, and markets are chang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Table 1:    Fruit area cultivated in regions in Vietna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1600200"/>
          <a:ext cx="8229600" cy="5610240"/>
        </p:xfrm>
        <a:graphic>
          <a:graphicData uri="http://schemas.openxmlformats.org/drawingml/2006/table">
            <a:tbl>
              <a:tblPr/>
              <a:tblGrid>
                <a:gridCol w="471600"/>
                <a:gridCol w="1596960"/>
                <a:gridCol w="912600"/>
                <a:gridCol w="773280"/>
                <a:gridCol w="747720"/>
                <a:gridCol w="912960"/>
                <a:gridCol w="1064880"/>
                <a:gridCol w="912960"/>
                <a:gridCol w="836640"/>
              </a:tblGrid>
              <a:tr h="824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g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Increased  (%/year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ompared to Gov.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9-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Whole countr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9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46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d River De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8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Mountai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2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1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Central Co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2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6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0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 central Co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8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8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entral High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2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5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-E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6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41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ekong River De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1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8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62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5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4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Table 2.  Area and production of major fruits grown on seven agro-economic zones of VN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600200"/>
          <a:ext cx="8229600" cy="4910040"/>
        </p:xfrm>
        <a:graphic>
          <a:graphicData uri="http://schemas.openxmlformats.org/drawingml/2006/table">
            <a:tbl>
              <a:tblPr/>
              <a:tblGrid>
                <a:gridCol w="444600"/>
                <a:gridCol w="1874880"/>
                <a:gridCol w="947520"/>
                <a:gridCol w="1139760"/>
                <a:gridCol w="382284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Zon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duction (ton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Kinds of fruit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Middle 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2,3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13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lyche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plum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peach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grap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orange,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ap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d River De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7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3,7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lyche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</a:t>
                      </a:r>
                      <a:r>
                        <a:rPr b="1" lang="en-US" sz="1600" spc="-1" strike="noStrike" u="sng">
                          <a:solidFill>
                            <a:srgbClr val="ffffff"/>
                          </a:solidFill>
                          <a:uFillTx/>
                          <a:latin typeface=".VnArial Narrow"/>
                          <a:ea typeface="굴림"/>
                        </a:rPr>
                        <a:t>longan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, bana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Central Co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4,4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1,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Orange, mandarin, pummelo,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 Central Co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8,58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28,6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ango, cashew, pineapple, grape, dragon fruit,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entral Highlan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3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7,4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durian, rambutan, mangosteen, jackfruit, avocado, coffee, cocoa, sweetsop, jujub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-E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7,0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18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Dit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ekong Delt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4,5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276,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orange, longan, sapodilla, mandarin, pumelo, pineapple, durian, mangosteen, rambutan, guava, soursop, papaya, mang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25,0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3442,0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Table 3:  Area, yield and production of vegetable</a:t>
            </a:r>
            <a:br>
              <a:rPr sz="24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  in Vietna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052640"/>
          <a:ext cx="8229600" cy="5805360"/>
        </p:xfrm>
        <a:graphic>
          <a:graphicData uri="http://schemas.openxmlformats.org/drawingml/2006/table">
            <a:tbl>
              <a:tblPr/>
              <a:tblGrid>
                <a:gridCol w="455760"/>
                <a:gridCol w="1469880"/>
                <a:gridCol w="642960"/>
                <a:gridCol w="765000"/>
                <a:gridCol w="781200"/>
                <a:gridCol w="752400"/>
                <a:gridCol w="768600"/>
                <a:gridCol w="915840"/>
                <a:gridCol w="763560"/>
                <a:gridCol w="914400"/>
              </a:tblGrid>
              <a:tr h="580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gion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r" pos="457200"/>
                          <a:tab algn="ctr" pos="2743200"/>
                          <a:tab algn="r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H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Yiel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Quintal/ha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ductio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ompared to Gov. Pla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0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01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Whole country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59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15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43,9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792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863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5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d River Del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60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5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2,8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88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769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3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Mountain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9,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3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39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Central Coa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2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1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3,2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27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41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4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 central Coa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0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1,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2,9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3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50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9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entral Highland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5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7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6,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45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67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6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-East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4,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1,7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4,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16,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6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ekong River Delta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9,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54,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6,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60,2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5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478,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8,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Table 4:   Leading crops of vegetables cultivated </a:t>
            </a:r>
            <a:br>
              <a:rPr sz="2400"/>
            </a:b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in Vietnam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57200" y="1600200"/>
          <a:ext cx="8229600" cy="5210280"/>
        </p:xfrm>
        <a:graphic>
          <a:graphicData uri="http://schemas.openxmlformats.org/drawingml/2006/table">
            <a:tbl>
              <a:tblPr/>
              <a:tblGrid>
                <a:gridCol w="1019160"/>
                <a:gridCol w="701640"/>
                <a:gridCol w="809640"/>
                <a:gridCol w="712800"/>
                <a:gridCol w="809640"/>
                <a:gridCol w="711360"/>
                <a:gridCol w="739800"/>
                <a:gridCol w="687240"/>
                <a:gridCol w="711000"/>
                <a:gridCol w="614520"/>
                <a:gridCol w="71280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abbag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Tomat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ucumb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Legume Veg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hili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ha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ton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Whole countr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2,5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09,3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4,64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24,12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,81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99,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7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6,06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36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1,22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Mountain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,0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45,74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3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65,4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,13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8,3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6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4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38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8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Red river del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9,57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19,3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.39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3,30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7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7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83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 central co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4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4,16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56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,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2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5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1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00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South central co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9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17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46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9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1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-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entral highland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,14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,46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,13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36,64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7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,98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North-Eas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13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0,04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.4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,4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18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7,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4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25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1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9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ekong river delt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,98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2,48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3,59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55,8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,6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75,3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53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,02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2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45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e3ff"/>
                </a:solidFill>
                <a:latin typeface="Arial"/>
                <a:ea typeface="굴림"/>
              </a:rPr>
              <a:t>Table 5: Main areas of commercial vegetable production in Vietnam (examples)</a:t>
            </a:r>
            <a:endParaRPr b="0" lang="en-US" sz="2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1600200"/>
          <a:ext cx="8229600" cy="3176640"/>
        </p:xfrm>
        <a:graphic>
          <a:graphicData uri="http://schemas.openxmlformats.org/drawingml/2006/table">
            <a:tbl>
              <a:tblPr/>
              <a:tblGrid>
                <a:gridCol w="2863800"/>
                <a:gridCol w="1077840"/>
                <a:gridCol w="979560"/>
                <a:gridCol w="1176480"/>
                <a:gridCol w="213192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Locati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Areas (h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Yield (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Produc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(1000 ton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ajor sp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Hanoi (Red River Delt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8,1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8.6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150.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Leafy vegetab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Vinh Long (Mekong River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43.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0.3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0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Mushroom on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Lam Dong (Central Highland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7,31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25.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67.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.VnArial Narrow"/>
                          <a:ea typeface="굴림"/>
                        </a:rPr>
                        <a:t>Cabbage, cauliflower..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3e3ff"/>
                </a:solidFill>
                <a:latin typeface="Arial"/>
                <a:ea typeface="굴림"/>
              </a:rPr>
              <a:t>Orientation of the development of fruits and vegetable in coming period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4360" y="1628280"/>
            <a:ext cx="7488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1. Development of fruits and vegetable must be based on the advantages of natural conditions of the regions in which, specific and diversiform climate should be consider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2. The production must be closely linked with the consumption markets and commodities must have good competitivenes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3. The priority will be given to the production of specific species that have been traditionally cultivated in the region with high quality, productivity and benefi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4. Strengthening the study on varietals improvement, GAP and post harvest to meet the increasing demands of the consumer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2T01:35:11Z</dcterms:created>
  <dc:creator>Customer</dc:creator>
  <dc:description/>
  <dc:language>en-US</dc:language>
  <cp:lastModifiedBy>user</cp:lastModifiedBy>
  <dcterms:modified xsi:type="dcterms:W3CDTF">2006-08-15T00:02:33Z</dcterms:modified>
  <cp:revision>6</cp:revision>
  <dc:subject/>
  <dc:title>Slide 1</dc:title>
</cp:coreProperties>
</file>