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62BA-D123-474D-8F2A-9A024E5D0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8AAC-A92B-4B5E-AF67-10E81D3E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33B3-311C-4A06-B42A-81E28790F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DFC4-6450-4418-9437-FE142CDF5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D04B-7F51-40A3-937A-A0A0F82A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A546-8C60-4FEC-9BFC-E216922B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B414-7DAA-455A-B354-005FF249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3004-49C0-4434-B0AA-EF370564A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5C0D-56B7-4AFF-8B14-37947D1C2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1CAB-3F91-47B0-96DE-5DA93B91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7D9B-D3F9-43CA-B787-D8FB5FD8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0B06-7E99-470D-ACAD-ED1EC11C2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97EC0-7BD7-4661-AB11-021BA2AA0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762120"/>
            <a:ext cx="7924680" cy="236196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990720"/>
            <a:ext cx="7924680" cy="1252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2ec00"/>
                </a:solidFill>
                <a:latin typeface="Comic Sans MS"/>
              </a:rPr>
              <a:t>TROPICAL FRUIT AND VEGETABLE PRODUCTION IN MALAYSIA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3505320"/>
            <a:ext cx="5791320" cy="550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Mohamed</a:t>
            </a:r>
            <a:r>
              <a:rPr b="1" lang="en-US" sz="2800" spc="-1" strike="noStrike">
                <a:solidFill>
                  <a:srgbClr val="ffffff"/>
                </a:solidFill>
                <a:latin typeface="Comic Sans MS"/>
              </a:rPr>
              <a:t> Mohd. Salle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5791320"/>
            <a:ext cx="6705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Malaysian Agricultural Research and Development Instit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391520" y="5334120"/>
            <a:ext cx="1447560" cy="1295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514600" y="4038480"/>
            <a:ext cx="4267080" cy="368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Comic Sans MS"/>
              </a:rPr>
              <a:t>Horticulture Research Cen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990720" y="1295280"/>
            <a:ext cx="7391160" cy="450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 capita consumption of fruits is currently at 39.2kg/y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der 9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Malaysia Plan, fruit production will be increased from 1.59 million mt in 2005 to 2.56 million mt in 2010 (10% p.a.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Self Sufficiency Level  for fruits from current 117 to 138%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14400" y="685800"/>
            <a:ext cx="2438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Fruits (Cont.)</a:t>
            </a:r>
            <a:endParaRPr b="1" lang="en-US" sz="4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914400" y="685800"/>
            <a:ext cx="2438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Fruits (Cont.)</a:t>
            </a:r>
            <a:endParaRPr b="1" lang="en-US" sz="4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1143000"/>
            <a:ext cx="7772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599"/>
              </a:spcBef>
              <a:tabLst>
                <a:tab algn="l" pos="0"/>
                <a:tab algn="l" pos="177840"/>
                <a:tab algn="l" pos="411480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5 Major fruits given emphasized are:-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1981080"/>
            <a:ext cx="8077320" cy="410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343080"/>
                <a:tab algn="l" pos="411480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Pineapp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dffde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9dffde"/>
                </a:solidFill>
                <a:latin typeface="Arial"/>
              </a:rPr>
              <a:t>Ananas comosus</a:t>
            </a:r>
            <a:r>
              <a:rPr b="1" lang="en-US" sz="2400" spc="-1" strike="noStrike">
                <a:solidFill>
                  <a:srgbClr val="9dffde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14,928 h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343080"/>
                <a:tab algn="l" pos="411480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Papay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dffde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9dffde"/>
                </a:solidFill>
                <a:latin typeface="Arial"/>
              </a:rPr>
              <a:t>Carica papaya</a:t>
            </a:r>
            <a:r>
              <a:rPr b="1" lang="en-US" sz="2400" spc="-1" strike="noStrike">
                <a:solidFill>
                  <a:srgbClr val="9dffde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9dffd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– 3,016 h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343080"/>
                <a:tab algn="l" pos="411480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Watermel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df5ff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cdf5ff"/>
                </a:solidFill>
                <a:latin typeface="Arial"/>
              </a:rPr>
              <a:t>Citrullus lanatus</a:t>
            </a:r>
            <a:r>
              <a:rPr b="1" lang="en-US" sz="2400" spc="-1" strike="noStrike">
                <a:solidFill>
                  <a:srgbClr val="cdf5ff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4,443 h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343080"/>
                <a:tab algn="l" pos="411480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Starfruit </a:t>
            </a:r>
            <a:r>
              <a:rPr b="1" lang="en-US" sz="2400" spc="-1" strike="noStrike">
                <a:solidFill>
                  <a:srgbClr val="9dffde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9dffde"/>
                </a:solidFill>
                <a:latin typeface="Arial"/>
              </a:rPr>
              <a:t>Averrhoa carambola</a:t>
            </a:r>
            <a:r>
              <a:rPr b="1" lang="en-US" sz="2400" spc="-1" strike="noStrike">
                <a:solidFill>
                  <a:srgbClr val="9dffde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1,115 h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343080"/>
                <a:tab algn="l" pos="411480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Banan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dffde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9dffde"/>
                </a:solidFill>
                <a:latin typeface="Arial"/>
              </a:rPr>
              <a:t>Musa paridasiaca</a:t>
            </a:r>
            <a:r>
              <a:rPr b="1" lang="en-US" sz="2400" spc="-1" strike="noStrike">
                <a:solidFill>
                  <a:srgbClr val="9dffde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27,602 h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343080"/>
                <a:tab algn="l" pos="411480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Citru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dffde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9dffde"/>
                </a:solidFill>
                <a:latin typeface="Arial"/>
              </a:rPr>
              <a:t>Citrus sinensis</a:t>
            </a:r>
            <a:r>
              <a:rPr b="1" lang="en-US" sz="2400" spc="-1" strike="noStrike">
                <a:solidFill>
                  <a:srgbClr val="9dffde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6,208 h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343080"/>
                <a:tab algn="l" pos="411480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Mangosteen </a:t>
            </a:r>
            <a:r>
              <a:rPr b="1" lang="en-US" sz="2400" spc="-1" strike="noStrike">
                <a:solidFill>
                  <a:srgbClr val="cdf5ff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cdf5ff"/>
                </a:solidFill>
                <a:latin typeface="Arial"/>
              </a:rPr>
              <a:t>Garcinia mangostana</a:t>
            </a:r>
            <a:r>
              <a:rPr b="1" lang="en-US" sz="2400" spc="-1" strike="noStrike">
                <a:solidFill>
                  <a:srgbClr val="cdf5ff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6,633 h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838080" y="1219320"/>
            <a:ext cx="7925040" cy="502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25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343080"/>
                <a:tab algn="l" pos="411480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Duria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dffde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9dffde"/>
                </a:solidFill>
                <a:latin typeface="Arial"/>
              </a:rPr>
              <a:t>Durio zibethinus</a:t>
            </a:r>
            <a:r>
              <a:rPr b="1" lang="en-US" sz="2400" spc="-1" strike="noStrike">
                <a:solidFill>
                  <a:srgbClr val="9dffde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112,119 ha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343080"/>
                <a:tab algn="l" pos="411480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uava </a:t>
            </a:r>
            <a:r>
              <a:rPr b="1" lang="en-US" sz="2400" spc="-1" strike="noStrike">
                <a:solidFill>
                  <a:srgbClr val="9dffde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9dffde"/>
                </a:solidFill>
                <a:latin typeface="Arial"/>
              </a:rPr>
              <a:t>Psidium guajava</a:t>
            </a:r>
            <a:r>
              <a:rPr b="1" lang="en-US" sz="2400" spc="-1" strike="noStrike">
                <a:solidFill>
                  <a:srgbClr val="9dffde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1,827 h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343080"/>
                <a:tab algn="l" pos="411480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ngo </a:t>
            </a:r>
            <a:r>
              <a:rPr b="1" lang="en-US" sz="2400" spc="-1" strike="noStrike">
                <a:solidFill>
                  <a:srgbClr val="9dffde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9dffde"/>
                </a:solidFill>
                <a:latin typeface="Arial"/>
              </a:rPr>
              <a:t>Mangifera indica</a:t>
            </a:r>
            <a:r>
              <a:rPr b="1" lang="en-US" sz="2400" spc="-1" strike="noStrike">
                <a:solidFill>
                  <a:srgbClr val="9dffde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9,389 h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343080"/>
                <a:tab algn="l" pos="411480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Jackfruit </a:t>
            </a:r>
            <a:r>
              <a:rPr b="1" lang="en-US" sz="2400" spc="-1" strike="noStrike">
                <a:solidFill>
                  <a:srgbClr val="9dffde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9dffde"/>
                </a:solidFill>
                <a:latin typeface="Arial"/>
              </a:rPr>
              <a:t>Artocarpus heterophyllus</a:t>
            </a:r>
            <a:r>
              <a:rPr b="1" lang="en-US" sz="2400" spc="-1" strike="noStrike">
                <a:solidFill>
                  <a:srgbClr val="9dffde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2,975 h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343080"/>
                <a:tab algn="l" pos="411480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okong </a:t>
            </a:r>
            <a:r>
              <a:rPr b="1" lang="en-US" sz="2400" spc="-1" strike="noStrike">
                <a:solidFill>
                  <a:srgbClr val="9dffde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9dffde"/>
                </a:solidFill>
                <a:latin typeface="Arial"/>
              </a:rPr>
              <a:t>Lansium domesticum</a:t>
            </a:r>
            <a:r>
              <a:rPr b="1" lang="en-US" sz="2400" spc="-1" strike="noStrike">
                <a:solidFill>
                  <a:srgbClr val="9dffde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36,263 h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343080"/>
                <a:tab algn="l" pos="411480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iku </a:t>
            </a:r>
            <a:r>
              <a:rPr b="1" lang="en-US" sz="2400" spc="-1" strike="noStrike">
                <a:solidFill>
                  <a:srgbClr val="9dffde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9dffde"/>
                </a:solidFill>
                <a:latin typeface="Arial"/>
              </a:rPr>
              <a:t>Manilkara zapota</a:t>
            </a:r>
            <a:r>
              <a:rPr b="1" lang="en-US" sz="2400" spc="-1" strike="noStrike">
                <a:solidFill>
                  <a:srgbClr val="9dffde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1,049 h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343080"/>
                <a:tab algn="l" pos="411480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ambutan </a:t>
            </a:r>
            <a:r>
              <a:rPr b="1" lang="en-US" sz="2400" spc="-1" strike="noStrike">
                <a:solidFill>
                  <a:srgbClr val="9dffde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9dffde"/>
                </a:solidFill>
                <a:latin typeface="Arial"/>
              </a:rPr>
              <a:t>Nephelium lappaceum</a:t>
            </a:r>
            <a:r>
              <a:rPr b="1" lang="en-US" sz="2400" spc="-1" strike="noStrike">
                <a:solidFill>
                  <a:srgbClr val="9dffde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25,423 h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25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343080"/>
                <a:tab algn="l" pos="411480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empedak </a:t>
            </a:r>
            <a:r>
              <a:rPr b="1" lang="en-US" sz="2400" spc="-1" strike="noStrike">
                <a:solidFill>
                  <a:srgbClr val="9dffde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9dffde"/>
                </a:solidFill>
                <a:latin typeface="Arial"/>
              </a:rPr>
              <a:t>Artocarpus champeden</a:t>
            </a:r>
            <a:r>
              <a:rPr b="1" lang="en-US" sz="2400" spc="-1" strike="noStrike">
                <a:solidFill>
                  <a:srgbClr val="9dffde"/>
                </a:solidFill>
                <a:latin typeface="Arial"/>
              </a:rPr>
              <a:t>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11,118 h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14400" y="685800"/>
            <a:ext cx="2438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Fruits (Cont.)</a:t>
            </a:r>
            <a:endParaRPr b="1" lang="en-US" sz="4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181480" y="62485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181480" y="6248520"/>
            <a:ext cx="1524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ineap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4800600"/>
            <a:ext cx="1143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pay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162920" y="3962520"/>
            <a:ext cx="1523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ackfru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10280" y="2743200"/>
            <a:ext cx="1524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itr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00600" y="1600200"/>
            <a:ext cx="15238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ko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95280" y="2209680"/>
            <a:ext cx="11430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30492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FRUITS INDUTRILIZED ZONES (FI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914400" y="457200"/>
            <a:ext cx="3733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VEGETABLES</a:t>
            </a:r>
            <a:endParaRPr b="1" lang="en-US" sz="4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1295280"/>
            <a:ext cx="8077320" cy="509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rea planted with vegetables is about 44,000 h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ion at 637,000 million metric ton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port at USD122.5 millions to mainly Singapor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ort of fresh vegetables at USD401.7 millions, especially temperate vegetabl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1295280"/>
            <a:ext cx="8001000" cy="450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r capita consumption of vegetables is currently at 45.9kg/year (2005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der 9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Malaysia Plan, vegetable production will be increased from 771,300 mt in 2005 to 1.13 million mt in 2010 (8% p.a.)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Self Sufficiency Level  for fruits from current 74 to 108%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14400" y="685800"/>
            <a:ext cx="2438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Vegetables (Cont.)</a:t>
            </a:r>
            <a:endParaRPr b="1" lang="en-US" sz="4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90720" y="1752480"/>
            <a:ext cx="6933960" cy="437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25160" indent="-42516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af mustard - 10,397 h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-42516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ng bean - 3,290 h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-42516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ucumber - 2,870 h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-42516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ater convolvulus - 2,645 h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-42516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inach - 2,474 h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-42516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ili - 2,125 h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-42516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ady’s finger - 1,537 h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-42516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ofah - 1,175 h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-42516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rench bean - 1,112 ha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-425160">
              <a:lnSpc>
                <a:spcPct val="80000"/>
              </a:lnSpc>
              <a:spcBef>
                <a:spcPts val="104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inese kale - 1,108 h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14400" y="685800"/>
            <a:ext cx="2438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Vegetables (Cont.)</a:t>
            </a:r>
            <a:endParaRPr b="1" lang="en-US" sz="4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14400" y="1143000"/>
            <a:ext cx="7772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177840"/>
                <a:tab algn="l" pos="411480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opular vegetables grown in the lowl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400800" y="4876920"/>
            <a:ext cx="2286000" cy="15602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6477120" y="1752480"/>
            <a:ext cx="2209680" cy="146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914400" y="685800"/>
            <a:ext cx="24382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Vegetables (Cont.)</a:t>
            </a:r>
            <a:endParaRPr b="1" lang="en-US" sz="4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14400" y="1143000"/>
            <a:ext cx="7772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177840"/>
                <a:tab algn="l" pos="4114800"/>
                <a:tab algn="l" pos="42926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opular vegetables grown in the highl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904760" y="2057400"/>
            <a:ext cx="5105160" cy="175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bbages - 1,4005 h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ttuce - 994 h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mato - 753 ha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8080" y="304920"/>
            <a:ext cx="57913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STRATEGIES TO ACHIEVING THE TARGETS</a:t>
            </a:r>
            <a:endParaRPr b="1" lang="en-US" sz="4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76520" y="1066680"/>
            <a:ext cx="7238880" cy="491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lnSpc>
                <a:spcPct val="100000"/>
              </a:lnSpc>
              <a:spcBef>
                <a:spcPts val="1874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  <a:tab algn="l" pos="69008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ransforming traditional farming into modern commercial farming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463680">
              <a:lnSpc>
                <a:spcPct val="100000"/>
              </a:lnSpc>
              <a:spcBef>
                <a:spcPts val="1874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  <a:tab algn="l" pos="69008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Land consolidation and rehabilitation of idle lands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463680">
              <a:lnSpc>
                <a:spcPct val="100000"/>
              </a:lnSpc>
              <a:spcBef>
                <a:spcPts val="1874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  <a:tab algn="l" pos="69008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Improved infrastructures with good drainage &amp; irrigation facilities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463680">
              <a:lnSpc>
                <a:spcPct val="100000"/>
              </a:lnSpc>
              <a:spcBef>
                <a:spcPts val="1874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  <a:tab algn="l" pos="69008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pplication of latest technologies and knowledge-based production system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8080" y="533520"/>
            <a:ext cx="533412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Strategies to achieving the targets (continued)</a:t>
            </a:r>
            <a:endParaRPr b="1" lang="en-US" sz="4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1219320"/>
            <a:ext cx="7238880" cy="4855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3680" indent="-463680">
              <a:lnSpc>
                <a:spcPct val="100000"/>
              </a:lnSpc>
              <a:spcBef>
                <a:spcPts val="1874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45720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  <a:tab algn="l" pos="69008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Adequate funds for investment and 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asier access to credits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463680">
              <a:lnSpc>
                <a:spcPct val="100000"/>
              </a:lnSpc>
              <a:spcBef>
                <a:spcPts val="1874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45720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  <a:tab algn="l" pos="69008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Easy access to markets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463680">
              <a:lnSpc>
                <a:spcPct val="100000"/>
              </a:lnSpc>
              <a:spcBef>
                <a:spcPts val="1874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45720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  <a:tab algn="l" pos="690084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ermanent Food Production Parks,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46368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45720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  <a:tab algn="l" pos="69008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ract farms with guaranteed markets and minimum pr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3680" indent="-46368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45720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  <a:tab algn="l" pos="690084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ncourage semi process &amp; processed fruits &amp; vegeta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077320" cy="4946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3520" y="2057400"/>
            <a:ext cx="7924680" cy="380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8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eninsular Malaysia - 131 598 km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st Malaysia - 198 069 km</a:t>
            </a:r>
            <a:r>
              <a:rPr b="1" lang="en-US" sz="32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and 7° North and longitudes 100 and 119° E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verage daily temperature is 21 to 34°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09480" y="457200"/>
            <a:ext cx="3657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INTRODUCTION</a:t>
            </a:r>
            <a:endParaRPr b="1" lang="en-US" sz="4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000080" y="800280"/>
            <a:ext cx="3724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 Black"/>
              </a:rPr>
              <a:t>CONCLUSION</a:t>
            </a:r>
            <a:endParaRPr b="1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8381880" cy="4525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425160" indent="-425160">
              <a:lnSpc>
                <a:spcPct val="80000"/>
              </a:lnSpc>
              <a:spcBef>
                <a:spcPts val="1500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fruit and vegetable industries in Malaysia has the potential to further grow and contribute to the expansion of the agricultural secto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-425160">
              <a:lnSpc>
                <a:spcPct val="80000"/>
              </a:lnSpc>
              <a:spcBef>
                <a:spcPts val="1500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hird National Agricultural Policy has stressed that fruit and vegetable production be upgraded to meet the growing domestic and export market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25160" indent="-425160">
              <a:lnSpc>
                <a:spcPct val="80000"/>
              </a:lnSpc>
              <a:spcBef>
                <a:spcPts val="1500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Production is expected to increase through expansion in cultivation area as well as improvement in productivity per unit area of cultivation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000080" y="1066680"/>
            <a:ext cx="38005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 Black"/>
              </a:rPr>
              <a:t>Conclusion (continued)</a:t>
            </a:r>
            <a:endParaRPr b="1" lang="en-US" sz="32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798560"/>
            <a:ext cx="8229600" cy="361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411480" indent="-4114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vances in research especially in breeding, production systems, pest management, post-harvest technology as well as on cropping systems that are environment friendly are needed in order for the vegetable and fruit industries to achieve the Ninth Malaysia Development Plan targ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276720" y="4952880"/>
            <a:ext cx="4800600" cy="609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5029200"/>
            <a:ext cx="5486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OR YOUR KIND ATTEN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33520" y="1143000"/>
            <a:ext cx="8076960" cy="4946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576760" y="1295280"/>
            <a:ext cx="3567240" cy="4572000"/>
          </a:xfrm>
          <a:prstGeom prst="rect">
            <a:avLst/>
          </a:prstGeom>
          <a:ln w="19080">
            <a:solidFill>
              <a:srgbClr val="000066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457200" y="1523880"/>
            <a:ext cx="5257800" cy="396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82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478800" indent="-4788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umidity around 80%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8800" indent="-4788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vaporation  3 - 4 mm/d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8800" indent="-4788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verage precipitation  2 500 mm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78800" indent="-4788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y length  about 12.5 h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533520"/>
            <a:ext cx="35053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Introduction (continued)</a:t>
            </a:r>
            <a:endParaRPr b="1" lang="en-US" sz="4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1371600"/>
            <a:ext cx="8458200" cy="4572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6858000"/>
            <a:ext cx="59436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RICULTURE IN MALAYS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1828800"/>
            <a:ext cx="8001000" cy="288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8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laysia has 4.06 million hectares of agricultural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8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80% of it cultivated with industrial crops such as oil palm, rubber, cocoa and cocon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09480" y="533520"/>
            <a:ext cx="5715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AGRICULTURE IN MALAYSIA</a:t>
            </a:r>
            <a:endParaRPr b="1" lang="en-US" sz="4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04920" y="1371600"/>
            <a:ext cx="8458200" cy="4572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520" y="1676520"/>
            <a:ext cx="7543800" cy="3810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riculture contributes 8.5% to Gross Domestic Products (GDP) of Malaysia worth USD 5.6 billions in 200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1% comes from industrial crops and 39% from agricultural food cro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609480"/>
            <a:ext cx="4648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Agriculture in Malaysia (continued)</a:t>
            </a:r>
            <a:endParaRPr b="1" lang="en-US" sz="4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371600"/>
            <a:ext cx="8458200" cy="4572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981080"/>
            <a:ext cx="7696440" cy="332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port earnings from agricultural sector is about USD 10 billions in 200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8.6% comes from palm oil, sawn logs and timber and only 21.4% comes from food s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609480"/>
            <a:ext cx="4648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Agriculture in Malaysia (continued)</a:t>
            </a:r>
            <a:endParaRPr b="1" lang="en-US" sz="4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04920" y="1371600"/>
            <a:ext cx="8458200" cy="457200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1905120"/>
            <a:ext cx="7467480" cy="2836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laysia import about USD3.5 billion worth of food each y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urrent deficit in agriculture, especially food bill is about USD1.35 billion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609480"/>
            <a:ext cx="4648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Agriculture in Malaysia (continued)</a:t>
            </a:r>
            <a:endParaRPr b="1" lang="en-US" sz="4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1371600"/>
            <a:ext cx="8381880" cy="495288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76520"/>
            <a:ext cx="8077320" cy="450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National Agricultural Policy (1998-2010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griculture recognized as third engine of  growth after manufacturing and service se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inth Malaysia Development Plan  (2006-2010) where agriculture and balance of trade are reemphasiz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914400" y="609480"/>
            <a:ext cx="6553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GOVERNMENT POLICIES ON  AGRICULTURE</a:t>
            </a:r>
            <a:endParaRPr b="1" lang="en-US" sz="4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38080" y="1295280"/>
            <a:ext cx="7925040" cy="514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rea planted with fruits is about 310,000 h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duction at 1.831 million metric ton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99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port at USD127.75 millions to mainly Singapore, Hong Kong and Middle East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ort of fresh fruits at USD174 million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14400" y="457200"/>
            <a:ext cx="3733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FRUITS</a:t>
            </a:r>
            <a:endParaRPr b="1" lang="en-US" sz="4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1T01:21:33Z</dcterms:created>
  <dc:creator>Dr.Shukor:iezzam</dc:creator>
  <dc:description/>
  <dc:language>en-US</dc:language>
  <cp:lastModifiedBy>prog03</cp:lastModifiedBy>
  <dcterms:modified xsi:type="dcterms:W3CDTF">2006-08-13T06:49:26Z</dcterms:modified>
  <cp:revision>124</cp:revision>
  <dc:subject>Mesyuarat Pegawai² Penyelidik Hortikultur 1_2002</dc:subject>
  <dc:title>OUR MISSION </dc:title>
</cp:coreProperties>
</file>