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48D1-8153-4454-A32B-E5F5C795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F81A-3EBD-4EAA-B436-F0580E4F0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F543-B869-4132-94A4-9CE42CA0A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C524-C210-4A3D-B18A-E4ECDD7F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115A-D870-47FD-BD21-8AEE2066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45DC-1D4B-4AE4-9746-FA6CD69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2DFE-B707-455A-B078-CD06E05A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130-71E4-482A-AD5E-42A99189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E10F-AF46-4B1F-9711-66A6A5A4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983-069D-4C19-9603-B6BF26E5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6B4-1236-4AF6-81EA-00CE81CA1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296-E6DE-4977-8BB7-48839E6DF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4C1C-7B3F-4E9A-862F-02417D57A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Interseeding Corn Soybean and Sorghum Soybean</a:t>
            </a:r>
            <a:br>
              <a:rPr sz="4400"/>
            </a:br>
            <a:br>
              <a:rPr sz="44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2 de Febrero 2007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g. Agr. Roberto A Peire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rn Soybean 20 Feb 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533520"/>
            <a:ext cx="67820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594360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n Soybean 20 Feb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rghum Soybean 20 Feb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rgum Soybean 20 Feb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47640" y="1600200"/>
            <a:ext cx="6048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1:54:59Z</dcterms:created>
  <dc:creator>PEIRETTI ROBERTO</dc:creator>
  <dc:description/>
  <dc:language>en-US</dc:language>
  <cp:lastModifiedBy>Staberg, Petra (AGPM)</cp:lastModifiedBy>
  <dcterms:modified xsi:type="dcterms:W3CDTF">2010-03-11T14:04:05Z</dcterms:modified>
  <cp:revision>4</cp:revision>
  <dc:subject/>
  <dc:title>Intersiembras Maiz-Soja y Sorgo-Soja  Campo Experimental Nidera 22 de Febrero 2007</dc:title>
</cp:coreProperties>
</file>