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D106-8A35-4ACE-A622-0ED046B616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70 million in 2004-2006 to 915 million in 2008 to 1020 million in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511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0428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79792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13864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79792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13864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6985080" cy="13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0428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6840" y="4511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00428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79792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3864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684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79792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13864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6985080" cy="13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0428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956720" y="6602400"/>
            <a:ext cx="1203120" cy="260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282B-ED50-43A6-83EB-EEA354C90A84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527240" y="4437000"/>
            <a:ext cx="1741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tate of</a:t>
            </a:r>
            <a:br>
              <a:rPr sz="1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 Insecurit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58280" y="6048360"/>
            <a:ext cx="572760" cy="5778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413920" y="5972040"/>
            <a:ext cx="663480" cy="692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203640" y="-4680"/>
            <a:ext cx="4321080" cy="260280"/>
          </a:xfrm>
          <a:prstGeom prst="rect">
            <a:avLst/>
          </a:prstGeom>
          <a:solidFill>
            <a:srgbClr val="0066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onomic and Social Development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480960" y="-833400"/>
            <a:ext cx="3816360" cy="180036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90600" y="115920"/>
            <a:ext cx="2859120" cy="684000"/>
            <a:chOff x="390600" y="115920"/>
            <a:chExt cx="2859120" cy="68400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390600" y="118800"/>
              <a:ext cx="67608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1212840" y="115920"/>
              <a:ext cx="2036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ood and Agriculture Organization of the United N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7515360" y="0"/>
            <a:ext cx="1671480" cy="68580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7481160" y="4344840"/>
            <a:ext cx="1741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tate of</a:t>
            </a:r>
            <a:br>
              <a:rPr sz="1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 Insecurit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6"/>
          <a:stretch/>
        </p:blipFill>
        <p:spPr>
          <a:xfrm>
            <a:off x="7645320" y="5911920"/>
            <a:ext cx="573120" cy="5778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7"/>
          <a:stretch/>
        </p:blipFill>
        <p:spPr>
          <a:xfrm>
            <a:off x="8400960" y="5835600"/>
            <a:ext cx="66384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480960" y="-833400"/>
            <a:ext cx="3816360" cy="180036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2203920"/>
            <a:ext cx="5326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0"/>
            <a:ext cx="4321080" cy="260280"/>
          </a:xfrm>
          <a:prstGeom prst="rect">
            <a:avLst/>
          </a:prstGeom>
          <a:solidFill>
            <a:srgbClr val="0066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onomic and Social Development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93760" y="4481640"/>
            <a:ext cx="1741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tate of</a:t>
            </a:r>
            <a:br>
              <a:rPr sz="1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 Insecurit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58280" y="6048360"/>
            <a:ext cx="572760" cy="57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413920" y="5972040"/>
            <a:ext cx="663480" cy="692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515360" y="0"/>
            <a:ext cx="16714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481160" y="4344840"/>
            <a:ext cx="1741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tate of</a:t>
            </a:r>
            <a:br>
              <a:rPr sz="1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 Insecurit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645320" y="5911920"/>
            <a:ext cx="573120" cy="577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8400960" y="5835600"/>
            <a:ext cx="663840" cy="692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390600" y="115920"/>
            <a:ext cx="2859120" cy="684000"/>
            <a:chOff x="390600" y="115920"/>
            <a:chExt cx="2859120" cy="684000"/>
          </a:xfrm>
        </p:grpSpPr>
        <p:pic>
          <p:nvPicPr>
            <p:cNvPr id="62" name="" descr=""/>
            <p:cNvPicPr/>
            <p:nvPr/>
          </p:nvPicPr>
          <p:blipFill>
            <a:blip r:embed="rId7"/>
            <a:stretch/>
          </p:blipFill>
          <p:spPr>
            <a:xfrm>
              <a:off x="390600" y="118800"/>
              <a:ext cx="67608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212840" y="115920"/>
              <a:ext cx="2036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ood and Agriculture Organization of the United N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3720" y="1975680"/>
            <a:ext cx="5757840" cy="17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ate of </a:t>
            </a:r>
            <a:br>
              <a:rPr sz="3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od Insecurity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the World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94920" y="3715920"/>
            <a:ext cx="5977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crisis: impac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Economic and Social Development Department</a:t>
            </a:r>
            <a:br>
              <a:rPr sz="1800"/>
            </a:b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ood and Agriculture Organization of the United Nations</a:t>
            </a:r>
            <a:br>
              <a:rPr sz="1800"/>
            </a:b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Rome, Octo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00"/>
                </a:solidFill>
                <a:latin typeface="Arial"/>
              </a:rPr>
              <a:t>Coping mechanisms come at a cost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4040" y="2724120"/>
          <a:ext cx="6923160" cy="3441600"/>
        </p:xfrm>
        <a:graphic>
          <a:graphicData uri="http://schemas.openxmlformats.org/drawingml/2006/table">
            <a:tbl>
              <a:tblPr/>
              <a:tblGrid>
                <a:gridCol w="1873080"/>
                <a:gridCol w="2448000"/>
                <a:gridCol w="2602080"/>
              </a:tblGrid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economic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participation in economic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leisure; maternal care may suf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 of community cohesion; family break-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ption smo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of ass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row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r loss of future earning poten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consumption patte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from expensive, more nutrient-rich fo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penditure on health, education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nutr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radation of health status and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2735280" y="22827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22766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4480" y="6148440"/>
            <a:ext cx="44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The State of Food Insecurity in the World, FAO (200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00"/>
                </a:solidFill>
                <a:latin typeface="Arial"/>
              </a:rPr>
              <a:t>Towards eliminating hung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5896080"/>
            <a:ext cx="1871640" cy="5047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ing h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7600" y="3159000"/>
            <a:ext cx="0" cy="23767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28880" y="3159000"/>
            <a:ext cx="0" cy="252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46360" y="287172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15080" y="286560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12880" y="359244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12880" y="419256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12880" y="479268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12880" y="539280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81600" y="35924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81600" y="419256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1600" y="479268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81600" y="539280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3240" y="2289240"/>
            <a:ext cx="1945440" cy="459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ck 1: strengthen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ivity and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59440" y="2289240"/>
            <a:ext cx="1820520" cy="45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ck 2: provide dire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ccess to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0520" y="34416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8480" y="40305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2880" y="46339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1600" y="519264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ience &amp;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7680" y="34527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6000" y="402912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h trans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68240" y="4643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48440" y="5164200"/>
            <a:ext cx="21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 to seeds, fertilizer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farm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95400" y="5637240"/>
            <a:ext cx="723960" cy="530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17920" y="5484960"/>
            <a:ext cx="72576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00"/>
                </a:solidFill>
                <a:latin typeface="Arial"/>
              </a:rPr>
              <a:t>Towards eliminating hung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76520" y="5896080"/>
            <a:ext cx="1871640" cy="5047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ing h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97600" y="3159000"/>
            <a:ext cx="0" cy="23767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28880" y="3159000"/>
            <a:ext cx="0" cy="252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46360" y="287172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15080" y="286560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12880" y="359244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12880" y="419256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12880" y="479268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12880" y="539280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81600" y="35924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81600" y="419256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81600" y="479268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81600" y="539280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3240" y="2289240"/>
            <a:ext cx="1945440" cy="459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ck 1: strengthen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ivity and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59440" y="2289240"/>
            <a:ext cx="1820520" cy="45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ck 2: provide dire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ccess to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0520" y="34416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48480" y="40305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2880" y="46339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1600" y="519264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ience &amp;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7680" y="34527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6000" y="402912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h trans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68240" y="4643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48440" y="5164200"/>
            <a:ext cx="21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 to seeds, fertilizer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farm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895400" y="5637240"/>
            <a:ext cx="723960" cy="530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17920" y="5484960"/>
            <a:ext cx="725760" cy="67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3009960" y="3251160"/>
          <a:ext cx="97956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9960" y="3251160"/>
                    <a:ext cx="979560" cy="12016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00"/>
                </a:solidFill>
                <a:latin typeface="Arial"/>
              </a:rPr>
              <a:t>Towards eliminating hung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76520" y="5896080"/>
            <a:ext cx="1871640" cy="5047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ing h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97600" y="3159000"/>
            <a:ext cx="0" cy="23767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28880" y="3159000"/>
            <a:ext cx="0" cy="252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46360" y="287172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15080" y="286560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12880" y="359244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12880" y="419256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12880" y="479268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12880" y="5392800"/>
            <a:ext cx="432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81600" y="35924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81600" y="419256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81600" y="479268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81600" y="539280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3240" y="2289240"/>
            <a:ext cx="1945440" cy="459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ck 1: strengthen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ivity and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59440" y="2289240"/>
            <a:ext cx="1820520" cy="45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ck 2: provide dire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ccess to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0520" y="34416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48480" y="40305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2880" y="46339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1600" y="519264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ience &amp;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87680" y="34527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56000" y="402912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h trans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68240" y="4643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48440" y="5164200"/>
            <a:ext cx="21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 to seeds, fertilizer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farm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895400" y="5637240"/>
            <a:ext cx="723960" cy="530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417920" y="5484960"/>
            <a:ext cx="725760" cy="674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987640" y="4619520"/>
            <a:ext cx="10080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3009960" y="3251160"/>
          <a:ext cx="979560" cy="120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09960" y="3251160"/>
                    <a:ext cx="979560" cy="12016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635280" y="2419200"/>
            <a:ext cx="36720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State of Food Insecurity in the Worl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international referenc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 global hunger iss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vailable on FAO‘s website in English, French, Spanish, Russian, Arabic and Chine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6600"/>
                </a:solidFill>
                <a:uFillTx/>
                <a:latin typeface="Arial"/>
              </a:rPr>
              <a:t>www.fao.org/publications/sofi</a:t>
            </a:r>
            <a:r>
              <a:rPr b="1" lang="en-US" sz="2000" spc="-1" strike="noStrike" u="sng">
                <a:solidFill>
                  <a:srgbClr val="3366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46040" y="2228760"/>
          <a:ext cx="2816280" cy="40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2228760"/>
                    <a:ext cx="2816280" cy="4035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39528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00"/>
                </a:solidFill>
                <a:latin typeface="Arial"/>
              </a:rPr>
              <a:t>For mor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Some basic terms and definition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ists when all people, at all times, have physical, social and economic access to sufficient, safe and nutritious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nouris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scribes 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 status of persons, whose food intake regularly provides less than their minimum energ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nger Targ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re outlined in two main agreements – the World Food Summit Target and the Millennium 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90320" y="6370560"/>
            <a:ext cx="652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The State of Food Insecurity in the World, FAO (2009). Value for 2009 is a proj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503360"/>
            <a:ext cx="698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Trends in world hu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3040" y="1944720"/>
          <a:ext cx="6386400" cy="43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944720"/>
                    <a:ext cx="638640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Where do the hungry live?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6080" y="6232680"/>
            <a:ext cx="44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The State of Food Insecurity in the World, FAO (200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51000" y="1954080"/>
          <a:ext cx="5549760" cy="42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954080"/>
                    <a:ext cx="554976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The FAO Hunger Map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1880" y="2322360"/>
            <a:ext cx="6675480" cy="369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393480" y="6107040"/>
            <a:ext cx="44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The State of Food Insecurity in the World, FAO (200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Reasons for the increase of hunger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5699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6-2008 food pric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lobal economic slow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fficient investment in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 increase is not a result of poor crop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The Food Price Crisi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3000" y="6270480"/>
            <a:ext cx="44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The State of Food Insecurity in the World, FAO (200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50920" y="1886040"/>
            <a:ext cx="5473440" cy="4351320"/>
            <a:chOff x="250920" y="1886040"/>
            <a:chExt cx="5473440" cy="4351320"/>
          </a:xfrm>
        </p:grpSpPr>
        <p:graphicFrame>
          <p:nvGraphicFramePr>
            <p:cNvPr id="128" name=""/>
            <p:cNvGraphicFramePr/>
            <p:nvPr/>
          </p:nvGraphicFramePr>
          <p:xfrm>
            <a:off x="468360" y="1886040"/>
            <a:ext cx="5256000" cy="435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886040"/>
                      <a:ext cx="5256000" cy="435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 rot="16200000">
              <a:off x="-811080" y="3621240"/>
              <a:ext cx="240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Arial"/>
                </a:rPr>
                <a:t>Percentage change, 2006-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Global crisis hits developing countrie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2349360"/>
            <a:ext cx="6635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capital inflows (remittances, aid, F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expor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policy options due to global nature of crisis: e.g. no currency devaluation or external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Low investment in agricultur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4200" y="6308640"/>
            <a:ext cx="35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Creditor Reporting System, OECD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2060640"/>
          <a:ext cx="5688000" cy="43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5688000" cy="43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2:04:05Z</dcterms:created>
  <dc:creator>Drechsler, Denis (ESAC)</dc:creator>
  <dc:description/>
  <dc:language>en-US</dc:language>
  <cp:lastModifiedBy>Drechsler, Denis (ESAC)</cp:lastModifiedBy>
  <dcterms:modified xsi:type="dcterms:W3CDTF">2009-12-16T09:07:59Z</dcterms:modified>
  <cp:revision>66</cp:revision>
  <dc:subject/>
  <dc:title>Slide 1</dc:title>
</cp:coreProperties>
</file>