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1330-7E1A-408B-A02E-7318266B01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70 million in 2004-2006 to 915 million in 2008 to 1020 million in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840" y="4511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00428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9792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13864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684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9792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13864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6985080" cy="13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0428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6840" y="4511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00428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79792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38640" y="2387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684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79792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138640" y="4511520"/>
            <a:ext cx="222912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94920" y="1557360"/>
            <a:ext cx="6985080" cy="13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04280" y="4511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1410480"/>
            <a:ext cx="6985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04280" y="2387520"/>
            <a:ext cx="337824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4511520"/>
            <a:ext cx="6923160" cy="193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956720" y="6602400"/>
            <a:ext cx="1203120" cy="260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D649-55CC-4081-8014-56DDB2BC5ED5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527240" y="4437000"/>
            <a:ext cx="1741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tate of</a:t>
            </a:r>
            <a:br>
              <a:rPr sz="1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 Insecurit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58280" y="6048360"/>
            <a:ext cx="572760" cy="5778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413920" y="5972040"/>
            <a:ext cx="663480" cy="692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203640" y="-4680"/>
            <a:ext cx="4321080" cy="260280"/>
          </a:xfrm>
          <a:prstGeom prst="rect">
            <a:avLst/>
          </a:prstGeom>
          <a:solidFill>
            <a:srgbClr val="0066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epartamento de Desarrollo Económico y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480960" y="-833400"/>
            <a:ext cx="3816360" cy="180036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515360" y="0"/>
            <a:ext cx="1671480" cy="6858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7645320" y="5911920"/>
            <a:ext cx="573120" cy="5778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8400960" y="5835600"/>
            <a:ext cx="663840" cy="692280"/>
          </a:xfrm>
          <a:prstGeom prst="rect">
            <a:avLst/>
          </a:prstGeom>
          <a:ln w="0">
            <a:noFill/>
          </a:ln>
        </p:spPr>
      </p:pic>
      <p:grpSp>
        <p:nvGrpSpPr>
          <p:cNvPr id="11" name=""/>
          <p:cNvGrpSpPr/>
          <p:nvPr/>
        </p:nvGrpSpPr>
        <p:grpSpPr>
          <a:xfrm>
            <a:off x="247680" y="96840"/>
            <a:ext cx="2859120" cy="824040"/>
            <a:chOff x="247680" y="96840"/>
            <a:chExt cx="2859120" cy="824040"/>
          </a:xfrm>
        </p:grpSpPr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247680" y="99720"/>
              <a:ext cx="67608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1069920" y="96840"/>
              <a:ext cx="2036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Organización de las Naciones Unidas para la Agricultura y la Ali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7481880" y="4294080"/>
            <a:ext cx="143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l estado de l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egurida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limentaria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n 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80960" y="-833400"/>
            <a:ext cx="3816360" cy="180036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9640" y="2203920"/>
            <a:ext cx="5326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0"/>
            <a:ext cx="4321080" cy="260280"/>
          </a:xfrm>
          <a:prstGeom prst="rect">
            <a:avLst/>
          </a:prstGeom>
          <a:solidFill>
            <a:srgbClr val="0066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epartamento de Desarrollo Económico y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93760" y="4481640"/>
            <a:ext cx="1741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tate of</a:t>
            </a:r>
            <a:br>
              <a:rPr sz="1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 Insecurit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58280" y="6048360"/>
            <a:ext cx="572760" cy="577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413920" y="5972040"/>
            <a:ext cx="663480" cy="692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515360" y="0"/>
            <a:ext cx="1671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481880" y="4344840"/>
            <a:ext cx="1434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l estado de la </a:t>
            </a:r>
            <a:br>
              <a:rPr sz="14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eguridad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limentaria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n 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645320" y="5911920"/>
            <a:ext cx="573120" cy="577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8400960" y="5835600"/>
            <a:ext cx="663840" cy="6922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247680" y="96840"/>
            <a:ext cx="2859120" cy="824040"/>
            <a:chOff x="247680" y="96840"/>
            <a:chExt cx="2859120" cy="824040"/>
          </a:xfrm>
        </p:grpSpPr>
        <p:pic>
          <p:nvPicPr>
            <p:cNvPr id="63" name="" descr=""/>
            <p:cNvPicPr/>
            <p:nvPr/>
          </p:nvPicPr>
          <p:blipFill>
            <a:blip r:embed="rId7"/>
            <a:stretch/>
          </p:blipFill>
          <p:spPr>
            <a:xfrm>
              <a:off x="247680" y="99720"/>
              <a:ext cx="67608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069920" y="96840"/>
              <a:ext cx="2036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Organización de las Naciones Unidas para la Agricultura y la Ali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3360" y="1990080"/>
            <a:ext cx="6093000" cy="17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estado de la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seguridad alimentaria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n el mundo</a:t>
            </a:r>
            <a:endParaRPr b="0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95280" y="3715920"/>
            <a:ext cx="71294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isis económicas: repercusiones y enseñanzas extraí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5f5f5f"/>
                </a:solidFill>
                <a:latin typeface="Arial"/>
              </a:rPr>
              <a:t>Departamento de Desarrollo Económico y Social</a:t>
            </a:r>
            <a:br>
              <a:rPr sz="1600"/>
            </a:br>
            <a:r>
              <a:rPr b="0" lang="es-ES" sz="1600" spc="-1" strike="noStrike">
                <a:solidFill>
                  <a:srgbClr val="5f5f5f"/>
                </a:solidFill>
                <a:latin typeface="Arial"/>
              </a:rPr>
              <a:t>Organización de las Naciones Unidas para la Agricultura y la Alimentación</a:t>
            </a:r>
            <a:br>
              <a:rPr sz="1600"/>
            </a:b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Roma, </a:t>
            </a:r>
            <a:r>
              <a:rPr b="0" lang="es-ES" sz="1600" spc="-1" strike="noStrike">
                <a:solidFill>
                  <a:srgbClr val="5f5f5f"/>
                </a:solidFill>
                <a:latin typeface="Arial"/>
              </a:rPr>
              <a:t>octubre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00"/>
                </a:solidFill>
                <a:latin typeface="Arial"/>
              </a:rPr>
              <a:t>La crisis tiene un coste elevado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4040" y="2724120"/>
          <a:ext cx="6923160" cy="3441600"/>
        </p:xfrm>
        <a:graphic>
          <a:graphicData uri="http://schemas.openxmlformats.org/drawingml/2006/table">
            <a:tbl>
              <a:tblPr/>
              <a:tblGrid>
                <a:gridCol w="1873440"/>
                <a:gridCol w="2448000"/>
                <a:gridCol w="2601720"/>
              </a:tblGrid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evas actividades económ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participación en actividades económ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 de ocio;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idados maternos pueden verse perjudic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rdida de cohesión de la comunidad; rupturas familia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5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para facilitar el 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 de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ta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 o pérdida de potencial de ingresos futu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o de los patrones de 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cación de los patrones dietéticos en favor de alimentos más económ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 de los gastos en salud, educación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nutr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radación del estado de salud y la 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735640" y="2282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49240" y="22766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6280" y="6308640"/>
            <a:ext cx="477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El estado de la inseguridad alimentaria en el mundo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, FAO (2009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00"/>
                </a:solidFill>
                <a:latin typeface="Arial"/>
              </a:rPr>
              <a:t>Hacia la eliminación del hambr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7000" y="5896080"/>
            <a:ext cx="1871640" cy="5047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abar con el hamb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88080" y="3159000"/>
            <a:ext cx="0" cy="23767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19360" y="3159000"/>
            <a:ext cx="0" cy="252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36840" y="287172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05200" y="286560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3360" y="35924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03360" y="419256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03360" y="479268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03360" y="539280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72080" y="35924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72080" y="419256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72080" y="479268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72080" y="539280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3000" y="2289240"/>
            <a:ext cx="2261160" cy="45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ía 1: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umentar l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roductividad y los 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49560" y="2289240"/>
            <a:ext cx="2186280" cy="45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ía 2: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roporcionar acceso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irecto a los al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2640" y="344160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20160" y="4030560"/>
            <a:ext cx="60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y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440" y="4633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8200" y="5173560"/>
            <a:ext cx="98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iencia y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nologí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2280" y="3452760"/>
            <a:ext cx="15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yuda alimenta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3480" y="4029120"/>
            <a:ext cx="21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ansferencias de efecti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87160" y="4643280"/>
            <a:ext cx="16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es de segurida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1680" y="5164200"/>
            <a:ext cx="23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so a semillas,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rtilizantes y equipo agríco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85880" y="5637240"/>
            <a:ext cx="723960" cy="53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08400" y="5484960"/>
            <a:ext cx="72540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00"/>
                </a:solidFill>
                <a:latin typeface="Arial"/>
              </a:rPr>
              <a:t>Hacia la eliminación del hambr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7000" y="5896080"/>
            <a:ext cx="1871640" cy="5047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abar con el hamb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88080" y="3159000"/>
            <a:ext cx="0" cy="23767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19360" y="3159000"/>
            <a:ext cx="0" cy="252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36840" y="287172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05200" y="286560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03360" y="35924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03360" y="419256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03360" y="479268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03360" y="539280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72080" y="35924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72080" y="419256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72080" y="479268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72080" y="539280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3000" y="2289240"/>
            <a:ext cx="2261160" cy="45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ía 1: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umentar l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roductividad y los 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49560" y="2289240"/>
            <a:ext cx="2186280" cy="45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ía 2: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roporcionar acceso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irecto a los al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2640" y="344160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20160" y="4030560"/>
            <a:ext cx="60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y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440" y="4633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8200" y="5173560"/>
            <a:ext cx="98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iencia y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nologí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2280" y="3452760"/>
            <a:ext cx="15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yuda alimenta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73480" y="4029120"/>
            <a:ext cx="21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ansferencias de efecti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87160" y="4643280"/>
            <a:ext cx="16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es de segurida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1680" y="5164200"/>
            <a:ext cx="23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so a semillas,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rtilizantes y equipo agríco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85880" y="5637240"/>
            <a:ext cx="723960" cy="530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208400" y="5484960"/>
            <a:ext cx="725400" cy="67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782800" y="3357720"/>
          <a:ext cx="9986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2800" y="3357720"/>
                    <a:ext cx="998640" cy="1079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00"/>
                </a:solidFill>
                <a:latin typeface="Arial"/>
              </a:rPr>
              <a:t>Hacia la eliminación del hambre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7000" y="5896080"/>
            <a:ext cx="1871640" cy="5047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abar con el hamb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88080" y="3159000"/>
            <a:ext cx="0" cy="23767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19360" y="3159000"/>
            <a:ext cx="0" cy="252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36840" y="287172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05200" y="2865600"/>
            <a:ext cx="360360" cy="360360"/>
          </a:xfrm>
          <a:prstGeom prst="ellipse">
            <a:avLst/>
          </a:prstGeom>
          <a:solidFill>
            <a:srgbClr val="bbe0e3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360" y="35924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03360" y="419256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03360" y="479268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03360" y="539280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72080" y="359244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72080" y="419256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72080" y="479268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72080" y="539280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3000" y="2289240"/>
            <a:ext cx="2261160" cy="45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ía 1: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umentar l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roductividad y los ingr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49560" y="2289240"/>
            <a:ext cx="2186280" cy="459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ía 2: 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roporcionar acceso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irecto a los al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2640" y="344160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20160" y="4030560"/>
            <a:ext cx="60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y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440" y="4633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8200" y="5173560"/>
            <a:ext cx="98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iencia y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nologí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02280" y="3452760"/>
            <a:ext cx="15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yuda alimenta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3480" y="4029120"/>
            <a:ext cx="211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ansferencias de efecti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87160" y="4643280"/>
            <a:ext cx="16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es de segurida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1680" y="5164200"/>
            <a:ext cx="23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so a semillas,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rtilizantes y equipo agríco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85880" y="5637240"/>
            <a:ext cx="723960" cy="530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208400" y="5484960"/>
            <a:ext cx="725400" cy="67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2778120" y="4581360"/>
          <a:ext cx="1033560" cy="10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8120" y="4581360"/>
                    <a:ext cx="10335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2782800" y="3357720"/>
          <a:ext cx="99864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2800" y="3357720"/>
                    <a:ext cx="998640" cy="1079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635280" y="2419200"/>
            <a:ext cx="36720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l estado de la inseguridad alimentaria en 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referencia internacional sobr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hambre en el mundo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sponible en la página web de la FAO en inglés, francés, español, ruso, árabe y ch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6600"/>
                </a:solidFill>
                <a:uFillTx/>
                <a:latin typeface="Arial"/>
              </a:rPr>
              <a:t>www.fao.org/publications/sofi/es</a:t>
            </a:r>
            <a:r>
              <a:rPr b="1" lang="en-US" sz="2000" spc="-1" strike="noStrike" u="sng">
                <a:solidFill>
                  <a:srgbClr val="3366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6600"/>
                </a:solidFill>
                <a:latin typeface="Arial"/>
              </a:rPr>
              <a:t>Por mayor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01480" y="2060640"/>
          <a:ext cx="29386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060640"/>
                    <a:ext cx="2938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Términos y definiciones básica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6923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idad alimentar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 cuando todas las personas, en todo momento, tienen acceso físico, social y económico a una cantidad suficiente de alimentos inocuos y nutr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nutrició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situación de personas cuyo insumo regular de alimentos no cubre sus necesidades energéticas mí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objetivos en la lucha contra el hambr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 recogen en dos acuerdos básicos: la meta de la Cumbre Mundial sobre la Alimentación y los Objetivos de Desarrollo del Mil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1600" y="6308640"/>
            <a:ext cx="638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El estado de la inseguridad alimentaria en el mundo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, FAO (2009). </a:t>
            </a: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Valor para 2009 etimad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503360"/>
            <a:ext cx="698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00"/>
                </a:solidFill>
                <a:latin typeface="Arial"/>
              </a:rPr>
              <a:t>Tendencia de hambre en 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73040" y="1944720"/>
          <a:ext cx="6386400" cy="43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944720"/>
                    <a:ext cx="638640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24000" y="191628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00"/>
                </a:solidFill>
                <a:latin typeface="Arial"/>
              </a:rPr>
              <a:t>¿Dónde viven las personas hambrientas?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9640" y="1989000"/>
          <a:ext cx="59040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590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6280" y="6381720"/>
            <a:ext cx="477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El estado de la inseguridad alimentaria en el mundo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, FAO (2009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00"/>
                </a:solidFill>
                <a:latin typeface="Arial"/>
              </a:rPr>
              <a:t>El Mapa del Hambre de la FAO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2349360"/>
          <a:ext cx="692280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6922800" cy="3641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41920" y="6165720"/>
            <a:ext cx="477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El estado de la inseguridad alimentaria en el mundo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, FAO (2009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Causas del aumento del hambre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387520"/>
            <a:ext cx="5699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risis de los precios ali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risis económica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alta de inversiones en agri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El aumento del hambre no es el resultado de malas cose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00"/>
                </a:solidFill>
                <a:latin typeface="Arial"/>
              </a:rPr>
              <a:t>La crisis de los precios alimentarios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52360" y="1916280"/>
            <a:ext cx="5904000" cy="4252680"/>
            <a:chOff x="252360" y="1916280"/>
            <a:chExt cx="5904000" cy="4252680"/>
          </a:xfrm>
        </p:grpSpPr>
        <p:sp>
          <p:nvSpPr>
            <p:cNvPr id="130" name=""/>
            <p:cNvSpPr/>
            <p:nvPr/>
          </p:nvSpPr>
          <p:spPr>
            <a:xfrm rot="16200000">
              <a:off x="-864720" y="3565080"/>
              <a:ext cx="25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Arial"/>
                </a:rPr>
                <a:t>Variación porcentual, 2006-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539640" y="1916280"/>
            <a:ext cx="5616720" cy="42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1916280"/>
                      <a:ext cx="5616720" cy="42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684360" y="1916280"/>
              <a:ext cx="180000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86280" y="6165720"/>
            <a:ext cx="477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El estado de la inseguridad alimentaria en el mundo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, FAO (2009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00"/>
                </a:solidFill>
                <a:latin typeface="Arial"/>
              </a:rPr>
              <a:t>La crisis golpea los países en desarrollo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2349360"/>
            <a:ext cx="6635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semp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ores entradas de capital 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mesas de los emigrantes, ayuda al desarrollo, inversiones extranjeras direct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os oportunidades de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cas opciones de política debido a la naturaleza global de la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6985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00"/>
                </a:solidFill>
                <a:latin typeface="Arial"/>
              </a:rPr>
              <a:t>Falta de inversiones en la agricultura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01760" y="1973160"/>
          <a:ext cx="619128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1973160"/>
                    <a:ext cx="619128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86280" y="6308640"/>
            <a:ext cx="477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i="1" lang="es-ES" sz="1100" spc="-1" strike="noStrike">
                <a:solidFill>
                  <a:srgbClr val="000000"/>
                </a:solidFill>
                <a:latin typeface="Arial"/>
              </a:rPr>
              <a:t>El estado de la inseguridad alimentaria en el mundo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, FAO (2009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2:04:05Z</dcterms:created>
  <dc:creator>Drechsler, Denis (ESAC)</dc:creator>
  <dc:description/>
  <dc:language>en-US</dc:language>
  <cp:lastModifiedBy>Drechsler, Denis (ESAC)</cp:lastModifiedBy>
  <dcterms:modified xsi:type="dcterms:W3CDTF">2010-01-15T13:48:06Z</dcterms:modified>
  <cp:revision>8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25040144</vt:r8>
  </property>
  <property fmtid="{D5CDD505-2E9C-101B-9397-08002B2CF9AE}" pid="3" name="_AuthorEmail">
    <vt:lpwstr>Cristian.MoralesOpazo@fao.org</vt:lpwstr>
  </property>
  <property fmtid="{D5CDD505-2E9C-101B-9397-08002B2CF9AE}" pid="4" name="_AuthorEmailDisplayName">
    <vt:lpwstr>MoralesOpazo, Cristian (ESTG)</vt:lpwstr>
  </property>
  <property fmtid="{D5CDD505-2E9C-101B-9397-08002B2CF9AE}" pid="5" name="_EmailSubject">
    <vt:lpwstr>Spanish translation for online presentation</vt:lpwstr>
  </property>
  <property fmtid="{D5CDD505-2E9C-101B-9397-08002B2CF9AE}" pid="6" name="_PreviousAdHocReviewCycleID">
    <vt:r8>258728524</vt:r8>
  </property>
</Properties>
</file>