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91C-5321-437D-B8AD-80567CF1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02F-3EF8-479B-91A8-3969B5A2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BE3-7488-4594-9FC9-C85A7B03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020-0CB9-4F48-94A6-96920D1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FF23-EBAD-4203-AC09-5C3476EB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5BD-AE1E-47CC-BC1B-01FD07CC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54B-F9D3-4D83-9824-0CE39B1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E180-C08B-40E1-9EE9-B4990C6B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ED66-59CC-4609-ABF5-B2BA5EF1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110C-D7D8-4D8B-95B7-AAC7110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8304-FCAA-4803-ABE9-B30CF55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700-C9E1-4767-B5EF-9BE4765B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233-3235-4E3E-9128-4B020C3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8207-124E-4386-A373-343DE24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4D1-CFF8-41BA-BE5B-FEA9664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CB2-EF02-4E24-BEEF-EE79E6CE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F9B0-3CAB-4A01-A9EF-FB95B4F7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B10-E814-451C-89EE-C7D5FDE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58C-73A3-48DD-A467-E2D4402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F85-68A8-4F10-9A87-F896660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D17-E0E4-4B25-A457-E7A3602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CE8-70B1-4BA9-9ACA-3938F9D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692-679F-423B-9535-93A62D1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CD6-D0EA-4218-9CCF-8D1C5AD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D276-BE2E-4B82-9E3E-DAB9B25A345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904-4688-4899-B2C5-0841825D32D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279080"/>
            <a:ext cx="8396280" cy="51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7) Advocacy for mountain countries (IMD/ Establishment of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lliance of mountainous coun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5) Strengthening capacity of national negotiation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Creation of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rain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ustain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11) Risk and Natural Hazards/disaste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Natural Hazards – nowa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Hydrom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wareness ra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echnical Infra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72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What adaptation measures are needed to be taken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al approac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gency (CoE, MoE) Preparedness to N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ter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e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w they can be reflected in International process?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aboration of NAPA (preparation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 of National Communication to the Secretari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of NAPA to co-fun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55:58Z</dcterms:created>
  <dc:creator>Admin</dc:creator>
  <dc:description/>
  <dc:language>en-US</dc:language>
  <cp:lastModifiedBy>Camp</cp:lastModifiedBy>
  <dcterms:modified xsi:type="dcterms:W3CDTF">2011-11-10T10:42:24Z</dcterms:modified>
  <cp:revision>15</cp:revision>
  <dc:subject/>
  <dc:title>Слайд 1</dc:title>
</cp:coreProperties>
</file>