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F9E-86D4-4690-ADD8-6D627C86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9A8-7EB7-4CE6-A122-825ED855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BF2-D0E5-43F5-9234-49E99480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A6C-C9B9-4F7D-B6A4-B5BBD9FA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6D08-01C6-4F3C-ADEF-AB738EE4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B7E9-0264-4D10-9CE8-3ED7357F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FBEA-4983-4E44-96B3-13B0E5E2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FC46-1044-4A4D-913A-5FFC8EBA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5CD1-2219-4880-95A8-9F0AC9A5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0233-0A24-4108-BDFC-D8B6AC8A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D136-7324-4585-8F8D-1F8F772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AA9-E8F8-4DE7-AADD-5D0780F0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30D2-CF7C-4391-A6DE-AD7B1193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67EC-AAFD-4782-90D6-7E6FE2FD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C593-E062-4E72-809C-A0862126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E40D-6696-4122-AF3A-1AE75525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0D6A-D8DD-48B2-8E1F-80710512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934-90A6-4039-9C26-DDFF7B8B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F7B-A804-4367-A128-600EE84A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34F-EA76-44DF-A6B6-83EA4221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77D-5389-4B2B-A8FC-AA516CF3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A2B-990A-4D83-993D-F75B5CA7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AFA-0328-4FD7-BCA4-01FDA64F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A60-ACF5-4345-A966-228EFFE0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0BEC-C8F3-4DD0-B264-A1781A0B5EF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3297-2C3C-4CB6-872E-F9ABAFF5FD5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095480"/>
            <a:ext cx="8435880" cy="55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(5) Strengthening capacity of national negotiator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Creation of competent grou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Regularly Trainings for negotia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Sustainability of the gro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(7) Advocacy for mountain countries (International Mountai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Establishment of Alliance of mountain countries at COP 1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(11) Risk and Natural Hazards/disaster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Natural Hazards – nowad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Strengthening of Hydromet potent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Awareness raising in Natural Disasters and C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Reconstruction of Technical Infrastru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limate Change Impacts, Adaptation, and Development in Mountain Region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ushanbe, Tajikistan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18440" cy="72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What adaptation measures are needed to be taken?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toral approac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ergency Situation (CoE, Mo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ater manag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ri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es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limate Change Impacts, Adaptation, and Development in Mountain Region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ushanbe, Tajikistan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How they can be reflected in International process?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velopment of NAP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bmission  of National Communication to the Secretari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bmission of NAPA to co-fun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limate Change Impacts, Adaptation, and Development in Mountain Region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ushanbe, Tajikistan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55:58Z</dcterms:created>
  <dc:creator>Admin</dc:creator>
  <dc:description/>
  <dc:language>en-US</dc:language>
  <cp:lastModifiedBy>Camp</cp:lastModifiedBy>
  <dcterms:modified xsi:type="dcterms:W3CDTF">2011-11-10T11:46:02Z</dcterms:modified>
  <cp:revision>22</cp:revision>
  <dc:subject/>
  <dc:title>Слайд 1</dc:title>
</cp:coreProperties>
</file>