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68FD8-7805-427E-9B43-34C8510FDD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95280" y="391248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F2051-228E-425D-8F52-7D5768928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5280" y="3912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12320" y="3912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9A207-F7F6-4853-8A87-1BC6FCE99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720" y="141264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60160" y="141264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95280" y="3912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720" y="3912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60160" y="3912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09463-2546-4386-AC2E-C2B4843E77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979280" y="-360"/>
            <a:ext cx="716436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95280" y="3912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96D2B-6AA4-4665-AA51-ED1B79681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12320" y="3912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" y="391248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5280" y="391248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5280" y="3912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12320" y="3912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77720" y="141264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60160" y="141264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5280" y="3912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77720" y="3912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60160" y="3912480"/>
            <a:ext cx="264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54F83-EF0F-4AE8-B4F1-4DCEEFE80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61F2-019F-4A74-B7BF-369C980C27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BFA7-4AAD-4590-81FE-AFB8D230B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979280" y="-360"/>
            <a:ext cx="7164360" cy="454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0007E-CEE6-49EC-9A33-8C566962C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95280" y="3912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90B3-9DE7-42D5-87A3-49298025E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12320" y="391248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0DFB-D797-467E-ADAC-2C03954E0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1412640"/>
            <a:ext cx="401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95280" y="3912480"/>
            <a:ext cx="8229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27E45-23E9-4130-8B65-88C38C30C6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7da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28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52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5280" y="1412640"/>
            <a:ext cx="8229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5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5208-1E05-460B-81C9-3AD660DCBC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a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52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da9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7925040" cy="42037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6365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um on How to Feed the World in 2050, FAO, Rome Oct.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228600"/>
            <a:ext cx="9144000" cy="173916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griculture for 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ward a new paradigm and guidelines for succ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A sequel to the World Development Report 20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I. Current crises and resurgence of demands on agriculture for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4724280" cy="4190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02240" y="1219320"/>
            <a:ext cx="4541760" cy="42703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gnant yields are associated with low fertilizer use and limited irrigated area. Understanding the determinants of yield growth (technology adoption) is a major research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9143C-456B-444B-94B5-148D5E4346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I. Current crises and resurgence of demands on agriculture for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2868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risis 3: World poverty still overwhelmingly rur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2438280"/>
            <a:ext cx="4605480" cy="3103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419720" y="2438280"/>
            <a:ext cx="4724280" cy="3125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% of world poor are still rural, and rural poverty is rising in SS-Africa and South Asia: Key to meet MDG#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0CAD6-BE49-4D51-A1ED-60456850E6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I. Current crises and resurgence of demands on agriculture for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1066680"/>
            <a:ext cx="9144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risis 4: Rural-urban disparities are increas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6095880"/>
            <a:ext cx="9144000" cy="82548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ising urban-rural income disparities in India and China as sources of political 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4583160" y="2209680"/>
            <a:ext cx="4560840" cy="33879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2209680"/>
            <a:ext cx="456084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B2DA0-15B0-4461-8A7A-A31DBA442AF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I. Current crises and resurgence of demands on agriculture for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066680"/>
            <a:ext cx="9144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risis 5: Rising resource scarcities and unmet demands for environmental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ate of deforestation is accelerating in LAC and SS-Africa. Conservation agriculture, rapidly expanding worldwide, is barely adopted in Africa due to lower yields and high labor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605628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8779B-35EB-4DDC-BE5A-2A695AC52A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II. Emergence of a new paradigm of agriculture for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58680" y="1371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0666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se crises put new demands on using agriculture for development, but with no possible return to the classical paradigm for two reas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” is no longer just industrialization (1950-60) but multidimensional (1970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wth, poverty/hunger, vulnerability, equity, sustain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tructural context for agricultural growth has changed drast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ization, integrated value chains, technological and institutional innovations, environmental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CBCE0-E497-48D3-A07A-F2288BBED35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II. Emergence of a new paradigm of agriculture for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58680" y="1371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06668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ce emergence of a new paradigm of Agriculture for Development to replace the classical paradi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features of the emerging paradi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Because development is multidimension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-wins exist, bu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de-off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exp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ority sett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t the nat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Need use both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com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agricultural growth to achieve these multiple dim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6937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 of smallholder far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wo barriers to overcom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inued under-use of agriculture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clear how to succeed in using agriculture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C0A4-73B6-4B81-BC51-8776EF0A7AF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V. Why the continued under-use of agriculture for development?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143000" y="990720"/>
          <a:ext cx="7010280" cy="5395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90720"/>
                    <a:ext cx="7010280" cy="53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0" y="6400800"/>
            <a:ext cx="9144000" cy="45972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structural transformations in A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1BE1A-DB53-4B9C-9622-821FE71225B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V. Why the continued under-use of agriculture for development?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0" y="1371600"/>
          <a:ext cx="456084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45608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0" y="5670720"/>
            <a:ext cx="9144000" cy="119124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agriculture is still under- and mis-used in Africa and Latin America: Labor is pushed out of agriculture without associated growth in GDP per cap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83160" y="1371600"/>
            <a:ext cx="4560840" cy="417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187E7-474A-4C0A-BFDC-1DCBA027287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V. Why the continued under-use of agriculture for development?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1143000"/>
            <a:ext cx="914400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Resources are being committed to a Green Revolution for Africa (NEPAD, G8, WB, AGRA), but will it succe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What we know: It must be different from the Asian GR becaus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5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Heterogeneity of condi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decentralization and par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5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ultiple effectiv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a multisectoral appro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cc52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mall countr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eed regional co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7A220-DE63-44F0-A148-1104846166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V. Why the continued under-use of agriculture for development?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143000"/>
            <a:ext cx="9144000" cy="53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t must be different from the Asian Green Rev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In addi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 beyond cere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include high valu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deal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stainability and environmental friendlin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yond the seed-fertilizer-water package toward agro-ecology, agro-forestry, and conservation agricul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dress brand new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ergy prices, climate change, integrated value chains, glob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mus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cceed urgent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iven the rapid changes in the world food situation and distress of rural pop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sw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tinued under-use because we do not know enough about how to do it, and are not adequately equipped to do it success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3BF31-D855-4CBE-AD26-3FA5374A021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88560" y="-360"/>
            <a:ext cx="71643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ahoma"/>
              </a:rPr>
              <a:t>Outline of the argu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. Historical perspective on agriculture in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. Current crises and resurgence of demands on agriculture for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II. Emergence of a new paradigm of agriculture for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V. Why the continued under-use of agriculture for developmen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. Conditions for success in using agriculture for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 algn="just">
              <a:lnSpc>
                <a:spcPct val="90000"/>
              </a:lnSpc>
              <a:spcBef>
                <a:spcPts val="799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. The way forw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387A-7CCD-4142-9A75-C41E593009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V. Conditions for success in using agriculture for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143000"/>
            <a:ext cx="914400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Proposition: Two conditions for success in using agriculture fo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dition 1: Need to re-conceptualize the role of agriculture for development in the new paradi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Recogniz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plementarities and trade-off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the multiple functions of agriculture for develop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country priorities and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sign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agricultural growth to achieve development beyond market fo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eventual growth opportunity costs (e.g., debate on farm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Redefine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ole of the st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support of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to set social priorities among conflicting functions, overcome market failures, regulate, and engage in private-public partnership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56CE-FD72-4888-BB41-5D1C80F7806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V. Conditions for success in using agriculture for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143000"/>
            <a:ext cx="8915400" cy="50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Condition 2: Need to re-design approaches for effective implementation in the new paradig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new approaches and internalize lessons for scaling up successes in policy and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rive lessons from past mistakes and identify impacts in new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Fix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over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ructure for the state to fulfill its new functions for agri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esign ministries of agriculture to use growth for development with a territorial perspective and a role for producer organiz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Develo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ti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using agriculture for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t the local (decentralization), national, and internationa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Key role of the FAO as source of world expertise in using agriculture for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7C5EC-67B0-4E5E-8480-9C8A8998133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VI. Conclusion: The way forward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143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1066680"/>
            <a:ext cx="9144000" cy="52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ve developments in support of using agriculture for development: Grounds for optimis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Greater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public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awarenes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of importance of agriculture for development, including poverty, gender,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resourc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committed by governments, foreign aid, new players, private sect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More attention from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politicians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o food crises, hunge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But can we deliver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Do we know how to do i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Do we have the capacity to do it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8417B-A737-4A32-BC52-1D34C409D2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VI. Conclusion: The way forward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143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1066680"/>
            <a:ext cx="9144000" cy="55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lines for a successful use of agriculture for development: Grounds for concer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The biggest mistake we can make is believe that it i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eas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to do and that we already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know enough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to do i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Effor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must be massive, concerted, and sustained to succeed: commitments must be met and continu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Short term political concerns 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food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must be translated into long term concerns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with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agriculture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New approaches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must be devised and evaluated(WDR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cc52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Capacity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 to effectively use the resource committed is the main limiting factor to be addressed (FAO)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72FB9-3876-403F-8DBB-3955C479656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VI. Conclusion: The way forward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114300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066680"/>
            <a:ext cx="9144000" cy="542664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ing the emerging paradigm of Agriculture for Development succe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essential but still uncerta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 major challenge and opportunity that the international community must addr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Arial"/>
              </a:rPr>
              <a:t>alain@berkeley.edu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F57A4-A8AB-44E2-BBC4-EBD92AF4239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. Historical perspective on agriculture in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58680" y="1371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106668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ll defined classical paradigm of the role of agriculture in development in the 196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ed in histor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stern experience, Asian mira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ed in theory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iculture on the road to industr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ed in empirical regularities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icultural 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nded in behavior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iculture responsive to incen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F435E-33A4-4FAC-9BCB-57D2DE22EC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. Historical perspective on agriculture in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58680" y="1371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37160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es, but many implementation failures in the 1970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ban bi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Import Substitution Industrial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rural developm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meet broadened development objectives flaw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6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erestimated state capacity to 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6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estimated emerging private sector ro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6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dermined cooperative producer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failures in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riculture-bas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96516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complex, insufficient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3310-6450-45B8-BF70-FAFCF1EF9D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. Historical perspective on agriculture in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58680" y="1371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0666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ding to 20 years of neglect of agriculture under the Washington Consensus (1985-200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just the macro-fundamentals but n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a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ialize throug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econom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ot through agri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cale th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e of the st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 agriculture despite pervasive market fail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ral pover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hrough transfers instead of rising autonomous inco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2286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vestment in agriculture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ourage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y low international commodity prices (OECD farm policies) and adverse environmental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55F3B-658F-423C-9928-D25316184C9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. Historical perspective on agriculture in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1658880"/>
          <a:ext cx="4572000" cy="382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58880"/>
                    <a:ext cx="4572000" cy="38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glect of agriculture: Decline of the shares of agriculture in public expenditures and in overseas development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572000" y="1752480"/>
            <a:ext cx="4572000" cy="3581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F19AB-D66E-420F-B21B-AEA10FDF02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I. Current crises and resurgence of demands on agriculture for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58680" y="1371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1219320"/>
            <a:ext cx="9144000" cy="52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66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llowing 20 years of neglect, five crises pu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griculture back on the development agenda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e global food and financial crises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: Rising food insecurity and hung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2)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Stagnation of productivity growth in Sub-Saharan Africa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gricult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3)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World povert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still overwhelmingly rura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4) Increasing rural-urban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income dispariti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5) Rising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resource scarcity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and unmet demands for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environmental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EF3A3-7E5B-4B14-B706-60F3F73BF17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I. Current crises and resurgence of demands on agriculture for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58680" y="1371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1066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119240"/>
            <a:ext cx="9144000" cy="60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risis 1: Global food and financial cris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world food situation has changed drastically in the last three yea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This implies three major policy shif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give greater attention to the supply side of agricultu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achieve sustainable productivity gains and greater resilience to sh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raise again the issue of food security as a policy conce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Combine trade, national food reserves, level of food self-sufficiency, social safety nets, and role of subsistence far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ed focus not only on chronic poverty but also on vulnerabi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price and income shocks for net buyers of food: “new poor” and risks of irreversibilities in assets, health, and education due to shoc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70760-20C9-4767-B2A0-ED5475CD77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5200"/>
                </a:solidFill>
                <a:latin typeface="Times New Roman"/>
              </a:rPr>
              <a:t>II. Current crises and resurgence of demands on agriculture for development</a:t>
            </a:r>
            <a:endParaRPr b="0" lang="en-US" sz="3600" spc="-1" strike="noStrike">
              <a:solidFill>
                <a:srgbClr val="cc52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4952880" cy="42022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6035760"/>
            <a:ext cx="8986680" cy="825480"/>
          </a:xfrm>
          <a:prstGeom prst="rect">
            <a:avLst/>
          </a:prstGeom>
          <a:solidFill>
            <a:srgbClr val="f4e2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a expansion has historically been the main source of output growth in cereal production in SS-Africa, but largely exhaus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1069920"/>
            <a:ext cx="92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risis 2: Stagnant productivity growth in SS-Africa agricul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2900-47A7-430B-AA45-633DC57065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05:42:42Z</dcterms:created>
  <dc:creator>d-bezemer</dc:creator>
  <dc:description/>
  <dc:language>en-US</dc:language>
  <cp:lastModifiedBy>Matuschke, Ira (ESAG)</cp:lastModifiedBy>
  <cp:lastPrinted>2009-10-07T21:28:58Z</cp:lastPrinted>
  <dcterms:modified xsi:type="dcterms:W3CDTF">2009-10-12T06:25:54Z</dcterms:modified>
  <cp:revision>1101</cp:revision>
  <dc:subject/>
  <dc:title>Agriculture, Pro-poor Growth and Rural Development</dc:title>
</cp:coreProperties>
</file>