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27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</p:sldMasterIdLst>
  <p:sldIdLst>
    <p:sldId id="256" r:id="rId24"/>
    <p:sldId id="257" r:id="rId25"/>
    <p:sldId id="258" r:id="rId26"/>
    <p:sldId id="259" r:id="rId27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" Target="slides/slide1.xml"/><Relationship Id="rId25" Type="http://schemas.openxmlformats.org/officeDocument/2006/relationships/slide" Target="slides/slide2.xml"/><Relationship Id="rId26" Type="http://schemas.openxmlformats.org/officeDocument/2006/relationships/slide" Target="slides/slide3.xml"/><Relationship Id="rId27" Type="http://schemas.openxmlformats.org/officeDocument/2006/relationships/slide" Target="slides/slide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1" name="Picture 2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2000"/>
          </a:bodyPr>
          <a:p>
            <a:pPr marL="77076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117972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58904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9980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2406600" indent="-52560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30" name="Picture 3" descr=""/>
          <p:cNvPicPr/>
          <p:nvPr/>
        </p:nvPicPr>
        <p:blipFill>
          <a:blip r:embed="rId2"/>
          <a:stretch/>
        </p:blipFill>
        <p:spPr>
          <a:xfrm>
            <a:off x="9674280" y="76320"/>
            <a:ext cx="274644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380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93276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25172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58256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9" name="Picture 3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380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93276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25172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58256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40" name="Picture 3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19" name="Picture 2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57" name="Picture 2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1269720" y="2768760"/>
            <a:ext cx="10464840" cy="57276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3000"/>
          </a:bodyPr>
          <a:p>
            <a:pPr marL="61380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1" marL="93276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2" marL="125172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3" marL="1582560" indent="-41292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4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5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lvl="6" marL="1901520" indent="-413280">
              <a:spcBef>
                <a:spcPts val="22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96" name="Picture 3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10242720" y="38160"/>
            <a:ext cx="2746080" cy="101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34" name="Picture 2" descr=""/>
          <p:cNvPicPr/>
          <p:nvPr/>
        </p:nvPicPr>
        <p:blipFill>
          <a:blip r:embed="rId1"/>
          <a:stretch/>
        </p:blipFill>
        <p:spPr>
          <a:xfrm>
            <a:off x="-825480" y="0"/>
            <a:ext cx="14668560" cy="97534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3"/>
          <p:cNvSpPr/>
          <p:nvPr/>
        </p:nvSpPr>
        <p:spPr>
          <a:xfrm>
            <a:off x="-606600" y="330120"/>
            <a:ext cx="850752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cece"/>
                </a:solidFill>
                <a:latin typeface="Gill Sans"/>
              </a:rPr>
              <a:t>Resources, Limits, Challenges</a:t>
            </a:r>
            <a:endParaRPr b="0" lang="en-US" sz="40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ecece"/>
                </a:solidFill>
                <a:latin typeface="Gill Sans"/>
              </a:rPr>
              <a:t>Cary Fowler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ecece"/>
                </a:solidFill>
                <a:latin typeface="Gill Sans"/>
              </a:rPr>
              <a:t>Global Crop Diversity Trust</a:t>
            </a:r>
            <a:endParaRPr b="0" lang="en-US" sz="25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6" name="Rectangle 4"/>
          <p:cNvSpPr/>
          <p:nvPr/>
        </p:nvSpPr>
        <p:spPr>
          <a:xfrm>
            <a:off x="496800" y="9245520"/>
            <a:ext cx="546120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ource: Global Crop Diversity Trust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7" name="Picture 1" descr=""/>
          <p:cNvPicPr/>
          <p:nvPr/>
        </p:nvPicPr>
        <p:blipFill>
          <a:blip r:embed="rId1"/>
          <a:stretch/>
        </p:blipFill>
        <p:spPr>
          <a:xfrm>
            <a:off x="-101520" y="-76320"/>
            <a:ext cx="13177800" cy="9880560"/>
          </a:xfrm>
          <a:prstGeom prst="rect">
            <a:avLst/>
          </a:prstGeom>
          <a:ln w="0">
            <a:noFill/>
          </a:ln>
        </p:spPr>
      </p:pic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1269720" y="-360"/>
            <a:ext cx="10464840" cy="1676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Gill Sans"/>
              </a:rPr>
              <a:t>The storm ahead.....</a:t>
            </a:r>
            <a:endParaRPr b="0" lang="en-US" sz="7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1701720" y="1955880"/>
            <a:ext cx="9576000" cy="67816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rmAutofit fontScale="95000"/>
          </a:bodyPr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Energy Limitations and Instability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Water Limitation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limate change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Biodiversity los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Constraints to farmland expansion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Population growt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Development pressures 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Under-investment in agricultural research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-421920">
              <a:spcBef>
                <a:spcPts val="229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ill Sans"/>
              </a:rPr>
              <a:t>Low stockpiles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marL="627120" indent="0">
              <a:spcBef>
                <a:spcPts val="22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269720" y="520560"/>
            <a:ext cx="10464840" cy="243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Distributions of (summer) growing season temperature 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Gill Sans"/>
              </a:rPr>
              <a:t>against climate model predictions</a:t>
            </a:r>
            <a:endParaRPr b="0" lang="en-US" sz="30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1" name="Picture 2" descr=""/>
          <p:cNvPicPr/>
          <p:nvPr/>
        </p:nvPicPr>
        <p:blipFill>
          <a:blip r:embed="rId1"/>
          <a:stretch/>
        </p:blipFill>
        <p:spPr>
          <a:xfrm>
            <a:off x="-76320" y="3205080"/>
            <a:ext cx="6959880" cy="5219640"/>
          </a:xfrm>
          <a:prstGeom prst="rect">
            <a:avLst/>
          </a:prstGeom>
          <a:ln w="0">
            <a:noFill/>
          </a:ln>
        </p:spPr>
      </p:pic>
      <p:pic>
        <p:nvPicPr>
          <p:cNvPr id="842" name="Picture 3" descr=""/>
          <p:cNvPicPr/>
          <p:nvPr/>
        </p:nvPicPr>
        <p:blipFill>
          <a:blip r:embed="rId2"/>
          <a:stretch/>
        </p:blipFill>
        <p:spPr>
          <a:xfrm>
            <a:off x="6375240" y="3174840"/>
            <a:ext cx="7043760" cy="528336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4"/>
          <p:cNvSpPr/>
          <p:nvPr/>
        </p:nvSpPr>
        <p:spPr>
          <a:xfrm>
            <a:off x="271440" y="9144000"/>
            <a:ext cx="117349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ill Sans"/>
              </a:rPr>
              <a:t>Source: Naylor R. and Battisti D. 2008 (pers comm)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6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Matuschke, Ira (ESAG)</cp:lastModifiedBy>
  <dcterms:modified xsi:type="dcterms:W3CDTF">2009-10-12T06:27:01Z</dcterms:modified>
  <cp:revision>1</cp:revision>
  <dc:subject/>
  <dc:title>Slide 1</dc:title>
</cp:coreProperties>
</file>