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F6A-CF28-4E95-A73F-BAE72852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8C02-EF70-46BA-ABCC-9ED22457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6357-D908-40F7-BDA9-10E8ADC76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D60A-48EE-4FA9-839A-8B7B083A8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3AD4-623A-4B42-A155-F08919C55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7CA-85FD-42EB-8F80-5D934726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FC88-E4DA-4793-A37B-B616E606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29C7-ED29-40FE-9AB4-145EADD0D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655-3EE7-40BF-BB81-E39C9FD3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BC3E-64ED-435C-B32B-0C472F84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5381-89B9-4837-8705-68F35FFA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D33-F874-4900-8334-E72668F6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4DBB-F05B-4F69-BE25-1BE331FC8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6237360"/>
            <a:ext cx="819000" cy="6206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532720" y="6294600"/>
            <a:ext cx="611280" cy="542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hyperlink" Target="http://www.donorplatform.org/component/option,com_docman/task,doc_view/gid,597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5640" y="3284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Investment needs, sources and instruments</a:t>
            </a: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7451640" cy="1782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13208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Challenge</a:t>
            </a: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24000" y="1484280"/>
            <a:ext cx="2087280" cy="792360"/>
            <a:chOff x="324000" y="1484280"/>
            <a:chExt cx="2087280" cy="792360"/>
          </a:xfrm>
        </p:grpSpPr>
        <p:sp>
          <p:nvSpPr>
            <p:cNvPr id="48" name=""/>
            <p:cNvSpPr/>
            <p:nvPr/>
          </p:nvSpPr>
          <p:spPr>
            <a:xfrm>
              <a:off x="324000" y="1484280"/>
              <a:ext cx="2087280" cy="792360"/>
            </a:xfrm>
            <a:prstGeom prst="upArrowCallout">
              <a:avLst>
                <a:gd name="adj1" fmla="val 65862"/>
                <a:gd name="adj2" fmla="val 65856"/>
                <a:gd name="adj3" fmla="val 16667"/>
                <a:gd name="adj4" fmla="val 66660"/>
              </a:avLst>
            </a:prstGeom>
            <a:gradFill rotWithShape="0">
              <a:gsLst>
                <a:gs pos="0">
                  <a:srgbClr val="c39c75"/>
                </a:gs>
                <a:gs pos="50000">
                  <a:srgbClr val="ffcc99"/>
                </a:gs>
                <a:gs pos="100000">
                  <a:srgbClr val="c39c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93840" y="1881720"/>
              <a:ext cx="201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pulation 34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324000" y="2349360"/>
            <a:ext cx="2016000" cy="368280"/>
          </a:xfrm>
          <a:prstGeom prst="rect">
            <a:avLst/>
          </a:prstGeom>
          <a:gradFill rotWithShape="0">
            <a:gsLst>
              <a:gs pos="0">
                <a:srgbClr val="cacaa1"/>
              </a:gs>
              <a:gs pos="50000">
                <a:srgbClr val="ffffcc"/>
              </a:gs>
              <a:gs pos="100000">
                <a:srgbClr val="cacaa1"/>
              </a:gs>
            </a:gsLst>
            <a:lin ang="108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nge in di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1989000"/>
            <a:ext cx="720720" cy="649440"/>
          </a:xfrm>
          <a:custGeom>
            <a:avLst/>
            <a:gdLst>
              <a:gd name="textAreaLeft" fmla="*/ 0 w 720720"/>
              <a:gd name="textAreaRight" fmla="*/ 721080 w 7207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b53838"/>
              </a:gs>
              <a:gs pos="50000">
                <a:srgbClr val="ff5050"/>
              </a:gs>
              <a:gs pos="100000">
                <a:srgbClr val="b5383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3419640" y="1700280"/>
            <a:ext cx="2232000" cy="863640"/>
            <a:chOff x="3419640" y="1700280"/>
            <a:chExt cx="2232000" cy="863640"/>
          </a:xfrm>
        </p:grpSpPr>
        <p:sp>
          <p:nvSpPr>
            <p:cNvPr id="53" name=""/>
            <p:cNvSpPr/>
            <p:nvPr/>
          </p:nvSpPr>
          <p:spPr>
            <a:xfrm>
              <a:off x="3419640" y="1700280"/>
              <a:ext cx="2089080" cy="863640"/>
            </a:xfrm>
            <a:prstGeom prst="upArrowCallout">
              <a:avLst>
                <a:gd name="adj1" fmla="val 60479"/>
                <a:gd name="adj2" fmla="val 60473"/>
                <a:gd name="adj3" fmla="val 16667"/>
                <a:gd name="adj4" fmla="val 66660"/>
              </a:avLst>
            </a:prstGeom>
            <a:gradFill rotWithShape="0">
              <a:gsLst>
                <a:gs pos="0">
                  <a:srgbClr val="75c375"/>
                </a:gs>
                <a:gs pos="50000">
                  <a:srgbClr val="99ff99"/>
                </a:gs>
                <a:gs pos="100000">
                  <a:srgbClr val="75c375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19640" y="2132280"/>
              <a:ext cx="22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g. production 70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5796000" y="1916280"/>
            <a:ext cx="720720" cy="649080"/>
          </a:xfrm>
          <a:custGeom>
            <a:avLst/>
            <a:gdLst>
              <a:gd name="textAreaLeft" fmla="*/ 0 w 720720"/>
              <a:gd name="textAreaRight" fmla="*/ 721080 w 72072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gradFill rotWithShape="0">
            <a:gsLst>
              <a:gs pos="0">
                <a:srgbClr val="a73434"/>
              </a:gs>
              <a:gs pos="50000">
                <a:srgbClr val="ff5050"/>
              </a:gs>
              <a:gs pos="100000">
                <a:srgbClr val="a7343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804000" y="1700280"/>
            <a:ext cx="2016000" cy="800280"/>
            <a:chOff x="6804000" y="1700280"/>
            <a:chExt cx="2016000" cy="800280"/>
          </a:xfrm>
        </p:grpSpPr>
        <p:sp>
          <p:nvSpPr>
            <p:cNvPr id="57" name=""/>
            <p:cNvSpPr/>
            <p:nvPr/>
          </p:nvSpPr>
          <p:spPr>
            <a:xfrm>
              <a:off x="6804000" y="1700280"/>
              <a:ext cx="2016000" cy="792360"/>
            </a:xfrm>
            <a:prstGeom prst="upArrowCallout">
              <a:avLst>
                <a:gd name="adj1" fmla="val 63613"/>
                <a:gd name="adj2" fmla="val 63607"/>
                <a:gd name="adj3" fmla="val 16667"/>
                <a:gd name="adj4" fmla="val 66660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946920" y="2132280"/>
              <a:ext cx="1728720" cy="368280"/>
            </a:xfrm>
            <a:prstGeom prst="rect">
              <a:avLst/>
            </a:prstGeom>
            <a:gradFill rotWithShape="0">
              <a:gsLst>
                <a:gs pos="0">
                  <a:srgbClr val="996633"/>
                </a:gs>
                <a:gs pos="50000">
                  <a:srgbClr val="d1bba4"/>
                </a:gs>
                <a:gs pos="100000">
                  <a:srgbClr val="9966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vestments 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358080" y="2819160"/>
            <a:ext cx="5220360" cy="3685680"/>
            <a:chOff x="3358080" y="2819160"/>
            <a:chExt cx="5220360" cy="3685680"/>
          </a:xfrm>
        </p:grpSpPr>
        <p:sp>
          <p:nvSpPr>
            <p:cNvPr id="60" name=""/>
            <p:cNvSpPr/>
            <p:nvPr/>
          </p:nvSpPr>
          <p:spPr>
            <a:xfrm>
              <a:off x="3695040" y="2879280"/>
              <a:ext cx="4416480" cy="32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2400" y="5348880"/>
              <a:ext cx="864720" cy="7380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464080" y="4992480"/>
              <a:ext cx="865440" cy="109476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936120" y="4211640"/>
              <a:ext cx="865440" cy="187524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92400" y="5331960"/>
              <a:ext cx="864720" cy="16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464080" y="4975200"/>
              <a:ext cx="865440" cy="169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36120" y="4169160"/>
              <a:ext cx="865440" cy="421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992400" y="5119560"/>
              <a:ext cx="864720" cy="21204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464080" y="4661280"/>
              <a:ext cx="865440" cy="3139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36120" y="3761640"/>
              <a:ext cx="865440" cy="4071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92400" y="5077080"/>
              <a:ext cx="864720" cy="421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64080" y="4601880"/>
              <a:ext cx="865440" cy="59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36120" y="3524040"/>
              <a:ext cx="865440" cy="2376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95040" y="2879280"/>
              <a:ext cx="720" cy="3207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656160" y="6087240"/>
              <a:ext cx="385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656160" y="5552280"/>
              <a:ext cx="385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56160" y="5017680"/>
              <a:ext cx="385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656160" y="4483080"/>
              <a:ext cx="385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56160" y="3948480"/>
              <a:ext cx="385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56160" y="3413880"/>
              <a:ext cx="385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6160" y="2879280"/>
              <a:ext cx="385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695040" y="6087240"/>
              <a:ext cx="44164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3695040" y="6087240"/>
              <a:ext cx="72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5167080" y="6087240"/>
              <a:ext cx="72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6639480" y="6087240"/>
              <a:ext cx="72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8111520" y="6087240"/>
              <a:ext cx="720" cy="25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45840" y="56548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38.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720760" y="547560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4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191000" y="5086080"/>
              <a:ext cx="447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51.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327560" y="528120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8880" y="49244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71280" y="41270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289040" y="5162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9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757840" y="475488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7.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232760" y="390636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5.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327560" y="5034240"/>
              <a:ext cx="249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.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57840" y="456840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1.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32760" y="3583080"/>
              <a:ext cx="348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4.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13960" y="6027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358080" y="5492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358080" y="49579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58080" y="4424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358080" y="38890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358080" y="33544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358080" y="28191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17640" y="6129360"/>
              <a:ext cx="2013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urrent investment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04720" y="6291360"/>
              <a:ext cx="8344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gricultu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314320" y="6129360"/>
              <a:ext cx="15170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eting demand i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57840" y="62913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5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61600" y="6129360"/>
              <a:ext cx="17168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liminating hunger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2760" y="62913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02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315320" y="3235680"/>
              <a:ext cx="90000" cy="5940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44920" y="3201840"/>
              <a:ext cx="386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15320" y="3405240"/>
              <a:ext cx="90000" cy="594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38800" y="3371760"/>
              <a:ext cx="18842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veloping gover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15320" y="3566520"/>
              <a:ext cx="90000" cy="594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44560" y="3531960"/>
              <a:ext cx="2872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D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15320" y="3736440"/>
              <a:ext cx="90000" cy="59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39880" y="3701880"/>
              <a:ext cx="147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eveloping priva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95280" y="3357720"/>
            <a:ext cx="2881440" cy="2160360"/>
            <a:chOff x="395280" y="3357720"/>
            <a:chExt cx="2881440" cy="2160360"/>
          </a:xfrm>
        </p:grpSpPr>
        <p:sp>
          <p:nvSpPr>
            <p:cNvPr id="120" name=""/>
            <p:cNvSpPr/>
            <p:nvPr/>
          </p:nvSpPr>
          <p:spPr>
            <a:xfrm>
              <a:off x="395280" y="3357720"/>
              <a:ext cx="2881440" cy="2160360"/>
            </a:xfrm>
            <a:prstGeom prst="rightArrowCallout">
              <a:avLst>
                <a:gd name="adj1" fmla="val 25002"/>
                <a:gd name="adj2" fmla="val 25000"/>
                <a:gd name="adj3" fmla="val 22230"/>
                <a:gd name="adj4" fmla="val 66667"/>
              </a:avLst>
            </a:prstGeom>
            <a:gradFill rotWithShape="0">
              <a:gsLst>
                <a:gs pos="0">
                  <a:srgbClr val="996633"/>
                </a:gs>
                <a:gs pos="50000">
                  <a:srgbClr val="c0a183"/>
                </a:gs>
                <a:gs pos="100000">
                  <a:srgbClr val="99663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8360" y="3575160"/>
              <a:ext cx="187164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vesting in agriculture to eliminate hunger, gross, US$ per yea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FAO estimates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Challenge</a:t>
            </a: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619280" y="1125360"/>
            <a:ext cx="6048360" cy="5589720"/>
            <a:chOff x="1619280" y="1125360"/>
            <a:chExt cx="6048360" cy="5589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619280" y="1125360"/>
              <a:ext cx="6048360" cy="558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1763640" y="1198440"/>
              <a:ext cx="647640" cy="144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Issues</a:t>
            </a:r>
            <a:br>
              <a:rPr sz="4400"/>
            </a:b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1. What is “investment”</a:t>
            </a: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543680"/>
            <a:ext cx="4859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b2b81"/>
                </a:solidFill>
                <a:latin typeface="Tahoma"/>
              </a:rPr>
              <a:t>ODA Commitments for ARD  and Short Term or Emergency Food Aid in SSA, </a:t>
            </a:r>
            <a:r>
              <a:rPr b="1" lang="en-US" sz="1600" spc="-1" strike="noStrike">
                <a:solidFill>
                  <a:srgbClr val="2b2b81"/>
                </a:solidFill>
                <a:latin typeface="Tahoma"/>
              </a:rPr>
              <a:t>2001-2007 </a:t>
            </a:r>
            <a:r>
              <a:rPr b="1" lang="en-US" sz="1200" spc="-1" strike="noStrike">
                <a:solidFill>
                  <a:srgbClr val="2b2b81"/>
                </a:solidFill>
                <a:latin typeface="Tahoma"/>
              </a:rPr>
              <a:t>(millions of 2006 US$)</a:t>
            </a:r>
            <a:r>
              <a:rPr b="1" lang="en-GB" sz="1600" spc="-1" strike="noStrike">
                <a:solidFill>
                  <a:srgbClr val="2b2b81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2492280"/>
            <a:ext cx="3924360" cy="338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076720" y="5950080"/>
            <a:ext cx="4067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donorplatform.org/component/option,com_docman/task,doc_view/gid,597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595008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I based on OECD d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19640" y="1525680"/>
            <a:ext cx="367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81"/>
                </a:solidFill>
                <a:latin typeface="Tahoma"/>
              </a:rPr>
              <a:t>India: Agricultural public spending, 1975-200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2571480"/>
            <a:ext cx="4827600" cy="3291480"/>
            <a:chOff x="0" y="2571480"/>
            <a:chExt cx="4827600" cy="3291480"/>
          </a:xfrm>
        </p:grpSpPr>
        <p:sp>
          <p:nvSpPr>
            <p:cNvPr id="133" name=""/>
            <p:cNvSpPr/>
            <p:nvPr/>
          </p:nvSpPr>
          <p:spPr>
            <a:xfrm>
              <a:off x="649440" y="5291640"/>
              <a:ext cx="215640" cy="385920"/>
            </a:xfrm>
            <a:prstGeom prst="rect">
              <a:avLst/>
            </a:prstGeom>
            <a:solidFill>
              <a:srgbClr val="ffcc99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11400" y="5430960"/>
              <a:ext cx="215640" cy="246960"/>
            </a:xfrm>
            <a:prstGeom prst="rect">
              <a:avLst/>
            </a:prstGeom>
            <a:solidFill>
              <a:srgbClr val="ffcc99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72280" y="4898880"/>
              <a:ext cx="215640" cy="779040"/>
            </a:xfrm>
            <a:prstGeom prst="rect">
              <a:avLst/>
            </a:prstGeom>
            <a:solidFill>
              <a:srgbClr val="ffcc99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33160" y="3940200"/>
              <a:ext cx="216360" cy="1737360"/>
            </a:xfrm>
            <a:prstGeom prst="rect">
              <a:avLst/>
            </a:prstGeom>
            <a:solidFill>
              <a:srgbClr val="ffcc99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95120" y="4216680"/>
              <a:ext cx="215640" cy="1461240"/>
            </a:xfrm>
            <a:prstGeom prst="rect">
              <a:avLst/>
            </a:prstGeom>
            <a:solidFill>
              <a:srgbClr val="ffcc99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456000" y="3598560"/>
              <a:ext cx="215640" cy="2079360"/>
            </a:xfrm>
            <a:prstGeom prst="rect">
              <a:avLst/>
            </a:prstGeom>
            <a:solidFill>
              <a:srgbClr val="ffcc99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16520" y="4051080"/>
              <a:ext cx="216360" cy="1626480"/>
            </a:xfrm>
            <a:prstGeom prst="rect">
              <a:avLst/>
            </a:prstGeom>
            <a:solidFill>
              <a:srgbClr val="ffcc99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578480" y="4210560"/>
              <a:ext cx="215640" cy="1467000"/>
            </a:xfrm>
            <a:prstGeom prst="rect">
              <a:avLst/>
            </a:prstGeom>
            <a:solidFill>
              <a:srgbClr val="ffcc99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9440" y="4662000"/>
              <a:ext cx="215640" cy="62964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11400" y="4726080"/>
              <a:ext cx="215640" cy="70452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72280" y="3987000"/>
              <a:ext cx="215640" cy="91152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333160" y="3303360"/>
              <a:ext cx="216360" cy="63684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95120" y="3657600"/>
              <a:ext cx="215640" cy="55908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456000" y="2833920"/>
              <a:ext cx="215640" cy="76428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016520" y="3370320"/>
              <a:ext cx="216360" cy="6807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78480" y="3508920"/>
              <a:ext cx="215640" cy="70164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9000" y="3533760"/>
              <a:ext cx="216000" cy="21441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29880" y="3735000"/>
              <a:ext cx="217080" cy="194292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91840" y="3957840"/>
              <a:ext cx="216000" cy="172008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52720" y="3604320"/>
              <a:ext cx="216000" cy="207360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614680" y="3640320"/>
              <a:ext cx="216000" cy="203760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75200" y="3805560"/>
              <a:ext cx="216000" cy="187200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36080" y="3347640"/>
              <a:ext cx="216000" cy="232992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298040" y="3036600"/>
              <a:ext cx="216000" cy="264132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6960" y="2619720"/>
              <a:ext cx="360" cy="3057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8240" y="5677920"/>
              <a:ext cx="18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18240" y="5168520"/>
              <a:ext cx="187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8240" y="4658760"/>
              <a:ext cx="18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18240" y="4149360"/>
              <a:ext cx="187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240" y="3638520"/>
              <a:ext cx="187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18240" y="3129120"/>
              <a:ext cx="187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240" y="2619720"/>
              <a:ext cx="1872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6960" y="5677920"/>
              <a:ext cx="4489920" cy="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36960" y="567792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897840" y="567792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459800" y="567792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020680" y="567792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582640" y="567792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143520" y="567792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704400" y="567792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266360" y="567792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827240" y="5677920"/>
              <a:ext cx="360" cy="24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6680" y="56307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8280" y="5121000"/>
              <a:ext cx="1288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4640" y="461160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0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4640" y="410076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,5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34640" y="359064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0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4640" y="308088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,5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4640" y="2571480"/>
              <a:ext cx="192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3,0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8960" y="57484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69840" y="57484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30360" y="57484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200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092320" y="57484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200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54280" y="57484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200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14440" y="57484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200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78200" y="57484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2006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37280" y="574848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16200000">
              <a:off x="-136800" y="3503520"/>
              <a:ext cx="274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 rot="-5400000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9520" y="2730600"/>
              <a:ext cx="1587600" cy="40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2840" y="2623320"/>
              <a:ext cx="120960" cy="13032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00840" y="2623320"/>
              <a:ext cx="109080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RD commit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4280" y="2885760"/>
              <a:ext cx="120960" cy="13032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560" y="2885760"/>
              <a:ext cx="247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v. food aid/food security commit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5360" y="3148200"/>
              <a:ext cx="120960" cy="130320"/>
            </a:xfrm>
            <a:prstGeom prst="rect">
              <a:avLst/>
            </a:prstGeom>
            <a:solidFill>
              <a:srgbClr val="ffcc99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3000" y="3148200"/>
              <a:ext cx="1824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mergency food aid commitmen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41480" y="5742000"/>
              <a:ext cx="4680000" cy="12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Issues</a:t>
            </a:r>
            <a:br>
              <a:rPr sz="4400"/>
            </a:b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2. Investment priorities</a:t>
            </a: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8159760" cy="4383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755640" y="1483920"/>
            <a:ext cx="766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81"/>
                </a:solidFill>
                <a:latin typeface="Tahoma"/>
              </a:rPr>
              <a:t>MALAWI. Public Expenditure: Health, Education, Agriculture. 1987-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638172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F data ba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Issues</a:t>
            </a:r>
            <a:br>
              <a:rPr sz="4400"/>
            </a:b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3. Investment priorities</a:t>
            </a: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8280360" cy="3457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42920" y="558972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B AgInvestSourceBoo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9640" y="1635120"/>
            <a:ext cx="8280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b2b81"/>
                </a:solidFill>
                <a:latin typeface="Tahoma"/>
              </a:rPr>
              <a:t>Returns of agricultural public investments and impacts on poverty reduction in China and India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Issues</a:t>
            </a:r>
            <a:br>
              <a:rPr sz="4400"/>
            </a:br>
            <a:r>
              <a:rPr b="0" lang="en-US" sz="4400" spc="-1" strike="noStrike">
                <a:solidFill>
                  <a:srgbClr val="2d439f"/>
                </a:solidFill>
                <a:latin typeface="Tahoma"/>
              </a:rPr>
              <a:t>3. Investment mobilization mechanisms</a:t>
            </a:r>
            <a:endParaRPr b="0" lang="en-US" sz="44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74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b2b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81"/>
                </a:solidFill>
                <a:latin typeface="Arial"/>
              </a:rPr>
              <a:t>Investment friendly political and institutional clim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b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81"/>
                </a:solidFill>
                <a:latin typeface="Arial"/>
              </a:rPr>
              <a:t>Public investment into infrastructure/institu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b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81"/>
                </a:solidFill>
                <a:latin typeface="Arial"/>
              </a:rPr>
              <a:t>Public investment into produ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b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81"/>
                </a:solidFill>
                <a:latin typeface="Arial"/>
              </a:rPr>
              <a:t>Subsidies to investo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b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81"/>
                </a:solidFill>
                <a:latin typeface="Arial"/>
              </a:rPr>
              <a:t>Intergovernmental agreements on FD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b2b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b2b81"/>
                </a:solidFill>
                <a:latin typeface="Arial"/>
              </a:rPr>
              <a:t>???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2d439f"/>
                </a:solidFill>
                <a:latin typeface="Tahoma"/>
              </a:rPr>
              <a:t>Issues</a:t>
            </a:r>
            <a:br>
              <a:rPr sz="4000"/>
            </a:br>
            <a:r>
              <a:rPr b="0" lang="en-US" sz="4000" spc="-1" strike="noStrike">
                <a:solidFill>
                  <a:srgbClr val="2d439f"/>
                </a:solidFill>
                <a:latin typeface="Tahoma"/>
              </a:rPr>
              <a:t>4. FDI into agriculture</a:t>
            </a:r>
            <a:endParaRPr b="0" lang="en-US" sz="4000" spc="-1" strike="noStrike">
              <a:solidFill>
                <a:srgbClr val="2d439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537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b2b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b81"/>
                </a:solidFill>
                <a:latin typeface="Arial"/>
              </a:rPr>
              <a:t>New trends last 3-4 years (</a:t>
            </a:r>
            <a:r>
              <a:rPr b="0" lang="en-GB" sz="2400" spc="-1" strike="noStrike">
                <a:solidFill>
                  <a:srgbClr val="2b2b81"/>
                </a:solidFill>
                <a:latin typeface="Arial"/>
              </a:rPr>
              <a:t>“Outsourcing’s Third Wave”) </a:t>
            </a:r>
            <a:r>
              <a:rPr b="0" lang="en-US" sz="2400" spc="-1" strike="noStrike">
                <a:solidFill>
                  <a:srgbClr val="2b2b81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2b2b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2b81"/>
                </a:solidFill>
                <a:latin typeface="Arial"/>
              </a:rPr>
              <a:t>cross-boarder investment in primary agriculture increasingly directed towards land acqui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2b2b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2b81"/>
                </a:solidFill>
                <a:latin typeface="Arial"/>
              </a:rPr>
              <a:t>from recourse-poor countries to developing resource-rich countries in order to develop agrifood ex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2b2b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81"/>
                </a:solidFill>
                <a:latin typeface="Arial"/>
              </a:rPr>
              <a:t>under bilateral inter-gvt agre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b2b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b81"/>
                </a:solidFill>
                <a:latin typeface="Arial"/>
              </a:rPr>
              <a:t>Benef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2b2b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b2b81"/>
                </a:solidFill>
                <a:latin typeface="Arial"/>
              </a:rPr>
              <a:t>technology transfer, employment creation, infrastructure, development and export 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b2b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b2b81"/>
                </a:solidFill>
                <a:latin typeface="Arial"/>
              </a:rPr>
              <a:t>Threa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b2b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81"/>
                </a:solidFill>
                <a:latin typeface="Arial"/>
              </a:rPr>
              <a:t>for host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2b2b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81"/>
                </a:solidFill>
                <a:latin typeface="Arial"/>
              </a:rPr>
              <a:t>rural employment, access to ag. resources to loc al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2b2b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81"/>
                </a:solidFill>
                <a:latin typeface="Arial"/>
              </a:rPr>
              <a:t>food insecu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b2b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b2b81"/>
                </a:solidFill>
                <a:latin typeface="Arial"/>
              </a:rPr>
              <a:t>for international tr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2b2b8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b2b81"/>
                </a:solidFill>
                <a:latin typeface="Arial"/>
              </a:rPr>
              <a:t>non transparent, less liberal markets and 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4:45:27Z</dcterms:created>
  <dc:creator>Serova, Eugenia (TCID)</dc:creator>
  <dc:description/>
  <dc:language>en-US</dc:language>
  <cp:lastModifiedBy>Serova, Eugenia (TCID)</cp:lastModifiedBy>
  <dcterms:modified xsi:type="dcterms:W3CDTF">2009-10-12T12:00:04Z</dcterms:modified>
  <cp:revision>10</cp:revision>
  <dc:subject/>
  <dc:title>Investment needs, sources and instru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40789861</vt:r8>
  </property>
  <property fmtid="{D5CDD505-2E9C-101B-9397-08002B2CF9AE}" pid="3" name="_AuthorEmail">
    <vt:lpwstr>Eugenia.Serova@fao.org</vt:lpwstr>
  </property>
  <property fmtid="{D5CDD505-2E9C-101B-9397-08002B2CF9AE}" pid="4" name="_AuthorEmailDisplayName">
    <vt:lpwstr>Serova, Eugenia (TCID)</vt:lpwstr>
  </property>
  <property fmtid="{D5CDD505-2E9C-101B-9397-08002B2CF9AE}" pid="5" name="_EmailSubject">
    <vt:lpwstr>One more paper on investment for your presentation...</vt:lpwstr>
  </property>
</Properties>
</file>