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000" y="1483920"/>
            <a:ext cx="814716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The technology challenge: Increasing productivity and protecting the enviro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68360" y="407628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Shivaji Pand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Dir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lant Production and Protection Di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F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79280" y="111240"/>
            <a:ext cx="2305080" cy="811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79280" y="1052640"/>
            <a:ext cx="8785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769120" y="476280"/>
            <a:ext cx="472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Plant Production and Protection Div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8174160" y="122400"/>
          <a:ext cx="792000" cy="79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174160" y="122400"/>
                    <a:ext cx="792000" cy="79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07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Challenges We Fa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064360" cy="102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o feed 9+ billion people in 2050, global food production must increase by 70% -- 80% to come from yield increases and 20% from area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785880" cy="682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765000"/>
            <a:ext cx="8785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2852640"/>
            <a:ext cx="83516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Developing countries must almost double production – with little possibility of land expansion in many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5877000"/>
            <a:ext cx="835164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Increased demand for better variety, quality and safety of agricultur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437000"/>
            <a:ext cx="806436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Land area (per cap.) declining: from 4.3 ha in 1961 to 1.5 ha in 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3645000"/>
            <a:ext cx="78487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Yield growth rate for cereals declining: 3.2% in 1960 to 1% in 20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157720"/>
            <a:ext cx="75596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limate change likely to add greater and unpredictable stress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For Farmers to Increase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Greater public investment in institutions and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785880" cy="682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79280" y="765000"/>
            <a:ext cx="8785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306864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mproving research-extension-farmer link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5300640"/>
            <a:ext cx="82296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Policies that increase use of technologies that raise yield and lower cost - increasing farmers’ in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4221000"/>
            <a:ext cx="8229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Better varieties and management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For Farmers to Increase Y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785880" cy="682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9280" y="765000"/>
            <a:ext cx="8785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6056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Massive investment in agricultural R&amp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6210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Genetic enhancement of crop p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8360" y="4854600"/>
            <a:ext cx="822960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ntegrated pes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2592360"/>
            <a:ext cx="822960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Getting right technologies to real farmers – women and smallhol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361800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onservation Agri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419400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mproving fertilizer us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68360" y="5560920"/>
            <a:ext cx="8229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Irrigation and water use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Additional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67564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Livestock</a:t>
            </a:r>
            <a:r>
              <a:rPr b="1" lang="en-GB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Genetic and feed improvement in poultry</a:t>
            </a:r>
            <a:r>
              <a:rPr b="1" lang="en-GB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Heat stable Newcastle Disease vacc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lobal Early Warning and Response System (GLEWS)</a:t>
            </a:r>
            <a:br>
              <a:rPr sz="2000"/>
            </a:b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785880" cy="6825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765000"/>
            <a:ext cx="8785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4581360"/>
            <a:ext cx="8675640" cy="17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Aquatic animal and plant spe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Genetic improvement for yield and feed use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odern tool for rapid identification of diseases and cost-effective vacc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3716280"/>
            <a:ext cx="86421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00"/>
                </a:solidFill>
                <a:latin typeface="Arial"/>
              </a:rPr>
              <a:t>Food 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458640">
              <a:lnSpc>
                <a:spcPct val="8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Nano-enabled rapid diagnostic tools</a:t>
            </a:r>
            <a:br>
              <a:rPr sz="2000"/>
            </a:br>
            <a:r>
              <a:rPr b="0" lang="en-GB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00"/>
                </a:solidFill>
                <a:latin typeface="Arial"/>
              </a:rPr>
              <a:t>Sustainable intensification of wood p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through soil treatment, weed control, fertilization and genetic improvement for fast-growing plantations</a:t>
            </a: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00"/>
                </a:solidFill>
                <a:latin typeface="Arial"/>
              </a:rPr>
              <a:t>For packaging and transport of food, and 50% of rural household energy in 2050 to still come from fuelw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ditional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785880" cy="6825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79280" y="765000"/>
            <a:ext cx="8785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869000"/>
            <a:ext cx="82296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Energy and farm power in sub-Saharan Africa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66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Subregion had more tractors than India in the 1970s but has less than 10% of them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907920"/>
            <a:ext cx="91440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No amount of technologies or external assistance can feed a nation that does not itself prioritize food security and agricult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95280" y="2637000"/>
          <a:ext cx="4032360" cy="338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637000"/>
                    <a:ext cx="4032360" cy="33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43280" y="2576160"/>
            <a:ext cx="404352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ddress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ultidisciplinary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A single technology no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ust be locally ada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Must be accompanied by appropriate poli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Consideration for sustaining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50920" y="0"/>
            <a:ext cx="785880" cy="682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765000"/>
            <a:ext cx="8785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765000"/>
            <a:ext cx="9144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Norman Borlaug: 1914 -20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1280" y="836640"/>
            <a:ext cx="77724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50560" y="1699920"/>
            <a:ext cx="8713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Do we have right technologies available? If yes, why are they not being used by small farm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ncentive structures needed for diffusion and adoption of modern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Ensuring development and deployment of technologies, especially for women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ncreasing funding, so right and climate-change relevant technologies are developed; Role of CGI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Stimulating research of modern plant breeding techniques, regulatory and approval systems, and public-private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ole of public institutions and farmers’ organizations in diffusing technologies, particularly to small-holder and women far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Is a second green revolution possible? If yes, what should be its characteristic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785880" cy="682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765000"/>
            <a:ext cx="8785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8T10:14:56Z</dcterms:created>
  <dc:creator>Pandey, Shivaji (AGPD)</dc:creator>
  <dc:description/>
  <dc:language>en-US</dc:language>
  <cp:lastModifiedBy>Matuschke, Ira (ESAG)</cp:lastModifiedBy>
  <dcterms:modified xsi:type="dcterms:W3CDTF">2009-10-12T08:58:42Z</dcterms:modified>
  <cp:revision>22</cp:revision>
  <dc:subject/>
  <dc:title>Discussion Poi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72098579</vt:r8>
  </property>
  <property fmtid="{D5CDD505-2E9C-101B-9397-08002B2CF9AE}" pid="3" name="_AuthorEmail">
    <vt:lpwstr>Shivaji.Pandey@fao.org</vt:lpwstr>
  </property>
  <property fmtid="{D5CDD505-2E9C-101B-9397-08002B2CF9AE}" pid="4" name="_AuthorEmailDisplayName">
    <vt:lpwstr>Pandey, Shivaji (AGPD)</vt:lpwstr>
  </property>
  <property fmtid="{D5CDD505-2E9C-101B-9397-08002B2CF9AE}" pid="5" name="_EmailSubject">
    <vt:lpwstr/>
  </property>
  <property fmtid="{D5CDD505-2E9C-101B-9397-08002B2CF9AE}" pid="6" name="_ReviewingToolsShownOnce">
    <vt:lpwstr/>
  </property>
</Properties>
</file>