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2A1-B7BF-4F9F-9023-E23B4509E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1BF-8030-4226-84D7-394086303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8F0B-3D97-4DBA-AF28-DFAF2D84E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46D-D1EE-43EF-965C-2BCC3BE06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30FD-0502-4378-8A65-AF3F8D073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9376-B5D3-4929-848F-49FF0C85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6AFB-E02D-4D81-8F02-9AA547B1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0430-AB27-4514-8B5B-30A6E392B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D118-A6C4-4041-BF81-F965A8A4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A47F-A6EF-413A-88F7-E631988C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8DEC-1B87-42CD-B48B-0D25817E6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EC4-6C1F-45C8-A2EA-01DB71F5B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1B3E-9C95-4A80-9A77-15F8E027D44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LEF 13 October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nel 5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olicy challenge: support, trade, aid and investment polic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roduc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érard Via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FB14-7782-4C18-BE8B-842A94B524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Forewor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Before drawing attention to the five key discussion points at the end of the Issues Paper (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), I will try to put them in a slightly wider context. I will highlight briefly five “challenges” which seem  essential for the long-term orientation of policies, and which are particularly relevant in the fields of support, markets and trade. This approach will cover the issues mentioned in the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P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explicitly quoted), but sometimes in a different order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9D6-24CF-43F2-BF90-5DECD9148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Policies and marke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vernment interventions will remain necessary to support agricultural development and adjustment even in the context of increasing market orientation. Markets often need to be “created” and “regulated”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ed to promot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“non-distorting polici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” and  “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coupling”.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gress has been made but is still insufficient. Decoupling is uneven. Barriers to market access, tariff escalation and export subsidies remain major sources of distorsions, with a negative impact on developing countries. Innovative proposals on decoupling in th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0C77-16C1-4080-8420-E7BDAF35116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Towards “new policy mixe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der range of poli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ll impact on agriculture in addition to traditional agricultural policies. Policies for agricultural markets and trade cannot be isolated from other policies. Two examples from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nd set aside and production reser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environmental policy;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fety nets for smallholder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ocial policy. Search for possible synerg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nce need for new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y mixes”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dapted to the specific level of development (beyond the simple distinction between “developed” and “developing” countri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8C4F-FE7A-4568-95F9-1BF1F8BB2E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Targeted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hould be not only “decoupled” but also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argete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wards well defined objective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should reflect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 rol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food and agriculture and of the elimination of hunger for development and for the society at large. Two specific examples of targeting from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- the emphasis on pro-poor policies (smallholders) - the payments for public go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ing helps to give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gher prio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to food and agriculture at the domestic level, and in international assistance including through new financing mechanisms as proposed in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3D06-FEE1-479A-B983-52B305AD0A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An agro-food 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priority should be given to financial and technical support (“non-distorting”) for creating effici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pstream and downstr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rkets, including for strengthening the position of farmers. Examples from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delivery system and accessibility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pu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ore useful  than input subsidie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cessing and market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ystems as a contribution to increase farmers’ incomes and to reduce malnutr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 infor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ll ac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4004-B856-4A20-BA32-2068D030E39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Institutions and particip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cess of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laboration and implement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policies deserves more attention. There is often a need for adjustment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itu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t all levels, for stable legal framework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P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for efficient governance. This is particularly true in the sensitive field of allocation of support, and of markets and tr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vate s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has a major role to play (example from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insurance), including through public/private partnership. Capacity building of all actors on the markets is a good example of “non-distorting support”…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EBC6-BB92-4181-9ACB-29E1A9096C0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ive 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marks above lead to the five specific discussion points of the I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forms of non-distorting suppor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on of decoupling and possible agricultural production “reserve”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assistance to developing countries agriculture, including through compensatory financing by OECD count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ective roles of public/private insurance in OECD countrie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fety mechanism against food crisis emanating from economic shocks (“early reaction fund”)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BDA4-0A40-4BAC-80CF-2DBACF28FBF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04:13Z</dcterms:created>
  <dc:creator>Gérard VIATTE</dc:creator>
  <dc:description/>
  <dc:language>en-US</dc:language>
  <cp:lastModifiedBy>Matuschke, Ira (ESAG)</cp:lastModifiedBy>
  <dcterms:modified xsi:type="dcterms:W3CDTF">2009-10-12T06:29:00Z</dcterms:modified>
  <cp:revision>13</cp:revision>
  <dc:subject/>
  <dc:title>HLEF 13 October  Panel 5 Support, trade, aid and investment policies</dc:title>
</cp:coreProperties>
</file>