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536F-8305-4EB2-B107-E55BB4B1D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DCD-1920-4135-AD70-9201F2C51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A3F6-9905-455B-AD27-56F38157F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ECFA-E6D1-4AA1-8680-FA24AE12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A6BF-879E-4E90-AACF-8E6B7648E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FF05-DFC4-4F48-975E-8E02E5DE7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0A09-268E-4425-B019-B75EFCA9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CD90E-01FD-4239-A4E4-8562AAC6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AEE0-DB55-454B-B316-03309229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98E6-DB41-4A64-9FA9-FD45AA349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9A65B-4A07-490F-B4D3-214C8F9D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90E4-D069-4191-B384-B25CF983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BB451-9F26-4955-A281-68E42D64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261B-1665-42F6-BA6E-44DFF77F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C981-BC5C-4F46-A0BE-2B8BE0B56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EB7E1-1CD5-4FB3-A572-FFDF58C56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420D-8C1C-41C5-A526-E22C966F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E63F-ED0C-4238-97C8-1E8FBC5E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7484-1786-4C75-9D32-652E1B48B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7A6-E1FC-43CE-83AB-5BCAD30C2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2E43-6366-4999-9CC7-443539D4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C71F-4DFE-4376-BBD5-FE147D770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FFA-486A-4D4E-A7B3-90DD3418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F81-41DD-4957-89DE-1E7A745B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56280-BC09-4D2F-A57D-44F20E0B017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9428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1"/>
          <p:cNvSpPr/>
          <p:nvPr/>
        </p:nvSpPr>
        <p:spPr>
          <a:xfrm>
            <a:off x="4500720" y="0"/>
            <a:ext cx="4643280" cy="9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2"/>
          <p:cNvSpPr/>
          <p:nvPr/>
        </p:nvSpPr>
        <p:spPr>
          <a:xfrm>
            <a:off x="4572000" y="214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00000"/>
                </a:solidFill>
                <a:latin typeface="Calibri"/>
              </a:rPr>
              <a:t>The special challenge for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D414-62D5-4AE0-BA90-34548CB0345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1285920"/>
            <a:ext cx="8372520" cy="385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a50021"/>
                </a:solidFill>
                <a:latin typeface="Calibri"/>
              </a:rPr>
              <a:t>Special Session</a:t>
            </a:r>
            <a:br>
              <a:rPr sz="6000"/>
            </a:br>
            <a:r>
              <a:rPr b="1" lang="en-GB" sz="6000" spc="-1" strike="noStrike">
                <a:solidFill>
                  <a:srgbClr val="a50021"/>
                </a:solidFill>
                <a:latin typeface="Calibri"/>
              </a:rPr>
              <a:t>on</a:t>
            </a:r>
            <a:br>
              <a:rPr sz="6000"/>
            </a:br>
            <a:r>
              <a:rPr b="1" lang="en-GB" sz="6000" spc="-1" strike="noStrike">
                <a:solidFill>
                  <a:srgbClr val="a50021"/>
                </a:solidFill>
                <a:latin typeface="Calibri"/>
              </a:rPr>
              <a:t>Afric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822960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Calibri"/>
              </a:rPr>
              <a:t>Changing context: renewed optimis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000080" y="1760400"/>
            <a:ext cx="8143920" cy="5097600"/>
          </a:xfrm>
          <a:prstGeom prst="rect">
            <a:avLst/>
          </a:prstGeom>
          <a:ln w="0">
            <a:noFill/>
          </a:ln>
        </p:spPr>
      </p:pic>
      <p:sp>
        <p:nvSpPr>
          <p:cNvPr id="90" name="Rectangular Callout 6"/>
          <p:cNvSpPr/>
          <p:nvPr/>
        </p:nvSpPr>
        <p:spPr>
          <a:xfrm>
            <a:off x="2000160" y="2786040"/>
            <a:ext cx="3929040" cy="1071720"/>
          </a:xfrm>
          <a:prstGeom prst="wedgeRectCallout">
            <a:avLst>
              <a:gd name="adj1" fmla="val 30541"/>
              <a:gd name="adj2" fmla="val 120740"/>
            </a:avLst>
          </a:prstGeom>
          <a:solidFill>
            <a:srgbClr val="ffff00">
              <a:alpha val="65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071800" y="2786040"/>
            <a:ext cx="3786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Growth accelerates from early 80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North &amp; West Africa do 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c00000"/>
                </a:solidFill>
                <a:latin typeface="Calibri"/>
              </a:rPr>
              <a:t>Less net taxation the caus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999720"/>
            <a:ext cx="45003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a50021"/>
                </a:solidFill>
                <a:latin typeface="Calibri"/>
              </a:rPr>
              <a:t>Changing context …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2560" y="2000160"/>
            <a:ext cx="4429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a50021"/>
                </a:solidFill>
                <a:latin typeface="Calibri"/>
              </a:rPr>
              <a:t>Conflict reduc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a50021"/>
                </a:solidFill>
                <a:latin typeface="Calibri"/>
              </a:rPr>
              <a:t>Regional institutions ever stron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alibri"/>
              </a:rPr>
              <a:t>Renewed commitment to agricul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Calibri"/>
              </a:rPr>
              <a:t>CAADP, AG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a50021"/>
                </a:solidFill>
                <a:latin typeface="Calibri"/>
              </a:rPr>
              <a:t>Donor promi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a50021"/>
                </a:solidFill>
                <a:latin typeface="Calibri"/>
              </a:rPr>
              <a:t>Better business environment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a50021"/>
                </a:solidFill>
                <a:latin typeface="Calibri"/>
              </a:rPr>
              <a:t>Potential of lan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700" spc="-1" strike="noStrike">
                <a:solidFill>
                  <a:srgbClr val="a50021"/>
                </a:solidFill>
                <a:latin typeface="Calibri"/>
              </a:rPr>
              <a:t>Market opportunities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alibri"/>
              </a:rPr>
              <a:t>Large domestic &amp; region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a50021"/>
                </a:solidFill>
                <a:latin typeface="Calibri"/>
              </a:rPr>
              <a:t>Exports, including biofu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6" descr=""/>
          <p:cNvPicPr/>
          <p:nvPr/>
        </p:nvPicPr>
        <p:blipFill>
          <a:blip r:embed="rId1"/>
          <a:stretch/>
        </p:blipFill>
        <p:spPr>
          <a:xfrm>
            <a:off x="4562640" y="3214800"/>
            <a:ext cx="4581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Calibri"/>
              </a:rPr>
              <a:t>Facing challenges 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5840" y="2071440"/>
            <a:ext cx="84009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a50021"/>
                </a:solidFill>
                <a:latin typeface="Calibri"/>
              </a:rPr>
              <a:t>Challeng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Widening technology gap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Slow development of markets for inputs, outpu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Slow regional integr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Shortcomings in governance &amp; institution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Conflic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HIV/AIDS and other dise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Calibri"/>
              </a:rPr>
              <a:t>Climate chan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3840" y="1000080"/>
            <a:ext cx="8587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a50021"/>
                </a:solidFill>
                <a:latin typeface="Calibri"/>
              </a:rPr>
              <a:t>… </a:t>
            </a:r>
            <a:r>
              <a:rPr b="1" lang="en-GB" sz="3600" spc="-1" strike="noStrike">
                <a:solidFill>
                  <a:srgbClr val="a50021"/>
                </a:solidFill>
                <a:latin typeface="Calibri"/>
              </a:rPr>
              <a:t>&amp; Realising Opportunities</a:t>
            </a:r>
            <a:br>
              <a:rPr sz="3600"/>
            </a:br>
            <a:r>
              <a:rPr b="1" lang="en-GB" sz="3600" spc="-1" strike="noStrike">
                <a:solidFill>
                  <a:srgbClr val="a50021"/>
                </a:solidFill>
                <a:latin typeface="Calibri"/>
              </a:rPr>
              <a:t>Policy Point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2071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a50021"/>
                </a:solidFill>
                <a:latin typeface="Calibri"/>
              </a:rPr>
              <a:t>Macro Policy &amp; Investment climat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↓</a:t>
            </a: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Remaining net taxation in Afri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Level international playing fie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↑</a:t>
            </a: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Regional integr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a50021"/>
                </a:solidFill>
                <a:latin typeface="Calibri"/>
              </a:rPr>
              <a:t>Rural Public Goods: roads to market; ag research &amp; extension; rural schools &amp; healt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a50021"/>
                </a:solidFill>
                <a:latin typeface="Calibri"/>
              </a:rPr>
              <a:t>Remedy market failur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 … </a:t>
            </a: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including rural financial systems &amp; reduced risk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a50021"/>
                </a:solidFill>
                <a:latin typeface="Calibri"/>
              </a:rPr>
              <a:t>Futures for small farme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Not all will farm in 20/50 years ti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Provide options &amp; livelihoods in rural &amp; urban econom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500" spc="-1" strike="noStrike">
                <a:solidFill>
                  <a:srgbClr val="a50021"/>
                </a:solidFill>
                <a:latin typeface="Calibri"/>
              </a:rPr>
              <a:t>Rebuild public capacity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a50021"/>
                </a:solidFill>
                <a:latin typeface="Calibri"/>
              </a:rPr>
              <a:t>Effective decentralis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0"/>
            <a:ext cx="91440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680" y="99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a50021"/>
                </a:solidFill>
                <a:latin typeface="Calibri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071800"/>
            <a:ext cx="82296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alibri"/>
              </a:rPr>
              <a:t>Why has agricultural performance in much of Africa been disappointing?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What went wrong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Correcting past mistake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alibri"/>
              </a:rPr>
              <a:t>What is potential for Africa to ensure food security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alibri"/>
              </a:rPr>
              <a:t>Potential of smallholder agriculture for agricultural growth &amp; poverty reductio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How will transitions in farming affect smallholders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How should they be assisted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alibri"/>
              </a:rPr>
              <a:t>Priorities for technological chang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Does Africa need a Green Revolutio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99"/>
              </a:spcBef>
              <a:buClr>
                <a:srgbClr val="a50021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a50021"/>
                </a:solidFill>
                <a:latin typeface="Calibri"/>
              </a:rPr>
              <a:t>What would be the elements?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550"/>
              </a:spcBef>
              <a:buClr>
                <a:srgbClr val="a50021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50021"/>
                </a:solidFill>
                <a:latin typeface="Calibri"/>
              </a:rPr>
              <a:t>Institutional &amp; policy changes to support farmers &amp; others in agri-food value chain. Creating a +ve environment for investmen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1T12:04:50Z</dcterms:created>
  <dc:creator>Steve Wiggins</dc:creator>
  <dc:description/>
  <dc:language>en-US</dc:language>
  <cp:lastModifiedBy>Matuschke, Ira (ESAG)</cp:lastModifiedBy>
  <dcterms:modified xsi:type="dcterms:W3CDTF">2009-10-12T06:27:57Z</dcterms:modified>
  <cp:revision>8</cp:revision>
  <dc:subject/>
  <dc:title>Special Session on Africa</dc:title>
</cp:coreProperties>
</file>