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9621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7792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-3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9621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B3656D-EE9B-444B-9DDF-2BFF0A1CDC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vestments in people and financial as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vestments in sustainable production methods and produ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rastructure: roads, electricity, sto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itutions: land registers, tenure security, rural finance, mecha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&amp;D and extension: technology transfer, applied research, pro-poor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ervation of natural resources (land, water, genetics, CC adap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k and disaster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od safety nets and productive safety 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5% of the poor live in rural areas, many depend on agriculture for their livelihoods as small holders, small entrepreneurs, waged work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rbanization: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any things chan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ffects competitiveness of domestic agriculture, often better infrastructure between metropolitcan areas and world markets than between metropolitan areas and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omestic hinter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hanges food consumption patterns, food quality standards, food safety standards, lifestyles (more sedentary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ossibility of more urban hunger and poverty, slums (push driven urbanization, low profitability of rur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9621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532484-73BA-4C6B-A9C8-F99289E7D7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81712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962160" y="0"/>
            <a:ext cx="303372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70000" y="712800"/>
            <a:ext cx="4656240" cy="34923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42480" y="4419360"/>
            <a:ext cx="5108760" cy="413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SR NENA: 59% to 54%, largest cereal import region and even larger by 2050 about 140 mmt, nearly half of the 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SR LATI: SSR could even rise above 100%, owing to growth in BRAZIL and A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otential: high in SSA and LATI, low in NENA and SAS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: not constraint free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ield growth differences in the past : 0.9% in ICs, 2.1% in D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7792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00200" y="4409640"/>
            <a:ext cx="5597280" cy="41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rea harvested under irrigated systems grows faster by +17%, because irrigation allows higher cropping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 withdrawals slower growth than AH under irrigation, because of higher water use efficiency and less irrigated 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7920" y="0"/>
            <a:ext cx="9144000" cy="620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ffff"/>
                </a:solidFill>
                <a:latin typeface="Arial"/>
              </a:rPr>
              <a:t>How to feed the World in 20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381720"/>
            <a:ext cx="9144000" cy="476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227640" y="6553080"/>
            <a:ext cx="29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Rome, 12 October 2009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6400" y="651528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ss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1341360"/>
            <a:ext cx="8064720" cy="40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ow to feed the World in 2050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The outlook for food and agriculture in a dynamically changing economic and demographic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osef Schmidhu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od and Agriculture Organization of the United 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3120" y="-7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6920" y="1197000"/>
            <a:ext cx="7490160" cy="2665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067280" y="5445000"/>
            <a:ext cx="7920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539280" y="907920"/>
            <a:ext cx="55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Agricultural transform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8208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brant agricultural sector needed for a successful economic trans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food prices and labour surplus stimulated economic growth in developed countries, absorption of rural labour, pull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 developing countries to enter into a similarly successful transformation, more investment in agriculture is cruci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nfrastructure, institutions, R&amp;D, extension, food safety nets, productive safety nets, resource conserv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468000" y="765000"/>
            <a:ext cx="267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4000" y="1557360"/>
            <a:ext cx="7127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world has the resources (land, water, genetics and know-how) to feed 9.2 billion people by 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od security is a predominantly a poverty problem; but  no success in poverty/hunger reduction without improvements in agri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oor depend on agriculture and they are disproportionately more affected by CC, higher food and energy p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riculture is the Poor's (and the world’s) best hope: Investments in agriculture are key to reducing poverty, hunger, adapting to and mitigating climate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68360" y="1052640"/>
            <a:ext cx="412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he key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4360" y="1915920"/>
            <a:ext cx="69832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ed 9.2 billion by 2050, feed them better and provide more nutritious 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duce feedstocks for a potentially huge bioenergy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ibute to overall development and poverty r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pe with scarce resources and shift to more sustainable produ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apt to the agro-ecological conditions of climate change and help reduce GHG emi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65480" y="1052640"/>
            <a:ext cx="811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he dynamically changing environ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4000" y="1915920"/>
            <a:ext cx="7272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pulation growth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2.3 bn to 2050 after +3.3 bn over the last 40 year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st growth in poorest region: SSA +11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west growth in richest region: E and SE Asia +1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2.7 bn in urban areas, massive urb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me growt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all a richer world by 20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2.9% growth p.a. for the world as a whole, higher in DCs lower in 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rgence, less inequality (country bas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s poverty, but low poverty line of $1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403280" y="1197000"/>
            <a:ext cx="649152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19360" y="1846440"/>
            <a:ext cx="4748040" cy="36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19360" y="4676760"/>
            <a:ext cx="474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19360" y="3822840"/>
            <a:ext cx="4748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19360" y="2954160"/>
            <a:ext cx="474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19360" y="2101680"/>
            <a:ext cx="474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19360" y="2101680"/>
            <a:ext cx="4748040" cy="3429000"/>
          </a:xfrm>
          <a:prstGeom prst="rect">
            <a:avLst/>
          </a:prstGeom>
          <a:noFill/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68400" y="5392800"/>
            <a:ext cx="162000" cy="13788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30400" y="5392800"/>
            <a:ext cx="150840" cy="13788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81240" y="5392800"/>
            <a:ext cx="149040" cy="13788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30280" y="5392800"/>
            <a:ext cx="150840" cy="13788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81120" y="5392800"/>
            <a:ext cx="162000" cy="13788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643120" y="5291280"/>
            <a:ext cx="150840" cy="23940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93960" y="5291280"/>
            <a:ext cx="149400" cy="23940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943360" y="5291280"/>
            <a:ext cx="149040" cy="23940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092400" y="5291280"/>
            <a:ext cx="163440" cy="23940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55840" y="5291280"/>
            <a:ext cx="149400" cy="23940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05240" y="5205240"/>
            <a:ext cx="149040" cy="32544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54280" y="5205240"/>
            <a:ext cx="152640" cy="32544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706920" y="5205240"/>
            <a:ext cx="160200" cy="32544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67120" y="5205240"/>
            <a:ext cx="150840" cy="32544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17960" y="5205240"/>
            <a:ext cx="150840" cy="32544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68800" y="4761000"/>
            <a:ext cx="149040" cy="76968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317840" y="5102280"/>
            <a:ext cx="163800" cy="42840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81640" y="4729320"/>
            <a:ext cx="149040" cy="80136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30680" y="4659480"/>
            <a:ext cx="149400" cy="87120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0080" y="4694400"/>
            <a:ext cx="150840" cy="83628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0920" y="3619440"/>
            <a:ext cx="161640" cy="191124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92560" y="2971800"/>
            <a:ext cx="150840" cy="255888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43400" y="2714760"/>
            <a:ext cx="149400" cy="281592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2800" y="2392200"/>
            <a:ext cx="149040" cy="313848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41840" y="2476440"/>
            <a:ext cx="163800" cy="3054240"/>
          </a:xfrm>
          <a:prstGeom prst="rect">
            <a:avLst/>
          </a:prstGeom>
          <a:solidFill>
            <a:srgbClr val="c0c0c0"/>
          </a:solidFill>
          <a:ln w="0">
            <a:solidFill>
              <a:srgbClr val="808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05640" y="2595600"/>
            <a:ext cx="149040" cy="293508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54680" y="2665440"/>
            <a:ext cx="150840" cy="2865240"/>
          </a:xfrm>
          <a:prstGeom prst="rect">
            <a:avLst/>
          </a:prstGeom>
          <a:solidFill>
            <a:srgbClr val="ffff00">
              <a:alpha val="8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05520" y="2901960"/>
            <a:ext cx="150840" cy="2628720"/>
          </a:xfrm>
          <a:prstGeom prst="rect">
            <a:avLst/>
          </a:prstGeom>
          <a:solidFill>
            <a:srgbClr val="ffff00">
              <a:alpha val="6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156360" y="3295800"/>
            <a:ext cx="162000" cy="2234880"/>
          </a:xfrm>
          <a:prstGeom prst="rect">
            <a:avLst/>
          </a:prstGeom>
          <a:solidFill>
            <a:srgbClr val="ffff00">
              <a:alpha val="4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311880" y="4005360"/>
            <a:ext cx="150840" cy="1525320"/>
          </a:xfrm>
          <a:prstGeom prst="rect">
            <a:avLst/>
          </a:prstGeom>
          <a:solidFill>
            <a:srgbClr val="ffff00">
              <a:alpha val="2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19360" y="2101680"/>
            <a:ext cx="1440" cy="342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55640" y="553068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55640" y="467676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55640" y="382284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55640" y="295416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55640" y="210168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19360" y="5530680"/>
            <a:ext cx="474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1719360" y="5530680"/>
            <a:ext cx="144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1868400" y="5530680"/>
            <a:ext cx="180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030400" y="5530680"/>
            <a:ext cx="144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181240" y="5530680"/>
            <a:ext cx="144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330280" y="5530680"/>
            <a:ext cx="180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481120" y="5530680"/>
            <a:ext cx="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643120" y="5530680"/>
            <a:ext cx="180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793960" y="5530680"/>
            <a:ext cx="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943360" y="5530680"/>
            <a:ext cx="144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092400" y="5530680"/>
            <a:ext cx="180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3255840" y="5530680"/>
            <a:ext cx="180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3405240" y="5530680"/>
            <a:ext cx="144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554280" y="5530680"/>
            <a:ext cx="180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706920" y="5530680"/>
            <a:ext cx="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867120" y="5530680"/>
            <a:ext cx="144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017960" y="5530680"/>
            <a:ext cx="144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168800" y="5530680"/>
            <a:ext cx="144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317840" y="5530680"/>
            <a:ext cx="180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481640" y="5530680"/>
            <a:ext cx="144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4630680" y="5530680"/>
            <a:ext cx="180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780080" y="5530680"/>
            <a:ext cx="144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4930920" y="5530680"/>
            <a:ext cx="144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5092560" y="5530680"/>
            <a:ext cx="180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5243400" y="5530680"/>
            <a:ext cx="180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392800" y="5530680"/>
            <a:ext cx="144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541840" y="5530680"/>
            <a:ext cx="180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05640" y="5530680"/>
            <a:ext cx="144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5854680" y="5530680"/>
            <a:ext cx="144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05520" y="5530680"/>
            <a:ext cx="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156360" y="5530680"/>
            <a:ext cx="144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318360" y="5530680"/>
            <a:ext cx="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6467400" y="5530680"/>
            <a:ext cx="1800" cy="84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93880" y="5342040"/>
            <a:ext cx="149400" cy="144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943280" y="5324400"/>
            <a:ext cx="163440" cy="17640"/>
          </a:xfrm>
          <a:custGeom>
            <a:avLst/>
            <a:gdLst/>
            <a:ahLst/>
            <a:rect l="l" t="t" r="r" b="b"/>
            <a:pathLst>
              <a:path w="124" h="10">
                <a:moveTo>
                  <a:pt x="0" y="10"/>
                </a:moveTo>
                <a:lnTo>
                  <a:pt x="57" y="0"/>
                </a:lnTo>
                <a:lnTo>
                  <a:pt x="124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106720" y="5324400"/>
            <a:ext cx="149040" cy="18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255760" y="5307120"/>
            <a:ext cx="149400" cy="1728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405160" y="5291280"/>
            <a:ext cx="150840" cy="1584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5273640"/>
            <a:ext cx="161640" cy="17640"/>
          </a:xfrm>
          <a:custGeom>
            <a:avLst/>
            <a:gdLst/>
            <a:ahLst/>
            <a:rect l="l" t="t" r="r" b="b"/>
            <a:pathLst>
              <a:path w="124" h="10">
                <a:moveTo>
                  <a:pt x="0" y="10"/>
                </a:moveTo>
                <a:lnTo>
                  <a:pt x="57" y="0"/>
                </a:lnTo>
                <a:lnTo>
                  <a:pt x="124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717640" y="5256360"/>
            <a:ext cx="150840" cy="1728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868480" y="5238360"/>
            <a:ext cx="149400" cy="1764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017880" y="5222880"/>
            <a:ext cx="149040" cy="1584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66920" y="5205240"/>
            <a:ext cx="163800" cy="17640"/>
          </a:xfrm>
          <a:custGeom>
            <a:avLst/>
            <a:gdLst/>
            <a:ahLst/>
            <a:rect l="l" t="t" r="r" b="b"/>
            <a:pathLst>
              <a:path w="124" h="10">
                <a:moveTo>
                  <a:pt x="0" y="10"/>
                </a:moveTo>
                <a:lnTo>
                  <a:pt x="57" y="0"/>
                </a:lnTo>
                <a:lnTo>
                  <a:pt x="124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330720" y="5187960"/>
            <a:ext cx="149040" cy="1728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479760" y="5154120"/>
            <a:ext cx="150840" cy="3348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630600" y="5137200"/>
            <a:ext cx="150840" cy="1728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781440" y="5102280"/>
            <a:ext cx="162000" cy="34920"/>
          </a:xfrm>
          <a:custGeom>
            <a:avLst/>
            <a:gdLst/>
            <a:ahLst/>
            <a:rect l="l" t="t" r="r" b="b"/>
            <a:pathLst>
              <a:path w="123" h="20">
                <a:moveTo>
                  <a:pt x="0" y="20"/>
                </a:moveTo>
                <a:lnTo>
                  <a:pt x="57" y="10"/>
                </a:lnTo>
                <a:lnTo>
                  <a:pt x="123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43440" y="5084640"/>
            <a:ext cx="150840" cy="17640"/>
          </a:xfrm>
          <a:custGeom>
            <a:avLst/>
            <a:gdLst/>
            <a:ahLst/>
            <a:rect l="l" t="t" r="r" b="b"/>
            <a:pathLst>
              <a:path w="115" h="10">
                <a:moveTo>
                  <a:pt x="0" y="10"/>
                </a:moveTo>
                <a:lnTo>
                  <a:pt x="57" y="10"/>
                </a:lnTo>
                <a:lnTo>
                  <a:pt x="115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094280" y="5035680"/>
            <a:ext cx="149040" cy="48960"/>
          </a:xfrm>
          <a:custGeom>
            <a:avLst/>
            <a:gdLst/>
            <a:ahLst/>
            <a:rect l="l" t="t" r="r" b="b"/>
            <a:pathLst>
              <a:path w="114" h="29">
                <a:moveTo>
                  <a:pt x="0" y="29"/>
                </a:moveTo>
                <a:lnTo>
                  <a:pt x="57" y="19"/>
                </a:lnTo>
                <a:lnTo>
                  <a:pt x="114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43320" y="5000760"/>
            <a:ext cx="162000" cy="34920"/>
          </a:xfrm>
          <a:custGeom>
            <a:avLst/>
            <a:gdLst/>
            <a:ahLst/>
            <a:rect l="l" t="t" r="r" b="b"/>
            <a:pathLst>
              <a:path w="123" h="20">
                <a:moveTo>
                  <a:pt x="0" y="20"/>
                </a:moveTo>
                <a:lnTo>
                  <a:pt x="57" y="10"/>
                </a:lnTo>
                <a:lnTo>
                  <a:pt x="123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405320" y="4932360"/>
            <a:ext cx="150840" cy="68400"/>
          </a:xfrm>
          <a:custGeom>
            <a:avLst/>
            <a:gdLst/>
            <a:ahLst/>
            <a:rect l="l" t="t" r="r" b="b"/>
            <a:pathLst>
              <a:path w="115" h="40">
                <a:moveTo>
                  <a:pt x="0" y="40"/>
                </a:moveTo>
                <a:lnTo>
                  <a:pt x="58" y="20"/>
                </a:lnTo>
                <a:lnTo>
                  <a:pt x="115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556160" y="4863960"/>
            <a:ext cx="149040" cy="684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705200" y="4813200"/>
            <a:ext cx="150840" cy="50760"/>
          </a:xfrm>
          <a:custGeom>
            <a:avLst/>
            <a:gdLst/>
            <a:ahLst/>
            <a:rect l="l" t="t" r="r" b="b"/>
            <a:pathLst>
              <a:path w="114" h="30">
                <a:moveTo>
                  <a:pt x="0" y="30"/>
                </a:moveTo>
                <a:lnTo>
                  <a:pt x="57" y="20"/>
                </a:lnTo>
                <a:lnTo>
                  <a:pt x="85" y="10"/>
                </a:lnTo>
                <a:lnTo>
                  <a:pt x="114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56040" y="4659480"/>
            <a:ext cx="162000" cy="153720"/>
          </a:xfrm>
          <a:custGeom>
            <a:avLst/>
            <a:gdLst/>
            <a:ahLst/>
            <a:rect l="l" t="t" r="r" b="b"/>
            <a:pathLst>
              <a:path w="124" h="89">
                <a:moveTo>
                  <a:pt x="0" y="89"/>
                </a:moveTo>
                <a:lnTo>
                  <a:pt x="57" y="50"/>
                </a:lnTo>
                <a:lnTo>
                  <a:pt x="124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18040" y="4471920"/>
            <a:ext cx="150840" cy="187560"/>
          </a:xfrm>
          <a:custGeom>
            <a:avLst/>
            <a:gdLst/>
            <a:ahLst/>
            <a:rect l="l" t="t" r="r" b="b"/>
            <a:pathLst>
              <a:path w="114" h="109">
                <a:moveTo>
                  <a:pt x="0" y="109"/>
                </a:moveTo>
                <a:lnTo>
                  <a:pt x="57" y="60"/>
                </a:lnTo>
                <a:lnTo>
                  <a:pt x="114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68880" y="4268880"/>
            <a:ext cx="149400" cy="20304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18280" y="4029120"/>
            <a:ext cx="149040" cy="239760"/>
          </a:xfrm>
          <a:custGeom>
            <a:avLst/>
            <a:gdLst/>
            <a:ahLst/>
            <a:rect l="l" t="t" r="r" b="b"/>
            <a:pathLst>
              <a:path w="114" h="139">
                <a:moveTo>
                  <a:pt x="0" y="139"/>
                </a:moveTo>
                <a:lnTo>
                  <a:pt x="57" y="69"/>
                </a:lnTo>
                <a:lnTo>
                  <a:pt x="114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67320" y="3808440"/>
            <a:ext cx="163440" cy="220680"/>
          </a:xfrm>
          <a:custGeom>
            <a:avLst/>
            <a:gdLst/>
            <a:ahLst/>
            <a:rect l="l" t="t" r="r" b="b"/>
            <a:pathLst>
              <a:path w="124" h="128">
                <a:moveTo>
                  <a:pt x="0" y="128"/>
                </a:moveTo>
                <a:lnTo>
                  <a:pt x="57" y="59"/>
                </a:lnTo>
                <a:lnTo>
                  <a:pt x="124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5630760" y="3585960"/>
            <a:ext cx="149400" cy="22212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780160" y="3362400"/>
            <a:ext cx="150840" cy="22392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931000" y="3159000"/>
            <a:ext cx="149040" cy="203400"/>
          </a:xfrm>
          <a:custGeom>
            <a:avLst/>
            <a:gdLst/>
            <a:ahLst/>
            <a:rect l="l" t="t" r="r" b="b"/>
            <a:pathLst>
              <a:path w="114" h="118">
                <a:moveTo>
                  <a:pt x="0" y="118"/>
                </a:moveTo>
                <a:lnTo>
                  <a:pt x="57" y="59"/>
                </a:lnTo>
                <a:lnTo>
                  <a:pt x="114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80040" y="3006720"/>
            <a:ext cx="162000" cy="152280"/>
          </a:xfrm>
          <a:custGeom>
            <a:avLst/>
            <a:gdLst/>
            <a:ahLst/>
            <a:rect l="l" t="t" r="r" b="b"/>
            <a:pathLst>
              <a:path w="124" h="89">
                <a:moveTo>
                  <a:pt x="0" y="89"/>
                </a:moveTo>
                <a:lnTo>
                  <a:pt x="58" y="39"/>
                </a:lnTo>
                <a:lnTo>
                  <a:pt x="124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242040" y="2923920"/>
            <a:ext cx="201600" cy="8244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67400" y="2101680"/>
            <a:ext cx="1800" cy="3429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67400" y="553068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467400" y="515448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467400" y="476100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67400" y="438768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67400" y="401148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67400" y="361944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67400" y="324468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467400" y="2870280"/>
            <a:ext cx="63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67400" y="247644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67400" y="2101680"/>
            <a:ext cx="63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1268280"/>
            <a:ext cx="7848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cc00"/>
                </a:solidFill>
                <a:latin typeface="Arial"/>
              </a:rPr>
              <a:t>Population growth to continue, but at a slower 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17240" y="539280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17240" y="454032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3.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317240" y="368784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6.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317240" y="281772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9.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18240" y="196524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2.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593360" y="57675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7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355480" y="57675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8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133440" y="57675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8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95200" y="57675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9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57320" y="57675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19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30600" y="57675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92360" y="57675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05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-218160" y="3755160"/>
            <a:ext cx="23241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Total population (billion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16080" y="539280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617160" y="501804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617160" y="462456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617160" y="425124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617160" y="387504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617160" y="348300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17160" y="310824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17160" y="273204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617160" y="234000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617160" y="196524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.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rot="16200000">
            <a:off x="5912280" y="3528360"/>
            <a:ext cx="2907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nnual increments (billion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987640" y="6381720"/>
            <a:ext cx="61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rce: UN, World Population Assessment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0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68720" y="1052640"/>
            <a:ext cx="358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The food outl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00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od production: slow down in grow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70% between 2005/07 and 20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1,000 million t of cereals (from 2,200 million t to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200 million t of meats (from 270 million t to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300 million t of soybeans (from 215 million t tod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od trade: rapid expansion over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C ne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ts cereal: 125 million t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300 million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C ne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ts oilseeds: 8 million t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5 million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C ne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ts sugar: 10 million t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20 million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od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ular downward trend in real prices to discontin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ergy price link to become more 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energy demand: wildcard for production, trade and pr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467280" y="1052640"/>
            <a:ext cx="648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Nutrition, hunger &amp; malnutr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4360" y="1916280"/>
            <a:ext cx="820872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calorie avai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770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050 kcal/p/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C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680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970 kcal/p/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er levels and incidence of hu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om 823 m (16.3%) in 2003/05 to 370 m in 2050 (4.8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FS target of halving the absolute numbers only in the 2040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gress in reducing hunger, but insu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levels of overweight and obe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NCDs (diabetes 2, coronary heart disease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owing double burden of malnutrition, from “food poverty” to “health povert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67640" y="1052640"/>
            <a:ext cx="562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Is there enough crop la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400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uge potential: 4.2 billion h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60 billion ha in use today, increase to 1.67 billion ha by 20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land reserves unevenly distributed: ample in SSA and LA, exhausted in NENA and S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: 800 mha covered by forests, 200 mha in protected areas, 60 mha in sett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466920" y="1052640"/>
            <a:ext cx="653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Is there enough yield potenti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400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urces of growth: predominantly through higher productivity (as in the pa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orld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7% yields, 14% CI, 9%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Cs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1% yields,   8% CI, 21%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ield growth: considerable slow down: 0.8% p.a. in the future compared to 1.7% in the past Yield potent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ill considerable untapped/bridgeable yield potent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fication possible to narrow yield ga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chnology potential to raise yield cei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: R&amp;D needed for crops that are important for the poor (millet, sorghum, R&amp;T, pulses, plantai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2f46"/>
            </a:gs>
            <a:gs pos="50000">
              <a:srgbClr val="336699"/>
            </a:gs>
            <a:gs pos="100000">
              <a:srgbClr val="172f4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68360" y="105264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Is there enough wate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4000" y="191592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a equipped with irr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31 mha to 318 m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Cs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+32 mha to 251 m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 under irrigation: +1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withdrawals: “only” +11%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water use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cline of irrigated ric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 “pressure”: withdrawals as share of renewable water resources relatively low for the world as a whole, but very high in NENA (58-&gt;62%) and high and rising in SASIA (36-&gt;3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7T09:24:18Z</dcterms:created>
  <dc:creator>Schmidhuber, Josef</dc:creator>
  <dc:description/>
  <dc:language>en-US</dc:language>
  <cp:lastModifiedBy>Schmidhuber, Josef (ESAG)</cp:lastModifiedBy>
  <dcterms:modified xsi:type="dcterms:W3CDTF">2009-10-11T13:42:42Z</dcterms:modified>
  <cp:revision>746</cp:revision>
  <dc:subject/>
  <dc:title>Slide 1</dc:title>
</cp:coreProperties>
</file>