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media/image9.png" ContentType="image/png"/>
  <Override PartName="/ppt/media/image10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B261-BC9F-4D7B-9EE4-4B7DD33A50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884E-11DD-4720-BF92-5717488A43B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D208-878D-4CEA-A188-43B3B5122D2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7D78-350E-47E6-A212-43C4F590A11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906C-B950-4215-9DE1-92A04C7FF7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06B5-A978-4D73-88E1-AF9D85C5C99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B757-6030-4F70-9432-6ACA5C059E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3255-49D0-4FFD-B24F-375A88858A1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7BD-39F0-4E7A-ACFF-8CD14170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871-2261-4FC2-8D5F-C6A3327D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B2D-F815-4A8B-BE90-A00F8A6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5FE-8FD0-40E0-B858-AF02FAA3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DE5-D482-4658-A236-F0A2680C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B5C-180B-4D94-92C7-37430C7F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A0F-DFC8-477E-9A52-F3315AA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34B-F19A-426D-8475-C617527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604-FDC9-4938-B906-35EC42D0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619-48DE-4841-9D17-C141C88C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30A-0D78-4805-9540-6055217C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B0D-41A8-4F60-8A5B-CD515CA4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C40A-A813-412B-9D43-61A1875F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A571-FAC9-4A44-A718-9D2560F8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7DE-C92C-4A78-97D7-B873BC4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E83B-C7C1-451A-AEBE-43358D1C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29D-5F64-43D6-A9BA-A4A7CC40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6741-4AD4-4430-942E-79406A10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65A2-2FF0-4411-BE55-3D799FC9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7101-B190-4B0F-BB8E-8DFB93E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61AA-F110-4209-BADF-4159104A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61A0-03DC-44B7-B403-F760D163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3C70-B6D6-42F9-BE7A-D99CF028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5CFE-479C-4D2D-91B7-90FA1E5D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08B6-1EFA-47E5-B186-5034D92E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709F-CDC8-444B-AD5D-763B2F14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FF1F-571D-487B-A7F3-176ECC00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058E-DB53-4741-976D-D60A4932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17E3-D7C5-4851-BDDA-5B2845D5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7B7A-5DCB-4403-83DB-43E37217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33EB-912C-424C-8507-C619218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A285-8E57-4096-965E-6CE2CCA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714EC-F04A-4811-B4B0-38DC6D6A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5B98-B0CC-448C-A6F2-6A89A53D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82CA-D6E1-4574-9A75-4A306253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B50FE-7DBF-4507-AAAD-3D01B594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D020-7079-4F72-B88C-95A652A0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0540-C4F6-4ABC-ACD2-97FEA08E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E9F91-F049-4592-BF8B-D024FBF1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AA173-4E19-4E3C-9244-E45891B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67C8-8329-48AF-A30D-8DA364DD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8B6F1-6BC7-4EF1-8055-B51F315C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D8F18-3D50-49B0-A3FB-69BFA26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3A55-1BE4-4465-8221-C5034B7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F3FB-068D-4835-8D84-B30769F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398D-0C33-43DD-83FD-54A65EB1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2E7B-6FCB-4CE1-B8EE-6C66D661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E3F8-2EC3-4739-8355-86767043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8"/>
          <p:cNvSpPr/>
          <p:nvPr/>
        </p:nvSpPr>
        <p:spPr>
          <a:xfrm>
            <a:off x="-1440" y="1825560"/>
            <a:ext cx="12193560" cy="503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2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3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pic>
        <p:nvPicPr>
          <p:cNvPr id="4" name="Imagem 11" descr=""/>
          <p:cNvPicPr/>
          <p:nvPr/>
        </p:nvPicPr>
        <p:blipFill>
          <a:blip r:embed="rId5"/>
          <a:stretch/>
        </p:blipFill>
        <p:spPr>
          <a:xfrm>
            <a:off x="9177480" y="6014880"/>
            <a:ext cx="217620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8"/>
          <p:cNvSpPr/>
          <p:nvPr/>
        </p:nvSpPr>
        <p:spPr>
          <a:xfrm>
            <a:off x="-1440" y="584280"/>
            <a:ext cx="12193560" cy="627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43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44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ângulo 8"/>
          <p:cNvSpPr/>
          <p:nvPr/>
        </p:nvSpPr>
        <p:spPr>
          <a:xfrm>
            <a:off x="-1440" y="1825560"/>
            <a:ext cx="12193560" cy="503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83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pic>
        <p:nvPicPr>
          <p:cNvPr id="85" name="Imagem 11" descr=""/>
          <p:cNvPicPr/>
          <p:nvPr/>
        </p:nvPicPr>
        <p:blipFill>
          <a:blip r:embed="rId5"/>
          <a:stretch/>
        </p:blipFill>
        <p:spPr>
          <a:xfrm>
            <a:off x="9177480" y="6014880"/>
            <a:ext cx="2176200" cy="336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1"/>
          </p:nvPr>
        </p:nvSpPr>
        <p:spPr>
          <a:xfrm>
            <a:off x="8380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2"/>
          </p:nvPr>
        </p:nvSpPr>
        <p:spPr>
          <a:xfrm>
            <a:off x="4038480" y="61279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86104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4AC4-5AB7-43B5-ADA8-092DB58E6F85}" type="slidenum">
              <a:rPr b="0" lang="pt-B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ângulo 8"/>
          <p:cNvSpPr/>
          <p:nvPr/>
        </p:nvSpPr>
        <p:spPr>
          <a:xfrm>
            <a:off x="-1440" y="1825560"/>
            <a:ext cx="12193560" cy="503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pic>
        <p:nvPicPr>
          <p:cNvPr id="129" name="Imagem 11" descr=""/>
          <p:cNvPicPr/>
          <p:nvPr/>
        </p:nvPicPr>
        <p:blipFill>
          <a:blip r:embed="rId5"/>
          <a:stretch/>
        </p:blipFill>
        <p:spPr>
          <a:xfrm>
            <a:off x="9177480" y="6014880"/>
            <a:ext cx="2176200" cy="336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8380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4038480" y="61279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86104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AEB2-B69A-49CE-86F8-9B37FF903ED2}" type="slidenum">
              <a:rPr b="0" lang="pt-B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ângulo 8"/>
          <p:cNvSpPr/>
          <p:nvPr/>
        </p:nvSpPr>
        <p:spPr>
          <a:xfrm>
            <a:off x="-1440" y="584280"/>
            <a:ext cx="12193560" cy="627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171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172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7"/>
          </p:nvPr>
        </p:nvSpPr>
        <p:spPr>
          <a:xfrm>
            <a:off x="8380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8"/>
          </p:nvPr>
        </p:nvSpPr>
        <p:spPr>
          <a:xfrm>
            <a:off x="4038480" y="61279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9"/>
          </p:nvPr>
        </p:nvSpPr>
        <p:spPr>
          <a:xfrm>
            <a:off x="86104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E8A1-03C1-4618-9EF5-5587DBB1071A}" type="slidenum">
              <a:rPr b="0" lang="pt-B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ângulo 8"/>
          <p:cNvSpPr/>
          <p:nvPr/>
        </p:nvSpPr>
        <p:spPr>
          <a:xfrm>
            <a:off x="-1440" y="584280"/>
            <a:ext cx="12193560" cy="627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214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215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0"/>
          </p:nvPr>
        </p:nvSpPr>
        <p:spPr>
          <a:xfrm>
            <a:off x="8380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1"/>
          </p:nvPr>
        </p:nvSpPr>
        <p:spPr>
          <a:xfrm>
            <a:off x="4038480" y="61279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86104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62F2-5937-4185-9685-88691C423718}" type="slidenum">
              <a:rPr b="0" lang="pt-B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4760" y="2349000"/>
            <a:ext cx="100141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f5597"/>
                </a:solidFill>
                <a:latin typeface="Calibri"/>
                <a:ea typeface="Arial"/>
              </a:rPr>
              <a:t>FOOD ADDITIVES MANAGEMENT AT NATIONAL LEVEL: BRAZILIAN EXPERIENC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CaixaDeTexto 1"/>
          <p:cNvSpPr/>
          <p:nvPr/>
        </p:nvSpPr>
        <p:spPr>
          <a:xfrm>
            <a:off x="7061400" y="4508640"/>
            <a:ext cx="43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Lívia Emi Inum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ealth Regulation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razilian Health Regulatory Agency - ANVI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Imagem 8" descr="Vital e Saudável: Os aditivos alimentares - Google Chrome"/>
          <p:cNvPicPr/>
          <p:nvPr/>
        </p:nvPicPr>
        <p:blipFill>
          <a:blip r:embed="rId1"/>
          <a:srcRect l="32134" t="40302" r="49881" b="33887"/>
          <a:stretch/>
        </p:blipFill>
        <p:spPr>
          <a:xfrm>
            <a:off x="1011240" y="3281400"/>
            <a:ext cx="28083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CaixaDeTexto 23"/>
          <p:cNvSpPr/>
          <p:nvPr/>
        </p:nvSpPr>
        <p:spPr>
          <a:xfrm>
            <a:off x="1803240" y="911160"/>
            <a:ext cx="9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WHO IS RESPONSIBLE FOR REGULATING FOOD ADDITIVES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tângulo: Cantos Arredondados 23"/>
          <p:cNvSpPr/>
          <p:nvPr/>
        </p:nvSpPr>
        <p:spPr>
          <a:xfrm>
            <a:off x="407880" y="2192400"/>
            <a:ext cx="6918480" cy="3165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tângulo 12"/>
          <p:cNvSpPr/>
          <p:nvPr/>
        </p:nvSpPr>
        <p:spPr>
          <a:xfrm>
            <a:off x="588960" y="2438280"/>
            <a:ext cx="64562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Anvis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 is responsible for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egulating, controlling and inspecting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food additives in Brazil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(Law n. 9.782/199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However, this responsability is shared with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Ministry of Agricultur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, when the food category is related to its theme of action (products of animal and plant origin, such as meat, fish, chicken, pork and milk products, beverag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Diagrama 3" descr=""/>
          <p:cNvPicPr/>
          <p:nvPr/>
        </p:nvPicPr>
        <p:blipFill>
          <a:blip r:embed="rId1"/>
          <a:stretch/>
        </p:blipFill>
        <p:spPr>
          <a:xfrm>
            <a:off x="4816440" y="1889280"/>
            <a:ext cx="9406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CaixaDeTexto 23"/>
          <p:cNvSpPr/>
          <p:nvPr/>
        </p:nvSpPr>
        <p:spPr>
          <a:xfrm>
            <a:off x="1838160" y="795240"/>
            <a:ext cx="9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WHAT ARE THE PRINCIPLES FOR USING FOOD ADDITIVES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Diagrama 1" descr=""/>
          <p:cNvPicPr/>
          <p:nvPr/>
        </p:nvPicPr>
        <p:blipFill>
          <a:blip r:embed="rId1"/>
          <a:stretch/>
        </p:blipFill>
        <p:spPr>
          <a:xfrm>
            <a:off x="3597120" y="1596960"/>
            <a:ext cx="7442280" cy="4748400"/>
          </a:xfrm>
          <a:prstGeom prst="rect">
            <a:avLst/>
          </a:prstGeom>
          <a:ln w="0">
            <a:noFill/>
          </a:ln>
        </p:spPr>
      </p:pic>
      <p:sp>
        <p:nvSpPr>
          <p:cNvPr id="271" name="CaixaDeTexto 2"/>
          <p:cNvSpPr/>
          <p:nvPr/>
        </p:nvSpPr>
        <p:spPr>
          <a:xfrm>
            <a:off x="3597120" y="589284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rdinance n. 540/19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Imagem 3" descr=""/>
          <p:cNvPicPr/>
          <p:nvPr/>
        </p:nvPicPr>
        <p:blipFill>
          <a:blip r:embed="rId2"/>
          <a:stretch/>
        </p:blipFill>
        <p:spPr>
          <a:xfrm>
            <a:off x="1554120" y="3116160"/>
            <a:ext cx="24354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m 2" descr=""/>
          <p:cNvPicPr/>
          <p:nvPr/>
        </p:nvPicPr>
        <p:blipFill>
          <a:blip r:embed="rId1"/>
          <a:stretch/>
        </p:blipFill>
        <p:spPr>
          <a:xfrm>
            <a:off x="10093320" y="3759120"/>
            <a:ext cx="1996920" cy="1897200"/>
          </a:xfrm>
          <a:prstGeom prst="rect">
            <a:avLst/>
          </a:prstGeom>
          <a:ln w="0">
            <a:noFill/>
          </a:ln>
        </p:spPr>
      </p:pic>
      <p:sp>
        <p:nvSpPr>
          <p:cNvPr id="274" name="CaixaDeTexto 23"/>
          <p:cNvSpPr/>
          <p:nvPr/>
        </p:nvSpPr>
        <p:spPr>
          <a:xfrm>
            <a:off x="1886040" y="868320"/>
            <a:ext cx="9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HOW DOES FOOD ADDITIVES MANAGEMENT WORK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tângulo 5"/>
          <p:cNvSpPr/>
          <p:nvPr/>
        </p:nvSpPr>
        <p:spPr>
          <a:xfrm>
            <a:off x="968400" y="2414520"/>
            <a:ext cx="87026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he Brazilian legislation i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positiv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, therefore, an additive only can be used when it is permitted in a specific legislation, for a specific food category, in its respective function and maximum level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Decree Law n. 986/1969, Ordinance n. 540/199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xample: RDC n. 239/2018 (food additives and processing aids for food supplemen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visa website contains all the food additives and processing aids gathered in the Food Standards Library: http://portal.anvisa.gov.br/alimentos/legislaca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tângulo: Cantos Arredondados 23"/>
          <p:cNvSpPr/>
          <p:nvPr/>
        </p:nvSpPr>
        <p:spPr>
          <a:xfrm>
            <a:off x="695160" y="2111400"/>
            <a:ext cx="9315720" cy="3647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CaixaDeTexto 23"/>
          <p:cNvSpPr/>
          <p:nvPr/>
        </p:nvSpPr>
        <p:spPr>
          <a:xfrm>
            <a:off x="1838160" y="725400"/>
            <a:ext cx="99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WHAT ARE THE BIGGEST CHALLENGES REGARDING FOOD ADDITIVES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iagrama 1" descr=""/>
          <p:cNvPicPr/>
          <p:nvPr/>
        </p:nvPicPr>
        <p:blipFill>
          <a:blip r:embed="rId1"/>
          <a:stretch/>
        </p:blipFill>
        <p:spPr>
          <a:xfrm>
            <a:off x="365040" y="1706400"/>
            <a:ext cx="8828280" cy="4633920"/>
          </a:xfrm>
          <a:prstGeom prst="rect">
            <a:avLst/>
          </a:prstGeom>
          <a:ln w="0">
            <a:noFill/>
          </a:ln>
        </p:spPr>
      </p:pic>
      <p:pic>
        <p:nvPicPr>
          <p:cNvPr id="279" name="Imagem 3" descr=""/>
          <p:cNvPicPr/>
          <p:nvPr/>
        </p:nvPicPr>
        <p:blipFill>
          <a:blip r:embed="rId2"/>
          <a:stretch/>
        </p:blipFill>
        <p:spPr>
          <a:xfrm>
            <a:off x="9354960" y="2716200"/>
            <a:ext cx="26845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CaixaDeTexto 23"/>
          <p:cNvSpPr/>
          <p:nvPr/>
        </p:nvSpPr>
        <p:spPr>
          <a:xfrm>
            <a:off x="1838160" y="725400"/>
            <a:ext cx="99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WHAT DO WE EXPECT FOR THE FUTURE REGARDING FOOD ADDITIVES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Diagrama 1" descr=""/>
          <p:cNvPicPr/>
          <p:nvPr/>
        </p:nvPicPr>
        <p:blipFill>
          <a:blip r:embed="rId1"/>
          <a:stretch/>
        </p:blipFill>
        <p:spPr>
          <a:xfrm>
            <a:off x="2755800" y="1731960"/>
            <a:ext cx="8936280" cy="4529160"/>
          </a:xfrm>
          <a:prstGeom prst="rect">
            <a:avLst/>
          </a:prstGeom>
          <a:ln w="0">
            <a:noFill/>
          </a:ln>
        </p:spPr>
      </p:pic>
      <p:pic>
        <p:nvPicPr>
          <p:cNvPr id="282" name="Imagem 3" descr=""/>
          <p:cNvPicPr/>
          <p:nvPr/>
        </p:nvPicPr>
        <p:blipFill>
          <a:blip r:embed="rId2"/>
          <a:stretch/>
        </p:blipFill>
        <p:spPr>
          <a:xfrm>
            <a:off x="384120" y="2490840"/>
            <a:ext cx="23702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tângulo 1"/>
          <p:cNvSpPr/>
          <p:nvPr/>
        </p:nvSpPr>
        <p:spPr>
          <a:xfrm>
            <a:off x="1492200" y="2603520"/>
            <a:ext cx="8866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e75b6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2f5597"/>
                </a:solidFill>
                <a:uFillTx/>
                <a:latin typeface="Arial"/>
              </a:rPr>
              <a:t>geare@anvisa.gov.b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2f5597"/>
                </a:solidFill>
                <a:uFillTx/>
                <a:latin typeface="Arial"/>
              </a:rPr>
              <a:t>alimentos@anvisa.gov.b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Imagem 2" descr=""/>
          <p:cNvPicPr/>
          <p:nvPr/>
        </p:nvPicPr>
        <p:blipFill>
          <a:blip r:embed="rId1"/>
          <a:stretch/>
        </p:blipFill>
        <p:spPr>
          <a:xfrm>
            <a:off x="4421160" y="6000840"/>
            <a:ext cx="37400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7T21:18:40Z</dcterms:created>
  <dc:creator>Debora Grande Domingues</dc:creator>
  <dc:description/>
  <dc:language>en-US</dc:language>
  <cp:lastModifiedBy>Livia Emi Inumaru</cp:lastModifiedBy>
  <dcterms:modified xsi:type="dcterms:W3CDTF">2019-03-08T17:20:39Z</dcterms:modified>
  <cp:revision>343</cp:revision>
  <dc:subject/>
  <dc:title>Título da Apresentação</dc:title>
</cp:coreProperties>
</file>