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424-D9BA-44B8-A775-17FFF2F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C19-8A4A-477B-8C0E-7A3D0566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C4C-9672-496A-B362-EB1AECAC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3E2-E91C-4820-90E7-67A9B604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6DC-9B2E-4F2E-96F0-3C5AAA66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35D-F2C0-48BF-A72C-1B2CBE14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A80-0FB6-4E63-8A8C-AC5A2B9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67E-C33A-4AEA-8372-1AE3A34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529-C507-4C03-BE9C-7B2CE81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48D-204C-4E4F-B04F-25250AB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789-6057-4461-9E2B-AED5B58C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D96-5271-4665-9AD8-6ED7B44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F1E-463C-47A5-A9BE-5258DF301C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10:36:38Z</dcterms:modified>
  <cp:revision>8</cp:revision>
  <dc:subject/>
  <dc:title>Presentazione di PowerPoint</dc:title>
</cp:coreProperties>
</file>