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946-7016-4AC2-8535-797FC34C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CAA5-F480-4B9C-BEEF-539E52FD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31A-AD54-4738-8814-4C94764E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1E43-72DE-409A-B3A4-7EF217D1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423-DE25-4CDF-BE54-3E333144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F66E-BF33-49B1-820D-553BD27F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1511-EBED-4017-9549-44463731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23BD-E829-4254-8681-669EEA45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2353-B621-4578-8792-BF70E18E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835-6123-4AFF-8135-4FE46271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E97D-DEA8-4A4A-AF8A-3508BB57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490-4DB0-4244-BF2F-B9E69E5D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75E9-E638-499C-B9F7-E65A8EE2A83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09-25T08:34:23Z</dcterms:modified>
  <cp:revision>7</cp:revision>
  <dc:subject/>
  <dc:title>Presentazione di PowerPoint</dc:title>
</cp:coreProperties>
</file>