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3AB8E-D3FB-446F-AB41-0F4BA47E9B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3C1B9-694C-4D6C-B2CF-0CE9DA1EE8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133BC-8668-4510-884A-57A349590A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F9BF5-CE62-4660-8799-DA92B999FD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E6675-107E-456D-B8ED-5B837A9407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53A06-0B41-4913-8F58-85CE21A084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81916-8210-4C7C-BFB7-95F63777F2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EC192-3ACC-4174-894C-DCDF00060E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2C1A0-4957-4B2D-8F7C-8564D92771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63B50-9A2C-4D35-A457-4376FC0351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AF3F1-E1A3-4CD0-8042-0FBF208EF6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81DAA-6A62-4DAB-A4D5-22D0DE0A62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572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4528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572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4528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28520"/>
            <a:ext cx="73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6572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4528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6572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4528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28520"/>
            <a:ext cx="73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"/>
          <p:cNvSpPr/>
          <p:nvPr/>
        </p:nvSpPr>
        <p:spPr>
          <a:xfrm>
            <a:off x="3276720" y="63817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Text Box 2"/>
          <p:cNvSpPr/>
          <p:nvPr/>
        </p:nvSpPr>
        <p:spPr>
          <a:xfrm>
            <a:off x="6781680" y="228600"/>
            <a:ext cx="214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720720" y="1619280"/>
            <a:ext cx="77360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Aperçu de l’Ateli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720720" y="3959280"/>
            <a:ext cx="7543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Module de présentation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gramme: Jour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20720" y="1619280"/>
          <a:ext cx="8099280" cy="5070600"/>
        </p:xfrm>
        <a:graphic>
          <a:graphicData uri="http://schemas.openxmlformats.org/drawingml/2006/table">
            <a:tbl>
              <a:tblPr/>
              <a:tblGrid>
                <a:gridCol w="974880"/>
                <a:gridCol w="7124400"/>
              </a:tblGrid>
              <a:tr h="10393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ésentation 4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Caractérisation de la ou des modification(s) génétique(s), évaluation de la toxicité éventuelle et de l’allergénicité potentielle, et analyse de la composition des principaux constitu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2 du Groupe de travail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Évaluer la toxicité éventuel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éjeu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plénière 2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Compte-rend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3 du Groupe de travail. Allergénicité potentiel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é caf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plénière 3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Compte-rend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thèse et conclusion du Jour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gramme: Jour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20720" y="1619280"/>
          <a:ext cx="8099280" cy="5137200"/>
        </p:xfrm>
        <a:graphic>
          <a:graphicData uri="http://schemas.openxmlformats.org/drawingml/2006/table">
            <a:tbl>
              <a:tblPr/>
              <a:tblGrid>
                <a:gridCol w="898560"/>
                <a:gridCol w="7200720"/>
              </a:tblGrid>
              <a:tr h="4683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4 du Groupe de travail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L’analyse de la com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é caf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plénière 4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Compte-rend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éjeu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ésentation 5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Communication sur les risq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5 du Groupe de travail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A l’aide des études de ca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onner une définition stratégique de la communication sur les risque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éparer un exposé des décisions à l’intention du grand publ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é caf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plénière 5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Compte-rend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Évaluation de l’atelier, certificats, remarques de conclusion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lôture de l’atel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20720" y="270000"/>
            <a:ext cx="737856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Objectifs de l’Atel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720720" y="1619280"/>
            <a:ext cx="80866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er la mise en oeuv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incipes et directiv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ement recon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ager l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ériences des méthodes de réglementation et d’évaluation de la sécurité sanitaire des aliments, entre de nombreux p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Portée de l’Atel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20720" y="1619280"/>
            <a:ext cx="80773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mer des experts (formation de formateurs) pour animer des ateliers visant à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méliorer les capacités des autorités réglement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évaluer, gér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communiqu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es risques liés aux aliments dérivés de plantes à ADN recombin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720720" y="1619280"/>
            <a:ext cx="80964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s et principes de l’évaluation de la sécurité sanit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che et cadres de l’évaluation de la sécurité sanit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valuation de la toxicité éventuelle, de l’allergénicité potentielle et analyses de la com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sur les risques et considérations de politique publ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ésen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Sessions du Groupe de trav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20720" y="1619280"/>
            <a:ext cx="80964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réunions en petits groupes, avec des études de cas, permettront aux participants de faire des travaux pratiques sur la préparation et la conduite d’ateliers de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jets des études de 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maïs MON 8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oja GTS 40-3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oja à haute teneur en acide olé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720720" y="270000"/>
            <a:ext cx="735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Résultats escompt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720720" y="1619280"/>
            <a:ext cx="8072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telier fourni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vue d’ensemble des perspectives internationales concernant la sécurité sanitaire des aliments dérivés de plantes à ADN recombiné (Codex et FAO/O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expérience théorique et pratique de la méthodologie d’évaluation de la sécurité sanit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informations pratiques sur l’organisation et l‘exécution des ateliers de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i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20720" y="270000"/>
            <a:ext cx="735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Résultats escompté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(f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720720" y="1619280"/>
            <a:ext cx="8072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responsables qualifiés peuv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forcer la sécurité sanitaire des aliments, et ce faisant, non seulement améliorer la santé des consommateurs, mais aussi garantir la sécurité sanitaire des aliments mis sur le marché intern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Programme: Jour 1 – mat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20720" y="1619280"/>
          <a:ext cx="8099280" cy="5078520"/>
        </p:xfrm>
        <a:graphic>
          <a:graphicData uri="http://schemas.openxmlformats.org/drawingml/2006/table">
            <a:tbl>
              <a:tblPr/>
              <a:tblGrid>
                <a:gridCol w="974880"/>
                <a:gridCol w="7124400"/>
              </a:tblGrid>
              <a:tr h="490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ésentation 1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Aperçu de l’Atel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ésentation des participants et des formate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3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ésentation 2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Concepts et principes de l’évaluation de la sécurité sanitaire des aliments transgéniques, principales initiatives internationales (CODEX, FAO/OMS, OCDE, et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é caf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ésentation des trois études de ca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Évènement de transformation MON 810 – maïs génétiquement modifié résistant aux insec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oja à haute teneur en acide olé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oja transgénique résistant aux herbici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âches des groupes de trava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éjeu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Programme: Jour 1 – après-mi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20720" y="1619280"/>
          <a:ext cx="8099280" cy="4991040"/>
        </p:xfrm>
        <a:graphic>
          <a:graphicData uri="http://schemas.openxmlformats.org/drawingml/2006/table">
            <a:tbl>
              <a:tblPr/>
              <a:tblGrid>
                <a:gridCol w="973080"/>
                <a:gridCol w="7126200"/>
              </a:tblGrid>
              <a:tr h="87156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ésentation 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: Approche comparative et cadre de l’évaluation 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la sécurité sanitaire des aliments transgéniq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660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1 du Groupe de travail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À l’aide des études de cas, identifier la description des éléments suivants, et déterminer si les informations correspondantes sont suffisante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escription de la plante à ADN recombin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escription de la plante-hôte et de son utilisation comme ali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escription du ou des organisme(s) donneur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escription de la (des) modification(s) génétique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é caf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plénière 1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mpte-rendu et discussion de la Session 1 du G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thèse et conclusion du Jour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20:47:54Z</dcterms:created>
  <dc:creator>Takeuchi, Masami (AGNS)</dc:creator>
  <dc:description/>
  <dc:language>en-US</dc:language>
  <cp:lastModifiedBy>Claudio</cp:lastModifiedBy>
  <dcterms:modified xsi:type="dcterms:W3CDTF">2009-10-03T09:08:59Z</dcterms:modified>
  <cp:revision>201</cp:revision>
  <dc:subject/>
  <dc:title>Concepts and Principles of GM Food Safety Assessment</dc:title>
</cp:coreProperties>
</file>