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7AC-410F-432D-BB8C-68487A0F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34D6-5D76-410F-82D1-94EE4125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A3F-FFBA-479D-A151-FE37B0DB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B14-9E09-4B0F-949B-CEC0011D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1B0-CA1C-4508-A2EF-D85EC0AC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7B02-CAB1-4A8A-9CA5-541FBFEB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C90-6CAF-422B-9C0C-82DAF0B8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315-D67A-42E0-9A5B-AB61A7BB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3E7-D98B-4AAE-B00E-36FBA12C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75B2-AC49-460E-8F6D-0F22331C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24C-ED50-4D42-A8E6-0CCEBE19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79A-357F-48D0-8B4D-18E0B8E8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E18C-C5A4-43C8-A0CE-105C7FEC22F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72200" y="6405480"/>
            <a:ext cx="2666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a84eb7"/>
                </a:solidFill>
                <a:latin typeface="Lucida Sans"/>
              </a:rPr>
              <a:t>Moldule ? / slide ?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224000"/>
            <a:ext cx="553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a84eb7"/>
                </a:solidFill>
                <a:latin typeface="Lucida Sans"/>
              </a:rPr>
              <a:t>Heading h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367000"/>
            <a:ext cx="868680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a84eb7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84eb7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in text main text tanto va la gatta al lardo che ci lascia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lo zampino main text tanto va la gatta al lardo che ci lascia lo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zamp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a84eb7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84eb7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in text main text tanto va la gatta al lardo che ci lascia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lo zamp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a84eb7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84eb7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in text main text tanto va la gatta al lardo che ci lascia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lo zampino main text tanto va la gatta al lardo che ci lascia lo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zamp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8-06-12T16:20:51Z</dcterms:modified>
  <cp:revision>6</cp:revision>
  <dc:subject/>
  <dc:title>Presentazione di PowerPoint</dc:title>
</cp:coreProperties>
</file>