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E0F-82D5-4F13-B8A8-A5BAB648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5A5-B790-4D3D-952E-0E4AC54A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A20-25AC-4F75-8B51-4CB35B11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A96-463D-433D-878E-03E62A64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1B1-2E92-400F-8015-861E458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A57-FFB2-41D5-92AA-011BC84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6D5-30EE-4D18-8633-8A0B26A6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48A-DEBF-4F64-9662-C8BD3C3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6E-65D2-42A9-B780-72B26CE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4C1-0C7A-4ECE-A2B0-5754BC4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D0D-8490-46B8-9C79-D42FC8E5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B54-1A5C-4424-BDE8-D60DF0D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119-5998-4E5B-95D9-124AD0508DA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51:51Z</dcterms:modified>
  <cp:revision>8</cp:revision>
  <dc:subject/>
  <dc:title>Presentazione di PowerPoint</dc:title>
</cp:coreProperties>
</file>