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CF4C-8808-4037-A5CB-E1E9D967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784F-6B16-4AB6-9375-034AB04F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FA0A-13ED-4611-BEEA-F242D9CC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FF7-CE1A-4F28-B70B-20C310B9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0BD3-7A33-438C-8284-E333292D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96A9-C821-45E1-B8F0-8FC2C714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05A6-CED3-40C2-AEFB-AA45FA5A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50D6-C46D-4578-B8FE-70FC5EAC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1F9A-8E32-44BB-BFB8-2F804BC3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67B1-1AE5-4305-8166-FD02F017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C757-D97B-46AC-9575-D4754545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C369-6A2B-43E2-A42F-5438A478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F73F-CABE-478F-9C29-2EAC4DE4553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9-09-25T08:50:28Z</dcterms:modified>
  <cp:revision>9</cp:revision>
  <dc:subject/>
  <dc:title>Presentazione di PowerPoint</dc:title>
</cp:coreProperties>
</file>