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FCC1F-FD6B-41CE-BB0F-88615FC44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8992-6A15-4AE2-8AF7-8F6BDB508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AB97-35C4-4BF5-9C97-48B46F5A9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175A-F9B2-422A-9EE7-7CD4E45EB2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7B470-BE7F-4810-8FDE-012237497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0CED0-2C80-47A0-96E7-8A46238BD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17CA8-4CB9-4DC6-BF6B-934B2EB61B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0A914-AE4B-4249-A4E8-CB6C688A4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3EB49-0EDE-4414-8017-EB7F1685A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B2B6-8096-4F71-B629-07828484DE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267EE-71E9-468E-9B3A-DFEF2EB552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DD0D3-5D5B-4B58-B0B5-8F5DF427B1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6F66B-1A50-481B-A368-778909E539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F13A-15D9-4EA3-9656-820A8FC434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43694-E55D-45AD-870B-7ABC86DE51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B69B2-C145-4F36-B1D5-16487217D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B3FB4-A613-4E91-9ACC-998E3B2551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15E03-AA0C-4C64-B6D4-D1C10F5C63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FAEAD-680B-4FD7-959D-1A6EF651FD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D91C-35AF-42B2-BDA0-06E2B2C42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6053-E540-4B00-892F-BA5CAC08E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2933-9CA4-4732-A28E-1610C3B0B6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ED363-D1E8-4B6F-858F-4BB9951666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BA75F-6174-4B47-9890-FC2DA105E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29CE5-1065-4D07-B8FA-A38B33DF0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ecisiones relativas a la comunicación de riesgos y a la evaluación de la inocu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ódulo de presentació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unción principal de la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gurar que toda la información y las opiniones necesarias para una gestión de riesgos eficaz se incorporan al proceso de toma de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ría incluir una explicación clara 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olíticas de evalu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a evalu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omitir la incertid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o parte importante del sistema de bioinocu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20720" y="1619280"/>
            <a:ext cx="8102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za la aceptación pública de los alimentos obtenidos de plantas de ADN recombin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e interacción con el público sobre los riesgos concretos y las medidas adop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anismo que crea confianza entre las partes interesadas de forma gradual, a medida que se pasa por las distintas fases de obtención de la planta de ADN recombinante y de los alimentos que de ella se der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20720" y="270000"/>
            <a:ext cx="73501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s componentes de la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20720" y="1619280"/>
            <a:ext cx="8067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técn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normalmente  incluyen los peligros científicos estudiados en l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ries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ciones de gest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rivan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no técn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re los que cabe citar los protocolo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os asunto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urgen en la sociedad y que los organismos de reglamentación tratan durante el proceso de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unicación reglamentaria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del Codex, párrafos 2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 cómo y por qué se toman las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oce cualquier preocupación que planteen las partes interes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 cómo se han abordado esas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 países han adoptado medidas de la OCDE para la difusión de la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ar al público a que haga observaciones sobre informes de evaluaciones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ulgar datos utilizados en evaluaciones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r los resultados de reuniones de organismos de evaluación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como un proceso en ambos senti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reglamentaria de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recer información sobre el marco y los procesos norm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bar aportaciones y respue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proceso de información se gana credibilidad ofreciendo análisis técnicos del proceso en un lenguaje senc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dos preguntas a las que se debe responder y que plantean los asuntos de la elección y de saber qué alimentos obtenidos de plantas de ADN recombinante pueden estar en el merca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on inocuos los alimentos obtenidos de plantas de ADN recombina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alimentos han sido modificados genéticam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cepción del ries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vemos el mundo de distinta forma (mentalida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ersonas de procedencias similares suelen percibir el riesgo de forma parec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algunas diferencias de gén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ersonas que tienen menos control sobre sus vidas suelen ver mayores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ción del riesgo basada en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= PELI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ción del riesgo del consumi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= PELIGRO + ULTR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cepciones del consumidor de los niveles de ries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bertura de los medios de comunicación pude ser alarmista en oca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rtes interesadas se preocupan por equilibrar los mensajes sobre salud y los posibles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rcan muchos asuntos relacionados con los contaminantes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ivel de riesgo aceptable varía mucho entre países y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anza pública en la inocuidad de los suministros aliment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anza en la industria y en las autoridades de reglamentación del gobierno para garantizar alimentos inocu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ícil de recuperar cuando se ha perdi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“campo de juego” desig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ucesos negativos tienen más repercusión en los medios que los positiv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uentes de malas noticias parecen más creíb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dios de comunicación se sienten atraídos por las malas notic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dos grupos de interés utilizan hábilmente los medios de comunic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fusión de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nta difusión es funda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oticia se filtrará de todas formas y se perderá confianza y cred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ente tiene derecho a recibir información sobre asuntos que afectan a su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 la pauta para la resolución del asu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rola mejor la exactitud de la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sta menos trabajo difundir información que responder a las indag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que el público se indigne es me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que el público sobreestime el riesgo es me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más tiempo para la participa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mado de New Jersey Department of Environmental Protection, 198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720720" y="2700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rategia de comunic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600200"/>
          <a:ext cx="8102520" cy="503064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  <a:gridCol w="2025720"/>
              </a:tblGrid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s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sgo percibi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mpl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vel de contaminantes permit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mentos GM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oxinas, mercurio en el pes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 microbia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ac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4"/>
          <p:cNvSpPr/>
          <p:nvPr/>
        </p:nvSpPr>
        <p:spPr>
          <a:xfrm>
            <a:off x="8089920" y="6095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jetivos de la presentac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la comunicación de riesgos en el contexto del análisis de riesgos (Cod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r lo que debe ser y lo que no debe ser la comunic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r las modalidades de la percepción de riesgos y de la confi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una estrategia de comunicación relativa a la inocuidad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las recomendaciones de una consulta FAO/OMS de exper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rategia de comunicac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r a los destinatarios (grupos de partes interesadas) sin olvidar a los destinatarios in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r los mensajes; normalmente tres mensajes fundamentales y mensajes independientes para cada destin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onar instrumento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20720" y="1619280"/>
            <a:ext cx="808524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sa, radio y televi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relaciones de trabajo y ganar credibilidad en momentos en que no haya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r que mensajes se quieren transmit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 abiertos, honrados… y estar dispon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r cómo trabajan los medio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AO/OMS: Consideraciones útiles sobre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20720" y="1619280"/>
            <a:ext cx="808524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a los destina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expertos científ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personal especializado en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 una fuente creíble de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tir la respons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r entre ciencia y juicio de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zar la transpa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en la evaluación de la inocu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ar mejor información sobre el sistema de regla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r un organismo informativo centra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la sensibilidad y la participación del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etido del grupo de traba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estudios de ca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ar un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los métodos de comunic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articipan todas las partes interesad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ienen una buena relación con los medios de comunicació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stán ganando credibilid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r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documento de decisiones para el público e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unicación de riesgos en el contexto del análisis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de Aplicación Práctica para el Análisis de Riesgos en el Marco del Codex Alimentarius (2003): orientación general sobre el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unicación está relacionada con el proceso de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cuadra en la evaluación y la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activa desde el principio del proceso de análisis de riesgos, y no un suplemento al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sponsabilidad d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análisis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coh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erto, transparente y docume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tres componentes del análisis de riesgos deben estar documentados de forma cabal, sistemática y transpa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y consulta efectivas con las partes interesadas a lo largo de todo el proceso de análisis de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estructur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, gestión y comunicación de riesgos, cada uno de los tres componentes debe ser parte integrante del proceso en su conjunto y deben aplicarse en un marc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incipios de aplicación práctica: aspectos gener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ón de comunicación de riesgos del Co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720720" y="1619280"/>
            <a:ext cx="807876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mbio interactivo de información y opiniones a lo largo de todo el proceso de análisis de riesgos sobre los riesgos, los factores relacionados con los riesgos y las percepciones de los riesgos, entre las personas encargadas de la evaluación de los riesgos, las encargadas de la gestión de riesgos, los consumidores, la industria, la comunidad académica y otras partes interesadas, comprendida la explicación de los resultados de la evaluación de los riesgos y de los fundamentos de las decisiones relacionadas con la gestión de los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deberí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un mayor conocimiento y comprensión de las cuestiones concretas sometidas a exa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coherencia y la transparencia en la formulación de opciones y recomendaciones relativas a la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ar una base sólida para la comprensión de las decisiones propuestas en materia de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efectividad y eficacia generales de los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deberí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er las relaciones de trabajo entre los particip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mentar la comprensión pública del proceso, con vistas a aumentar la confianza en la inocuidad de los suministros ali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participación adecuada de todas las partes interes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mbiar información en relación con las preocupaciones de las partes interesadas sobre riesgos asociados con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comprend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720720" y="1619280"/>
            <a:ext cx="82296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ceso en ambos sen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rensión de la percepción pública del rie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 para que el público participe en la toma de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oportuna y exa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inte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no es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 únicamente los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erle sencillamente las decisiones al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ceso relacionado con la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únicamente de los especialistas en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22:40Z</dcterms:created>
  <dc:creator>Takeuchi, Masami (AGNS)</dc:creator>
  <dc:description/>
  <dc:language>en-US</dc:language>
  <cp:lastModifiedBy>Claudio</cp:lastModifiedBy>
  <dcterms:modified xsi:type="dcterms:W3CDTF">2009-10-03T10:20:51Z</dcterms:modified>
  <cp:revision>201</cp:revision>
  <dc:subject/>
  <dc:title>Concepts and Principles of GM Food Safety Assessment</dc:title>
</cp:coreProperties>
</file>