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5FE46-C951-489D-9A35-72E85BF77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2E460-A67E-4E5B-A553-94264E6773F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7"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1C3BE-C268-427F-B68C-6230AB109DF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9CE05-A023-4B4D-ADCE-DEDCE13B31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8225C-1E33-40DB-86AE-46F64B58E27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E886AE-2636-4B6E-B316-042CF479031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C27F5-1263-4B8A-9945-DC4A812418B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F5F57-190F-4640-A458-207CD553408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E89E59-0EAA-483B-B76A-CC5FB1ED2B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AB417-13DB-4064-AA7D-21486EC5CAB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1135F4-86B4-47F7-8100-3C06E50AC73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5EA2B-0FE6-406A-B2FF-8EB444224FF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44F5F-E79E-4422-8252-FC4A9AFBD6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8FCA0-DC21-476C-B809-8D589997650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6815F-7FD4-4AEA-96B4-10E63D3B120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8898D-3C41-4217-8AF6-460233EDF3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D01DF-651C-4871-B6C7-2F1DBE9CEC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07565-DF0C-4579-85CF-EBFC5FD1A4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The Approach and Framework for the GM Food Safety Assessment</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ubject of debate</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ppropriate use of the concept of substantial equivalence has been the subject of much debate by many expert bodies</a:t>
            </a:r>
            <a:endParaRPr b="0" lang="en-US" sz="28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ECD, FAO/WHO, Codex</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stitute of Food Technology, 2000</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NZ Royal Commission on Genetic Modification, 2001</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anadian Royal Society Report, 2001</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S NAS,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K Royal Society,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ociety of Toxicology Position Paper,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merican College of Nutrition,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K Government Report, 2003</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doption of the concept</a:t>
            </a:r>
            <a:endParaRPr b="0" lang="en-US" sz="3600" spc="-1" strike="noStrike">
              <a:solidFill>
                <a:srgbClr val="ffffff"/>
              </a:solidFill>
              <a:latin typeface="Arial"/>
            </a:endParaRPr>
          </a:p>
        </p:txBody>
      </p:sp>
      <p:sp>
        <p:nvSpPr>
          <p:cNvPr id="112"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OECD</a:t>
            </a:r>
            <a:r>
              <a:rPr b="0" lang="en-US" sz="2800" spc="-1" strike="noStrike">
                <a:solidFill>
                  <a:srgbClr val="000000"/>
                </a:solidFill>
                <a:latin typeface="Times New Roman"/>
                <a:ea typeface="Times New Roman"/>
              </a:rPr>
              <a:t> and some other international organizations recognize it as a valid concept that “contributes to a robust safety assessment framework”</a:t>
            </a:r>
            <a:endParaRPr b="0" lang="en-US" sz="2800" spc="-1" strike="noStrike">
              <a:solidFill>
                <a:srgbClr val="ffffff"/>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Codex Task Force</a:t>
            </a:r>
            <a:r>
              <a:rPr b="0" lang="en-US" sz="2800" spc="-1" strike="noStrike">
                <a:solidFill>
                  <a:srgbClr val="000000"/>
                </a:solidFill>
                <a:latin typeface="Times New Roman"/>
                <a:ea typeface="Times New Roman"/>
              </a:rPr>
              <a:t> continues to work with the concept of substantial equivalence in safety and nutritional assessment and to speculate about alternative strategies</a:t>
            </a:r>
            <a:endParaRPr b="0" lang="en-US" sz="2800" spc="-1" strike="noStrike">
              <a:solidFill>
                <a:srgbClr val="ffffff"/>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Codex Guideline</a:t>
            </a:r>
            <a:r>
              <a:rPr b="0" lang="en-US" sz="2800" spc="-1" strike="noStrike">
                <a:solidFill>
                  <a:srgbClr val="000000"/>
                </a:solidFill>
                <a:latin typeface="Times New Roman"/>
                <a:ea typeface="Times New Roman"/>
              </a:rPr>
              <a:t> includes reference to substantial equivalence (paragraph 13) as a key step in the safety assessment process, not a safety assessment in itself</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imitations of substantial equivalence</a:t>
            </a:r>
            <a:endParaRPr b="0" lang="en-US" sz="3600" spc="-1" strike="noStrike">
              <a:solidFill>
                <a:srgbClr val="ffffff"/>
              </a:solidFill>
              <a:latin typeface="Arial"/>
            </a:endParaRPr>
          </a:p>
        </p:txBody>
      </p:sp>
      <p:sp>
        <p:nvSpPr>
          <p:cNvPr id="114"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equires sufficient analytical data to be available in the literature, or be generated through analysi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pendence on a comparator and on the information that is available, or can be generated for the comparator</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hoice of comparator is crucial to effective application of the concept</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n appropriate comparator must have a well-documented history of us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ks on the comparative approach</a:t>
            </a:r>
            <a:endParaRPr b="0" lang="en-US" sz="3600" spc="-1" strike="noStrike">
              <a:solidFill>
                <a:srgbClr val="ffffff"/>
              </a:solidFill>
              <a:latin typeface="Arial"/>
            </a:endParaRPr>
          </a:p>
        </p:txBody>
      </p:sp>
      <p:sp>
        <p:nvSpPr>
          <p:cNvPr id="11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Whole food</a:t>
            </a:r>
            <a:r>
              <a:rPr b="0" lang="en-US" sz="2800" spc="-1" strike="noStrike">
                <a:solidFill>
                  <a:srgbClr val="000000"/>
                </a:solidFill>
                <a:latin typeface="Times New Roman"/>
                <a:ea typeface="Times New Roman"/>
              </a:rPr>
              <a:t> vs </a:t>
            </a:r>
            <a:r>
              <a:rPr b="1" lang="en-US" sz="2800" spc="-1" strike="noStrike">
                <a:solidFill>
                  <a:srgbClr val="000000"/>
                </a:solidFill>
                <a:latin typeface="Times New Roman"/>
                <a:ea typeface="Times New Roman"/>
              </a:rPr>
              <a:t>individual substances</a:t>
            </a:r>
            <a:r>
              <a:rPr b="0" lang="en-US" sz="2800" spc="-1" strike="noStrike">
                <a:solidFill>
                  <a:srgbClr val="000000"/>
                </a:solidFill>
                <a:latin typeface="Times New Roman"/>
                <a:ea typeface="Times New Roman"/>
              </a:rPr>
              <a:t> (additives, pesticides, etc.)</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afety assessments require </a:t>
            </a:r>
            <a:r>
              <a:rPr b="1" lang="en-US" sz="2400" spc="-1" strike="noStrike">
                <a:solidFill>
                  <a:srgbClr val="000000"/>
                </a:solidFill>
                <a:latin typeface="Times New Roman"/>
                <a:ea typeface="Times New Roman"/>
              </a:rPr>
              <a:t>different approache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whole foods from many crops sometimes contain natural toxicants, antinutrients – may be important to the plant but may be harmful to human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Codex Guideline</a:t>
            </a:r>
            <a:r>
              <a:rPr b="0" lang="en-US" sz="2800" spc="-1" strike="noStrike">
                <a:solidFill>
                  <a:srgbClr val="000000"/>
                </a:solidFill>
                <a:latin typeface="Times New Roman"/>
                <a:ea typeface="Times New Roman"/>
              </a:rPr>
              <a:t> recommends that a </a:t>
            </a:r>
            <a:r>
              <a:rPr b="1" lang="en-US" sz="2800" spc="-1" strike="noStrike">
                <a:solidFill>
                  <a:srgbClr val="000000"/>
                </a:solidFill>
                <a:latin typeface="Times New Roman"/>
                <a:ea typeface="Times New Roman"/>
              </a:rPr>
              <a:t>comparative assessment</a:t>
            </a:r>
            <a:r>
              <a:rPr b="0" lang="en-US" sz="2800" spc="-1" strike="noStrike">
                <a:solidFill>
                  <a:srgbClr val="000000"/>
                </a:solidFill>
                <a:latin typeface="Times New Roman"/>
                <a:ea typeface="Times New Roman"/>
              </a:rPr>
              <a:t> be used to determine the safety of GM food (as safe as conventional counterpar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aragraphs 13–17</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dex framework</a:t>
            </a:r>
            <a:endParaRPr b="0" lang="en-US" sz="3600" spc="-1" strike="noStrike">
              <a:solidFill>
                <a:srgbClr val="ffffff"/>
              </a:solidFill>
              <a:latin typeface="Arial"/>
            </a:endParaRPr>
          </a:p>
        </p:txBody>
      </p:sp>
      <p:sp>
        <p:nvSpPr>
          <p:cNvPr id="11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Principles for the Risk Analysis of Foods derived from Modern Biotechnology” (2003)</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uideline for Conduct of Food Safety Assessment of Foods derived from recombinant-DNA Plants” (2003)</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epwise approach</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Guideline </a:t>
            </a:r>
            <a:r>
              <a:rPr b="1" lang="en-US" sz="2800" spc="-1" strike="noStrike">
                <a:solidFill>
                  <a:srgbClr val="000000"/>
                </a:solidFill>
                <a:latin typeface="Times New Roman"/>
                <a:ea typeface="Times New Roman"/>
              </a:rPr>
              <a:t>paragraphs 18–21</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Goal</a:t>
            </a:r>
            <a:r>
              <a:rPr b="0" lang="en-US" sz="2800" spc="-1" strike="noStrike">
                <a:solidFill>
                  <a:srgbClr val="000000"/>
                </a:solidFill>
                <a:latin typeface="Times New Roman"/>
                <a:ea typeface="Times New Roman"/>
              </a:rPr>
              <a:t>: to examine the intentional and unintentional consequences of the specific modification on food components, in comparison with a counterpart food that has a history of safe us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pecific data requirements</a:t>
            </a:r>
            <a:endParaRPr b="0" lang="en-US" sz="3600" spc="-1" strike="noStrike">
              <a:solidFill>
                <a:srgbClr val="ffffff"/>
              </a:solidFill>
              <a:latin typeface="Arial"/>
            </a:endParaRPr>
          </a:p>
        </p:txBody>
      </p:sp>
      <p:sp>
        <p:nvSpPr>
          <p:cNvPr id="122"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Recombinant-DNA Plant (paragraph 22)</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Host Plant and its Use as Food (paragraphs 23</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5)</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Donor Organism(s) (paragraph 26)</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Genetic Modification(s) (paragraphs 27</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9)</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a:t>
            </a:r>
            <a:endParaRPr b="0" lang="en-US" sz="3600" spc="-1" strike="noStrike">
              <a:solidFill>
                <a:srgbClr val="ffffff"/>
              </a:solidFill>
              <a:latin typeface="Arial"/>
            </a:endParaRPr>
          </a:p>
        </p:txBody>
      </p:sp>
      <p:sp>
        <p:nvSpPr>
          <p:cNvPr id="124"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sing case studies, </a:t>
            </a:r>
            <a:r>
              <a:rPr b="1" lang="en-US" sz="2800" spc="-1" strike="noStrike">
                <a:solidFill>
                  <a:srgbClr val="000000"/>
                </a:solidFill>
                <a:latin typeface="Times New Roman"/>
                <a:ea typeface="Times New Roman"/>
              </a:rPr>
              <a:t>identify</a:t>
            </a:r>
            <a:r>
              <a:rPr b="0" lang="en-US" sz="2800" spc="-1" strike="noStrike">
                <a:solidFill>
                  <a:srgbClr val="000000"/>
                </a:solidFill>
                <a:latin typeface="Times New Roman"/>
                <a:ea typeface="Times New Roman"/>
              </a:rPr>
              <a:t> the following:</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recombinant-DNA plant</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host plant and its use as food</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donor organism(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genetic modification(s)</a:t>
            </a:r>
            <a:endParaRPr b="0" lang="en-US" sz="2400" spc="-1" strike="noStrike">
              <a:solidFill>
                <a:srgbClr val="ffffff"/>
              </a:solidFill>
              <a:latin typeface="Arial"/>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n </a:t>
            </a:r>
            <a:r>
              <a:rPr b="1" lang="en-US" sz="2800" spc="-1" strike="noStrike">
                <a:solidFill>
                  <a:srgbClr val="000000"/>
                </a:solidFill>
                <a:latin typeface="Times New Roman"/>
                <a:ea typeface="Times New Roman"/>
              </a:rPr>
              <a:t>review</a:t>
            </a:r>
            <a:r>
              <a:rPr b="0" lang="en-US" sz="2800" spc="-1" strike="noStrike">
                <a:solidFill>
                  <a:srgbClr val="000000"/>
                </a:solidFill>
                <a:latin typeface="Times New Roman"/>
                <a:ea typeface="Times New Roman"/>
              </a:rPr>
              <a:t> the sufficiency of information for the above item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the concept of “comparative approach” and the reasons why the approach is used for safety assessment of GM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the concept of “substantial equivalence (SE)”, examples of tests using SE, issues regarding SE application, and background to adaptation of the concep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Codex framewor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stepwise approach and specific data requirement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parative approach</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ased on </a:t>
            </a:r>
            <a:r>
              <a:rPr b="1" lang="en-US" sz="2800" spc="-1" strike="noStrike">
                <a:solidFill>
                  <a:srgbClr val="000000"/>
                </a:solidFill>
                <a:latin typeface="Times New Roman"/>
                <a:ea typeface="Times New Roman"/>
              </a:rPr>
              <a:t>the principle</a:t>
            </a:r>
            <a:r>
              <a:rPr b="0" lang="en-US" sz="2800" spc="-1" strike="noStrike">
                <a:solidFill>
                  <a:srgbClr val="000000"/>
                </a:solidFill>
                <a:latin typeface="Times New Roman"/>
                <a:ea typeface="Times New Roman"/>
              </a:rPr>
              <a:t>: the products can be compared with conventional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Objective</a:t>
            </a:r>
            <a:r>
              <a:rPr b="0" lang="en-US" sz="2800" spc="-1" strike="noStrike">
                <a:solidFill>
                  <a:srgbClr val="000000"/>
                </a:solidFill>
                <a:latin typeface="Times New Roman"/>
                <a:ea typeface="Times New Roman"/>
              </a:rPr>
              <a:t>: to determine if the GM food presents any new/altered hazard in comparison with its conventional counterpar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Goal</a:t>
            </a:r>
            <a:r>
              <a:rPr b="0" lang="en-US" sz="2800" spc="-1" strike="noStrike">
                <a:solidFill>
                  <a:srgbClr val="000000"/>
                </a:solidFill>
                <a:latin typeface="Times New Roman"/>
                <a:ea typeface="Times New Roman"/>
              </a:rPr>
              <a:t>: not to establish an absolute level of safety, but rather the relative safety of the new products and that there is a reasonable certainty that no harm will result from the intended us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afety assessment is based on a comparison of an r-DNA organism to a counterpart or control with a history of safe us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focus of the comparison is to determine similarities and difference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ocuse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Key concept</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f a new or altered hazard, or nutritional or other safety concern (noting that not every hazard is new, as many are present in the existing food) is identified, the risk should be characterized for its relevance to human and livestock health</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miliarity and determinatio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Familiarity</a:t>
            </a:r>
            <a:r>
              <a:rPr b="0" lang="en-US" sz="2800" spc="-1" strike="noStrike">
                <a:solidFill>
                  <a:srgbClr val="000000"/>
                </a:solidFill>
                <a:latin typeface="Times New Roman"/>
                <a:ea typeface="Times New Roman"/>
              </a:rPr>
              <a:t> is defined as knowledge of  the characteristics of a species and experience with the use of that species </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determination</a:t>
            </a:r>
            <a:r>
              <a:rPr b="0" lang="en-US" sz="2800" spc="-1" strike="noStrike">
                <a:solidFill>
                  <a:srgbClr val="000000"/>
                </a:solidFill>
                <a:latin typeface="Times New Roman"/>
                <a:ea typeface="Times New Roman"/>
              </a:rPr>
              <a:t> is based on scientific literature and practical experience with the organism and similar varieties/lin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dentifying unintended effect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ew products with intentionally altered nutritional profiles challenge the ability to assess unintended consequenc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ample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M low-glutelin rice (decrease in glutelin levels was associated with an unintended increase in levels of prolamin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M Golden Rice (intentionally increased levels of beta-carotene, but unexpectedly found the modification accompanied by higher levels of xanthophyll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ubstantial equivalence</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irst described in an OECD publication in 199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60 experts, 19 countries, more than 2 years discussing how to assess the safety of GM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tial equivalence was further endorsed by FAO/WHO joint expert consultation in 1996</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ncept of familiarity was the progenitor of the concept of “substantial equivalence”, an approach developed by some jurisdictions as part of the risk assessment proces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Key concept</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tial equivalence is one of many tools in the regulatory process for making decisions about particular characteristics of an r-DNA organism compared with its unmodified counterpart (e.g. a parent or host or donor)</a:t>
            </a:r>
            <a:endParaRPr b="0" lang="en-US" sz="28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ncept should be used as a starting point to determine the safety of the differences found in the thorough analysis of an r-DNA organism, and not as a final decision step</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7:30Z</dcterms:created>
  <dc:creator>Takeuchi, Masami (AGNS)</dc:creator>
  <dc:description/>
  <dc:language>en-US</dc:language>
  <cp:lastModifiedBy>Claudio</cp:lastModifiedBy>
  <dcterms:modified xsi:type="dcterms:W3CDTF">2009-10-02T07:15:41Z</dcterms:modified>
  <cp:revision>181</cp:revision>
  <dc:subject/>
  <dc:title>Concepts and Principles of GM Food Safety Assessment</dc:title>
</cp:coreProperties>
</file>