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C5387-4690-4EEB-9A55-14626E942F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6728F-68E2-4BAA-AA11-4A9B03F07EB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BAF32-49CA-48A5-954C-04FC766182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55CFCE-A633-43A1-BD43-60A30F2C54F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B6B886-4360-4188-84CA-C45E151A895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BFCCC-2692-47F5-85E0-6FD3A492B75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47AA6-90F0-45A5-8A28-E334E18D2B4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797A4-4893-46BA-8026-D22E696775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8F5E2-AB9B-41C6-BE0A-CD47FECCD23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F8282-FB5B-4EE0-B833-1492AF4A40A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908CB-E589-4297-BFF5-8F68C4AF406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6A03E-E89B-4EC6-A6FC-8EDBCBDB6F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A1733-7D59-40D1-B6B9-5A46CC49F52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B2BD3-C2D2-470C-AD45-C0FCE66E60F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70113C-249B-4FBC-ABFD-5B43B92AB7B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7355EE-5C2A-40C9-9448-3ED205BC35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833F9D-3608-450C-B053-A7C6B84CEC8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0A0A3-4178-47C1-8851-E517EC9CBB1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B8815-CCAD-4CD4-8EA5-15433E9B068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890F0-4836-4AB0-888A-6F740DF96AF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09DCB-0FEF-40CC-B297-5AA1B8425AC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C34F18-BE27-45E2-8D9E-3B61A38DE7B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7F153-BE53-4B9E-BAE3-810D7E5A3D3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9ED50-A7B8-42C4-870B-1375D9ADEBD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2DB81-56C0-4C18-9043-1A2A14E91F5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F18D6-6608-4A78-BBC4-FD89E27F148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DB1C7C-DC26-4D4C-A1FB-C40F6E0694B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0207F-77E3-4272-B31C-E63B29E5801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81380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Arial"/>
              </a:rPr>
              <a:t>Concepts et principes de l’évaluation de la sécurité sanitaire des aliments transgéniques </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Module de Présentation 2</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6" descr="Risk_F.png"/>
          <p:cNvPicPr/>
          <p:nvPr/>
        </p:nvPicPr>
        <p:blipFill>
          <a:blip r:embed="rId1"/>
          <a:stretch/>
        </p:blipFill>
        <p:spPr>
          <a:xfrm>
            <a:off x="0" y="3240"/>
            <a:ext cx="9144000" cy="6854760"/>
          </a:xfrm>
          <a:prstGeom prst="rect">
            <a:avLst/>
          </a:prstGeom>
          <a:ln w="0">
            <a:noFill/>
          </a:ln>
        </p:spPr>
      </p:pic>
      <p:sp>
        <p:nvSpPr>
          <p:cNvPr id="110"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Cadre de l’analyse des risques </a:t>
            </a:r>
            <a:endParaRPr b="0" lang="en-US" sz="3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Évaluation des risques</a:t>
            </a:r>
            <a:endParaRPr b="0" lang="en-US" sz="3600" spc="-1" strike="noStrike">
              <a:solidFill>
                <a:srgbClr val="ffffff"/>
              </a:solidFill>
              <a:latin typeface="Arial"/>
            </a:endParaRPr>
          </a:p>
        </p:txBody>
      </p:sp>
      <p:sp>
        <p:nvSpPr>
          <p:cNvPr id="112" name="Text Box 2"/>
          <p:cNvSpPr/>
          <p:nvPr/>
        </p:nvSpPr>
        <p:spPr>
          <a:xfrm>
            <a:off x="990720" y="1981080"/>
            <a:ext cx="43066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1. Identification des dangers</a:t>
            </a:r>
            <a:endParaRPr b="0" lang="en-US" sz="2800" spc="-1" strike="noStrike">
              <a:solidFill>
                <a:srgbClr val="ffffff"/>
              </a:solidFill>
              <a:latin typeface="Arial"/>
            </a:endParaRPr>
          </a:p>
        </p:txBody>
      </p:sp>
      <p:sp>
        <p:nvSpPr>
          <p:cNvPr id="113" name="Text Box 3"/>
          <p:cNvSpPr/>
          <p:nvPr/>
        </p:nvSpPr>
        <p:spPr>
          <a:xfrm>
            <a:off x="762120" y="4038480"/>
            <a:ext cx="47242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2. </a:t>
            </a:r>
            <a:r>
              <a:rPr b="0" lang="fr-FR" sz="2800" spc="-1" strike="noStrike">
                <a:solidFill>
                  <a:srgbClr val="000000"/>
                </a:solidFill>
                <a:latin typeface="Times New Roman"/>
                <a:ea typeface="Times New Roman"/>
              </a:rPr>
              <a:t>Caractérisation des dangers</a:t>
            </a:r>
            <a:endParaRPr b="0" lang="en-US" sz="2800" spc="-1" strike="noStrike">
              <a:solidFill>
                <a:srgbClr val="ffffff"/>
              </a:solidFill>
              <a:latin typeface="Arial"/>
            </a:endParaRPr>
          </a:p>
        </p:txBody>
      </p:sp>
      <p:sp>
        <p:nvSpPr>
          <p:cNvPr id="114" name="Text Box 4"/>
          <p:cNvSpPr/>
          <p:nvPr/>
        </p:nvSpPr>
        <p:spPr>
          <a:xfrm>
            <a:off x="4419720" y="2819520"/>
            <a:ext cx="43005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3. </a:t>
            </a:r>
            <a:r>
              <a:rPr b="0" lang="fr-FR" sz="2800" spc="-1" strike="noStrike">
                <a:solidFill>
                  <a:srgbClr val="000000"/>
                </a:solidFill>
                <a:latin typeface="Times New Roman"/>
                <a:ea typeface="Times New Roman"/>
              </a:rPr>
              <a:t>Évaluation de l’exposition</a:t>
            </a:r>
            <a:endParaRPr b="0" lang="en-US" sz="2800" spc="-1" strike="noStrike">
              <a:solidFill>
                <a:srgbClr val="ffffff"/>
              </a:solidFill>
              <a:latin typeface="Arial"/>
            </a:endParaRPr>
          </a:p>
        </p:txBody>
      </p:sp>
      <p:sp>
        <p:nvSpPr>
          <p:cNvPr id="115" name="Text Box 5"/>
          <p:cNvSpPr/>
          <p:nvPr/>
        </p:nvSpPr>
        <p:spPr>
          <a:xfrm>
            <a:off x="2590920" y="5943600"/>
            <a:ext cx="44193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4. </a:t>
            </a:r>
            <a:r>
              <a:rPr b="0" lang="fr-FR" sz="2800" spc="-1" strike="noStrike">
                <a:solidFill>
                  <a:srgbClr val="000000"/>
                </a:solidFill>
                <a:latin typeface="Times New Roman"/>
                <a:ea typeface="Times New Roman"/>
              </a:rPr>
              <a:t>Caractérisation des risques</a:t>
            </a:r>
            <a:endParaRPr b="0" lang="en-US" sz="2800" spc="-1" strike="noStrike">
              <a:solidFill>
                <a:srgbClr val="ffffff"/>
              </a:solidFill>
              <a:latin typeface="Arial"/>
            </a:endParaRPr>
          </a:p>
        </p:txBody>
      </p:sp>
      <p:sp>
        <p:nvSpPr>
          <p:cNvPr id="116" name="Line 6"/>
          <p:cNvSpPr/>
          <p:nvPr/>
        </p:nvSpPr>
        <p:spPr>
          <a:xfrm>
            <a:off x="3124080" y="4724280"/>
            <a:ext cx="1447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7" name="Line 7"/>
          <p:cNvSpPr/>
          <p:nvPr/>
        </p:nvSpPr>
        <p:spPr>
          <a:xfrm>
            <a:off x="3124080" y="2590920"/>
            <a:ext cx="18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 name="Line 8"/>
          <p:cNvSpPr/>
          <p:nvPr/>
        </p:nvSpPr>
        <p:spPr>
          <a:xfrm flipH="1">
            <a:off x="4876920" y="3505320"/>
            <a:ext cx="183672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1. Les évaluations de la sécurité sanitaire font appel à des méthodes scientifiques fondées sur les risques</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lvl="1" marL="380880" indent="-372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Times New Roman"/>
                <a:ea typeface="Times New Roman"/>
              </a:rPr>
              <a:t>L’évaluation des risques </a:t>
            </a:r>
            <a:r>
              <a:rPr b="0" lang="fr-FR" sz="2800" spc="-1" strike="noStrike">
                <a:solidFill>
                  <a:srgbClr val="000000"/>
                </a:solidFill>
                <a:latin typeface="Times New Roman"/>
                <a:ea typeface="Times New Roman"/>
              </a:rPr>
              <a:t>est le processus consistant à déterminer de façon aussi précise que possible la probabilité effective et les conséquences des risques découlant d’une exposition à des dangers identifiés </a:t>
            </a:r>
            <a:endParaRPr b="0" lang="en-US" sz="2800" spc="-1" strike="noStrike">
              <a:solidFill>
                <a:srgbClr val="ffffff"/>
              </a:solidFill>
              <a:latin typeface="Arial"/>
            </a:endParaRPr>
          </a:p>
          <a:p>
            <a:pPr lvl="1" marL="380880" indent="-372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L’objectif est</a:t>
            </a:r>
            <a:r>
              <a:rPr b="1" lang="fr-FR" sz="2800" spc="-1" strike="noStrike">
                <a:solidFill>
                  <a:srgbClr val="000000"/>
                </a:solidFill>
                <a:latin typeface="Times New Roman"/>
                <a:ea typeface="Times New Roman"/>
              </a:rPr>
              <a:t> d’identifier les effets néfastes potentiels </a:t>
            </a:r>
            <a:r>
              <a:rPr b="0" lang="fr-FR" sz="2800" spc="-1" strike="noStrike">
                <a:solidFill>
                  <a:srgbClr val="000000"/>
                </a:solidFill>
                <a:latin typeface="Times New Roman"/>
                <a:ea typeface="Times New Roman"/>
              </a:rPr>
              <a:t>des aliments à ADN recombiné pour la santé humaine</a:t>
            </a:r>
            <a:endParaRPr b="0" lang="en-US" sz="2800" spc="-1" strike="noStrike">
              <a:solidFill>
                <a:srgbClr val="ffffff"/>
              </a:solidFill>
              <a:latin typeface="Arial"/>
            </a:endParaRPr>
          </a:p>
          <a:p>
            <a:pPr lvl="1" marL="380880" indent="-372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Utiliser un </a:t>
            </a:r>
            <a:r>
              <a:rPr b="1" lang="fr-FR" sz="2800" spc="-1" strike="noStrike">
                <a:solidFill>
                  <a:srgbClr val="000000"/>
                </a:solidFill>
                <a:latin typeface="Times New Roman"/>
                <a:ea typeface="Times New Roman"/>
              </a:rPr>
              <a:t>système d’identification des dangers</a:t>
            </a:r>
            <a:r>
              <a:rPr b="0" lang="fr-FR" sz="2800" spc="-1" strike="noStrike">
                <a:solidFill>
                  <a:srgbClr val="000000"/>
                </a:solidFill>
                <a:latin typeface="Times New Roman"/>
                <a:ea typeface="Times New Roman"/>
              </a:rPr>
              <a:t> modifié, appelé évaluation de la sécurité sanitaire, pour déterminer si un danger est présent dans l’aliment enti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2. Évaluations de la sécurité sanitaire «au cas par cas»</a:t>
            </a:r>
            <a:endParaRPr b="0" lang="en-US" sz="3600" spc="-1" strike="noStrike">
              <a:solidFill>
                <a:srgbClr val="ffffff"/>
              </a:solidFill>
              <a:latin typeface="Arial"/>
            </a:endParaRPr>
          </a:p>
        </p:txBody>
      </p:sp>
      <p:sp>
        <p:nvSpPr>
          <p:cNvPr id="12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appliquent à un produit alimentaire de base modifié, et aux aliments et à leurs produits dérivés qui en sont issus,par exemple le maïs (grains, farine de maïs, sirop de maïs,huile); canola (huile); coton (huile et linter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aliments dérivés d’un produit de base (e: soja) ayant subi des modifications intéressant différents caractères sont évalués séparément</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out produit auquel serait ultérieurement appliquée une biotechnologie moderne doit faire l’objet d’une évaluation de la sécurité sanitaire séparée</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3. Étude des effets souhaités et des effets involontaires</a:t>
            </a:r>
            <a:endParaRPr b="0" lang="en-US" sz="3600" spc="-1" strike="noStrike">
              <a:solidFill>
                <a:srgbClr val="ffffff"/>
              </a:solidFill>
              <a:latin typeface="Arial"/>
            </a:endParaRPr>
          </a:p>
        </p:txBody>
      </p:sp>
      <p:sp>
        <p:nvSpPr>
          <p:cNvPr id="124"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considérations de sécurité sanitaire s’appliquent à tous les aspects de l’aliment à ADN recombiné. L’étude se fait en deux phases:</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cation des similitudes et des différenc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mparaison entre les sources traditionnelles et nouvelles de gènes/ADN de l’organisme donneur</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aractérisation moléculaire – nouveaux gènes, protéines, stabilité génétiqu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nalyse de la composition</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Lucida Grande"/>
              </a:rPr>
              <a:t>(suite)</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3.Étude des effets souhaités et des effets involontaire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26"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Les différences identifiées sont ensuite passées au crible</a:t>
            </a:r>
            <a:endParaRPr b="0" lang="en-US" sz="2800" spc="-1" strike="noStrike">
              <a:solidFill>
                <a:srgbClr val="ffffff"/>
              </a:solidFill>
              <a:latin typeface="Arial"/>
            </a:endParaRPr>
          </a:p>
          <a:p>
            <a:pPr marL="514440" indent="-5144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Toxicité, allergénicité des nouvelles protéines</a:t>
            </a:r>
            <a:endParaRPr b="0" lang="en-US" sz="2400" spc="-1" strike="noStrike">
              <a:solidFill>
                <a:srgbClr val="ffffff"/>
              </a:solidFill>
              <a:latin typeface="Arial"/>
            </a:endParaRPr>
          </a:p>
          <a:p>
            <a:pPr marL="514440" indent="-5144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écurité des éventuels gènes de résistance aux antibiotiques transférés</a:t>
            </a:r>
            <a:endParaRPr b="0" lang="en-US" sz="2400" spc="-1" strike="noStrike">
              <a:solidFill>
                <a:srgbClr val="ffffff"/>
              </a:solidFill>
              <a:latin typeface="Arial"/>
            </a:endParaRPr>
          </a:p>
          <a:p>
            <a:pPr marL="514440" indent="-5144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écurité, impact nutritionnel et changements éventuels de la composition</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4. Des comparaisons sont faites avec des aliments produits par des méthodes conventionnelles</a:t>
            </a:r>
            <a:endParaRPr b="0" lang="en-US" sz="3200" spc="-1" strike="noStrike">
              <a:solidFill>
                <a:srgbClr val="ffffff"/>
              </a:solidFill>
              <a:latin typeface="Arial"/>
            </a:endParaRPr>
          </a:p>
        </p:txBody>
      </p:sp>
      <p:sp>
        <p:nvSpPr>
          <p:cNvPr id="12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variété d’aliment à ADN recombiné est comparée avec l’aliment traditionnel de référence, ayant un historique d’utilisation sans risqu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ette comparaison sert à déceler des différences dans les concentrations d’allergènes, de toxines, de nutriments et de facteurs anti-nutritionnels survenant naturellement, ou dans la capacité à favoriser une croissance normale ou de bonnes conditions de vi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différences significatives (entre l’aliment à ADN recombiné et l’aliment traditionnel) sont évaluées pour déterminer leur signification biologique et leurs effets néfastes potentiels sur la santé</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sidérations de sécurité sanitaire</a:t>
            </a:r>
            <a:endParaRPr b="0" lang="en-US" sz="3600" spc="-1" strike="noStrike">
              <a:solidFill>
                <a:srgbClr val="ffffff"/>
              </a:solidFill>
              <a:latin typeface="Arial"/>
            </a:endParaRPr>
          </a:p>
        </p:txBody>
      </p:sp>
      <p:sp>
        <p:nvSpPr>
          <p:cNvPr id="13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Description de l’organisme hôte modifié, y compris données sur la composition de l’élément nutritif, les facteurs antinutritionnels connus, les substances toxiques et le potentiel allergène et tout changement significatif de ceux-ci pouvant résulter d’une transformation normale.</a:t>
            </a:r>
            <a:endParaRPr b="0" lang="en-US" sz="2400" spc="-1" strike="noStrike">
              <a:solidFill>
                <a:srgbClr val="ffffff"/>
              </a:solidFill>
              <a:latin typeface="Arial"/>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Description de l’organisme donneur, y compris toutes les toxicités et allergénicités connues, ainsi que du ou des gène(s) introduit(s).</a:t>
            </a:r>
            <a:endParaRPr b="0" lang="en-US" sz="2400" spc="-1" strike="noStrike">
              <a:solidFill>
                <a:srgbClr val="ffffff"/>
              </a:solidFill>
              <a:latin typeface="Arial"/>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Caractérisation moléculaire de la modification génétique, y compris une description du processus de modification et la stabilité du caractère introduit.</a:t>
            </a:r>
            <a:endParaRPr b="0" lang="en-US" sz="2400" spc="-1" strike="noStrike">
              <a:solidFill>
                <a:srgbClr val="ffffff"/>
              </a:solidFill>
              <a:latin typeface="Arial"/>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Arial"/>
            </a:endParaRPr>
          </a:p>
          <a:p>
            <a:pPr marL="457200" indent="-457200" algn="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rPr>
              <a:t>(suite)</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sidérations de sécurité sanitaire </a:t>
            </a:r>
            <a:r>
              <a:rPr b="0" i="1" lang="en-US" sz="2400" spc="-1" strike="noStrike">
                <a:solidFill>
                  <a:srgbClr val="000000"/>
                </a:solidFill>
                <a:latin typeface="Arial"/>
              </a:rPr>
              <a:t>(suite)</a:t>
            </a:r>
            <a:endParaRPr b="0" lang="en-US" sz="2400" spc="-1" strike="noStrike">
              <a:solidFill>
                <a:srgbClr val="ffffff"/>
              </a:solidFill>
              <a:latin typeface="Arial"/>
            </a:endParaRPr>
          </a:p>
        </p:txBody>
      </p:sp>
      <p:sp>
        <p:nvSpPr>
          <p:cNvPr id="132"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Identification des produits géniques, y compris une description des caractéristiques du gène inséré.</a:t>
            </a: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valuation de l’innocuité des substances nouvelles prévues dans l’aliment, y compris une évaluation de toutes les toxines produites directement par la modification.</a:t>
            </a: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valuation du potentiel allergène de l’aliment nouveau</a:t>
            </a: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a:p>
            <a:pPr marL="514440" indent="-51444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sidérations de sécurité sanitaire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34"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12640" indent="-512640">
              <a:lnSpc>
                <a:spcPct val="100000"/>
              </a:lnSpc>
              <a:spcBef>
                <a:spcPts val="601"/>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valuation des effets non désirés sur la composition alimentaire, y compris:</a:t>
            </a:r>
            <a:endParaRPr b="0" lang="en-US" sz="2800" spc="-1" strike="noStrike">
              <a:solidFill>
                <a:srgbClr val="ffffff"/>
              </a:solidFill>
              <a:latin typeface="Arial"/>
            </a:endParaRPr>
          </a:p>
          <a:p>
            <a:pPr lvl="1" marL="1068480" indent="-514440">
              <a:lnSpc>
                <a:spcPct val="100000"/>
              </a:lnSpc>
              <a:spcBef>
                <a:spcPts val="601"/>
              </a:spcBef>
              <a:buClr>
                <a:srgbClr val="000000"/>
              </a:buClr>
              <a:buFont typeface="Times New Roman"/>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évaluation des changements de la concentration des éléments nutritifs ou des substances toxiques rencontrées naturellement</a:t>
            </a:r>
            <a:endParaRPr b="0" lang="en-US" sz="2800" spc="-1" strike="noStrike">
              <a:solidFill>
                <a:srgbClr val="ffffff"/>
              </a:solidFill>
              <a:latin typeface="Arial"/>
            </a:endParaRPr>
          </a:p>
          <a:p>
            <a:pPr lvl="1" marL="1068480" indent="-514440">
              <a:lnSpc>
                <a:spcPct val="100000"/>
              </a:lnSpc>
              <a:spcBef>
                <a:spcPts val="601"/>
              </a:spcBef>
              <a:buClr>
                <a:srgbClr val="000000"/>
              </a:buClr>
              <a:buFont typeface="Times New Roman"/>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identification des composés antinutritionnels altérés de façon importante dans les aliments nouveaux</a:t>
            </a:r>
            <a:endParaRPr b="0" lang="en-US" sz="2800" spc="-1" strike="noStrike">
              <a:solidFill>
                <a:srgbClr val="ffffff"/>
              </a:solidFill>
              <a:latin typeface="Arial"/>
            </a:endParaRPr>
          </a:p>
          <a:p>
            <a:pPr lvl="1" marL="1068480" indent="-514440">
              <a:lnSpc>
                <a:spcPct val="100000"/>
              </a:lnSpc>
              <a:spcBef>
                <a:spcPts val="601"/>
              </a:spcBef>
              <a:buClr>
                <a:srgbClr val="000000"/>
              </a:buClr>
              <a:buFont typeface="Times New Roman"/>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évaluation de l’innocuité des composés dont la concentration est fortement modifiée</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Objectifs de la présentation</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Présenter les définitions, concepts et principes actuellement appliqués en matière de sécurité sanitaire des aliments transgén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Présenter les textes, directives et recommandations internationalement reconnus, nécessaires pour la procédure d’évaluation de la sécurité sanitaire</a:t>
            </a:r>
            <a:r>
              <a:rPr b="0" lang="en-US" sz="2800" spc="-1" strike="noStrike">
                <a:solidFill>
                  <a:srgbClr val="000000"/>
                </a:solidFill>
                <a:latin typeface="Times New Roman"/>
                <a:ea typeface="Times New Roman"/>
              </a:rPr>
              <a:t> </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a:t>
            </a:r>
            <a:endParaRPr b="0" lang="en-US" sz="3200" spc="-1" strike="noStrike">
              <a:solidFill>
                <a:srgbClr val="ffffff"/>
              </a:solidFill>
              <a:latin typeface="Arial"/>
            </a:endParaRPr>
          </a:p>
        </p:txBody>
      </p:sp>
      <p:sp>
        <p:nvSpPr>
          <p:cNvPr id="136"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Groupe d’étude de l’OCDE sur la sécurité des nouveaux aliments destinés à la consommation humaine et animale</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ocuments de consensus donnant des orientations sur les paramètres critiques (par exemple, les éléments nutritifs clés) de l’innocuité et de la qualité nutritionnelle de chaque culture vivrièr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ocuments concernant les produits déjà approuvés, ainsi que les produits qui devraient l’être à l’avenir</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ttp://www.oecd.org/document/63/0,2340,en_2649_34391_1905919_1_1_1_1,00.html</a:t>
            </a: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ea typeface="Times New Roman"/>
              </a:rPr>
              <a:t>(suite)</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38"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Groupe intergouvernemental spécial du Codex</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sur les aliments dérivés des biotechnologi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ncipes généraux pour l’analyse des risques liés aux aliments dérivés de plantes à ADN recombiné</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rective régissant la conduite de l’évaluation de la sécurité sanitaire des aliments dérivés de plantes et de micro-organismes à ADN recombiné</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Etc…</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ttp://www.fao.org/ag/agn/agns/biotechnology_codex_fr.asp</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Directive du Codex</a:t>
            </a:r>
            <a:endParaRPr b="0" lang="en-US" sz="3600" spc="-1" strike="noStrike">
              <a:solidFill>
                <a:srgbClr val="ffffff"/>
              </a:solidFill>
              <a:latin typeface="Arial"/>
            </a:endParaRPr>
          </a:p>
        </p:txBody>
      </p:sp>
      <p:sp>
        <p:nvSpPr>
          <p:cNvPr id="140" name="Text Box 2"/>
          <p:cNvSpPr/>
          <p:nvPr/>
        </p:nvSpPr>
        <p:spPr>
          <a:xfrm>
            <a:off x="720720" y="1619280"/>
            <a:ext cx="80676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Directive du Codex relative aux aliments dérivés de plantes à ADN recombiné</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évaluation de la sécurité sanitaire d’un aliment dérivé d’une plante à ADN recombiné suit un processus par étapes au cours duquel sont examinés les facteurs pertinents suivants:</a:t>
            </a:r>
            <a:endParaRPr b="0" lang="en-US" sz="24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e la plante à ADN recombiné</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e la plante-hôte et de son utilisation comme aliment</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u ou des organisme(s) donneur(s)</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e la ou des modification(s) génétique(s)</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caractérisation de la ou des modification(s) génétique(s)</a:t>
            </a:r>
            <a:endParaRPr b="0" lang="en-US" sz="2000" spc="-1" strike="noStrike">
              <a:solidFill>
                <a:srgbClr val="ffffff"/>
              </a:solidFill>
              <a:latin typeface="Arial"/>
            </a:endParaRPr>
          </a:p>
          <a:p>
            <a:pPr lvl="1" marL="714240" indent="-35712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Directive du Codex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42"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valuation de la sécurité sanitai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ubstances exprimées (substances autres que l’acide nucléique): évaluation de l’éventuelle toxicité et de l’allergénicité potentielle (protéin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nalyses de la composition en constituants essentiel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valuation des métabolit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cédés de transformation de l’aliment</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odifications nutritionnell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utres considérations (gènes marqueurs)</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a:t>
            </a:r>
            <a:endParaRPr b="0" lang="en-US" sz="3200" spc="-1" strike="noStrike">
              <a:solidFill>
                <a:srgbClr val="ffffff"/>
              </a:solidFill>
              <a:latin typeface="Arial"/>
            </a:endParaRPr>
          </a:p>
        </p:txBody>
      </p:sp>
      <p:sp>
        <p:nvSpPr>
          <p:cNvPr id="144"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nsultations d’experts FAO/OM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spects de la sécurité sanitaire des aliments génétiquement modifiés d’origine végétale (juin 2000)</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Évaluation de l’allergénicité des aliments génétiquement modifiés (janvier 2001)</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Évaluation de la sécurité sanitaire des aliments issus de micro-organismes génétiquement modifiés (septembre 2001)</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écurité sanitaire des aliments issus d’animaux génétiquement modifiés, y compris les poissons (novembre 2003)</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46"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écurité sanitaire des aliments dérivés des biotechnologi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jet FAO de renforcement des capacités visant à aider les pays à mettre en ?uvre des normes internationales concernant l’analyse des risques liés aux produits dérivés des biotechnologi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ttp://www.fao.org/ag/agn/agns/biotechnology_faowho_fr.asp</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a:t>
            </a:r>
            <a:endParaRPr b="0" lang="en-US" sz="3600" spc="-1" strike="noStrike">
              <a:solidFill>
                <a:srgbClr val="ffffff"/>
              </a:solidFill>
              <a:latin typeface="Arial"/>
            </a:endParaRPr>
          </a:p>
        </p:txBody>
      </p:sp>
      <p:sp>
        <p:nvSpPr>
          <p:cNvPr id="14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concepts et principes définis par l’OCDE, la FAO/OMS et le Codex ont été appliqués concrètement par les pays qui évaluent la sécurité sanitaire des aliments dérivés des biotechnologies modern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évaluations conduites au niveau international des produits dérivés de plantes à ADN recombiné ont démontré que les concepts peuvent être appliqués de façon efficace lors de l’évaluation de la sécurité sanitaire des aliments dérivés des biotechnologies modernes et de leur approbation</a:t>
            </a:r>
            <a:endParaRPr b="0" lang="en-US" sz="2400" spc="-1" strike="noStrike">
              <a:solidFill>
                <a:srgbClr val="ffffff"/>
              </a:solidFill>
              <a:latin typeface="Arial"/>
            </a:endParaRPr>
          </a:p>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455760" indent="-45576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 </a:t>
            </a:r>
            <a:r>
              <a:rPr b="0" i="1" lang="en-US" sz="2400" spc="-1" strike="noStrike">
                <a:solidFill>
                  <a:srgbClr val="000000"/>
                </a:solidFill>
                <a:latin typeface="Arial"/>
              </a:rPr>
              <a:t>(fin)</a:t>
            </a:r>
            <a:endParaRPr b="0" lang="en-US" sz="2400" spc="-1" strike="noStrike">
              <a:solidFill>
                <a:srgbClr val="ffffff"/>
              </a:solidFill>
              <a:latin typeface="Arial"/>
            </a:endParaRPr>
          </a:p>
        </p:txBody>
      </p:sp>
      <p:sp>
        <p:nvSpPr>
          <p:cNvPr id="15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pproche de l’évaluation de la sécurité sanitaire des aliments dérivés des biotechnologies modernes est constamment évaluée, affinée et développée dans des instances internationales</a:t>
            </a:r>
            <a:endParaRPr b="0" lang="en-US" sz="2800" spc="-1" strike="noStrike">
              <a:solidFill>
                <a:srgbClr val="ffffff"/>
              </a:solidFill>
              <a:latin typeface="Arial"/>
            </a:endParaRPr>
          </a:p>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pays participants contribuent au processus et adoptent des approches «à jour» dans leurs propres systèmes de réglementatio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Définition: biotechnologie moderne</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Application de:</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techniques de manipulation </a:t>
            </a:r>
            <a:r>
              <a:rPr b="0" i="1" lang="fr-FR" sz="2400" spc="-1" strike="noStrike">
                <a:solidFill>
                  <a:srgbClr val="000000"/>
                </a:solidFill>
                <a:latin typeface="Times New Roman"/>
                <a:ea typeface="Times New Roman"/>
              </a:rPr>
              <a:t>in vitro</a:t>
            </a:r>
            <a:r>
              <a:rPr b="0" lang="fr-FR" sz="2400" spc="-1" strike="noStrike">
                <a:solidFill>
                  <a:srgbClr val="000000"/>
                </a:solidFill>
                <a:latin typeface="Times New Roman"/>
                <a:ea typeface="Times New Roman"/>
              </a:rPr>
              <a:t> des acides nucléiques, y compris la recombinaison de l'acide désoxyribonucléique (ADN) et l'introduction directe d'acides nucléiques dans des cellules ou organites</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ou</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fusion cellulaire d'organismes n'appartenant pas à une même famille taxonomique, qui surmontent les barrières naturelles de la physiologie de la reproduction ou de la recombinaison et qui ne sont pas des techniques utilisées pour la reproduction et la sélection de type classique</a:t>
            </a: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a:t>
            </a:r>
            <a:r>
              <a:rPr b="0" i="1" lang="fr-FR" sz="2000" spc="-1" strike="noStrike">
                <a:solidFill>
                  <a:srgbClr val="000000"/>
                </a:solidFill>
                <a:latin typeface="Times New Roman"/>
                <a:ea typeface="Times New Roman"/>
              </a:rPr>
              <a:t>Protocole de Carthagène sur la biosécurité</a:t>
            </a:r>
            <a:r>
              <a:rPr b="0" lang="fr-FR"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La biotechnologie moderne</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97" name="Line 2"/>
          <p:cNvSpPr/>
          <p:nvPr/>
        </p:nvSpPr>
        <p:spPr>
          <a:xfrm>
            <a:off x="4495680" y="3505320"/>
            <a:ext cx="180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98"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Élargit le champ des modifications génétiques</a:t>
            </a:r>
            <a:endParaRPr b="0" lang="en-US" sz="2800" spc="-1" strike="noStrike">
              <a:solidFill>
                <a:srgbClr val="ffffff"/>
              </a:solidFill>
              <a:latin typeface="Arial"/>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Ne doit pas déboucher sur la production d’aliments moins sûrs que ceux obtenus par des techniques conventionnelles (OCDE, 1993)</a:t>
            </a:r>
            <a:endParaRPr b="0" lang="en-US" sz="2800" spc="-1" strike="noStrike">
              <a:solidFill>
                <a:srgbClr val="ffffff"/>
              </a:solidFill>
              <a:latin typeface="Arial"/>
            </a:endParaRPr>
          </a:p>
          <a:p>
            <a:pPr marL="45720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Il n’est pas nécessaire de fixer des normes de sécurité sanitaire nouvelles ou différentes </a:t>
            </a:r>
            <a:endParaRPr b="0" lang="en-US" sz="2800" spc="-1" strike="noStrike">
              <a:solidFill>
                <a:srgbClr val="ffffff"/>
              </a:solidFill>
              <a:latin typeface="Arial"/>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Les principes déjà établis de l’évaluation de la sécurité sanitaire des aliments continuent de s’appliquer</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Efforts internationaux</a:t>
            </a:r>
            <a:endParaRPr b="0" lang="en-US" sz="3600" spc="-1" strike="noStrike">
              <a:solidFill>
                <a:srgbClr val="ffffff"/>
              </a:solidFill>
              <a:latin typeface="Arial"/>
            </a:endParaRPr>
          </a:p>
        </p:txBody>
      </p:sp>
      <p:sp>
        <p:nvSpPr>
          <p:cNvPr id="100" name="Text Box 2"/>
          <p:cNvSpPr/>
          <p:nvPr/>
        </p:nvSpPr>
        <p:spPr>
          <a:xfrm>
            <a:off x="720720" y="1619280"/>
            <a:ext cx="8074080" cy="52801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Efforts concertés déployés au niveau international</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Principales consultations internationales sur l’évaluation de la sécurité sanitaire des aliments transgéniques :</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FAO/OMS</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IFBC</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ILSI</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OCDE</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CAC</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Etc.</a:t>
            </a:r>
            <a:endParaRPr b="0" lang="en-US" sz="2800" spc="-1" strike="noStrike">
              <a:solidFill>
                <a:srgbClr val="ffffff"/>
              </a:solidFill>
              <a:latin typeface="Arial"/>
            </a:endParaRPr>
          </a:p>
          <a:p>
            <a:pPr lvl="2" marL="849240" indent="-45720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Les critères adoptés dans les différents pays pour évaluer la sécurité sanitaire des aliments transgéniques sont généralement compatibles (Banque mondiale, 2003)</a:t>
            </a:r>
            <a:endParaRPr b="0" lang="en-US" sz="2800" spc="-1" strike="noStrike">
              <a:solidFill>
                <a:srgbClr val="ffffff"/>
              </a:solidFill>
              <a:latin typeface="Arial"/>
            </a:endParaRPr>
          </a:p>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Les pays  règlementent les aliments transgéniques, par des approches différentes, pouvant reposer sur la loi ou non</a:t>
            </a:r>
            <a:endParaRPr b="0" lang="en-US" sz="2800" spc="-1" strike="noStrike">
              <a:solidFill>
                <a:srgbClr val="ffffff"/>
              </a:solidFill>
              <a:latin typeface="Arial"/>
            </a:endParaRPr>
          </a:p>
        </p:txBody>
      </p:sp>
      <p:sp>
        <p:nvSpPr>
          <p:cNvPr id="102"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Efforts internationaux </a:t>
            </a:r>
            <a:r>
              <a:rPr b="0" i="1" lang="fr-FR" sz="2800" spc="-1" strike="noStrike">
                <a:solidFill>
                  <a:srgbClr val="000000"/>
                </a:solidFill>
                <a:latin typeface="Arial"/>
              </a:rPr>
              <a:t>(fin)</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Considérations clés</a:t>
            </a:r>
            <a:endParaRPr b="0" lang="en-US" sz="3600" spc="-1" strike="noStrike">
              <a:solidFill>
                <a:srgbClr val="ffffff"/>
              </a:solidFill>
              <a:latin typeface="Arial"/>
            </a:endParaRPr>
          </a:p>
        </p:txBody>
      </p:sp>
      <p:sp>
        <p:nvSpPr>
          <p:cNvPr id="104"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Des discussions internationales entre les pays de l’OCDE et des consultations d’experts FAO/OMS des Nations Unies ont abouti à un consensus sur les questions spécifiques de sécurité sanitaire à prendre en compte pour évaluer un aliment nouveau.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Principes généraux</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10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Les principes ci-après sont utilisés au niveau international pour l’évaluation de la sécurité sanitaire des aliments dérivés d’organismes à ADN recombiné :</a:t>
            </a:r>
            <a:endParaRPr b="0" lang="en-US" sz="24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Times New Roman"/>
                <a:ea typeface="Times New Roman"/>
              </a:rPr>
              <a:t>Les aliments traditionnels sont généralement considérés comme sûrs, s’ils ont été préparés et manipulés comme il convient</a:t>
            </a:r>
            <a:endParaRPr b="0" lang="en-US" sz="20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Times New Roman"/>
                <a:ea typeface="Times New Roman"/>
              </a:rPr>
              <a:t>Les aliments nouveaux, y compris ceux à ADN recombiné, doivent obligatoirement faire l’objet d’une évaluation de leur sécurité sanitaire avant d’être mis sur le marché, dans certaines juridictions (telles que Japon, Canada, Australie et Nouvelle-Zélande, RU, UE). </a:t>
            </a:r>
            <a:endParaRPr b="0" lang="en-US" sz="20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Times New Roman"/>
                <a:ea typeface="Times New Roman"/>
              </a:rPr>
              <a:t>Une approche prudente est de rigueur pour les aliments, tels que les aliments à ADN recombiné, dont la consommation sûre n’est pas prouvée </a:t>
            </a:r>
            <a:endParaRPr b="0" lang="en-US" sz="20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a:p>
            <a:pPr lvl="2" marL="849240" indent="-45720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Principes généraux</a:t>
            </a:r>
            <a:r>
              <a:rPr b="0" lang="en-US" sz="3600" spc="-1" strike="noStrike">
                <a:solidFill>
                  <a:srgbClr val="000000"/>
                </a:solidFill>
                <a:latin typeface="Arial"/>
              </a:rPr>
              <a:t> </a:t>
            </a:r>
            <a:r>
              <a:rPr b="0" i="1" lang="en-US" sz="2400" spc="-1" strike="noStrike">
                <a:solidFill>
                  <a:srgbClr val="000000"/>
                </a:solidFill>
                <a:latin typeface="Arial"/>
              </a:rPr>
              <a:t>(suite)</a:t>
            </a:r>
            <a:endParaRPr b="0" lang="en-US" sz="2400" spc="-1" strike="noStrike">
              <a:solidFill>
                <a:srgbClr val="ffffff"/>
              </a:solidFill>
              <a:latin typeface="Arial"/>
            </a:endParaRPr>
          </a:p>
        </p:txBody>
      </p:sp>
      <p:sp>
        <p:nvSpPr>
          <p:cNvPr id="108"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Les évaluations de la sécurité sanitaire des aliments à ADN recombiné sont effectuées  dans le respect de quelques principes clés:</a:t>
            </a:r>
            <a:endParaRPr b="0" lang="en-US" sz="24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s évaluations de la sécurité sanitaire font appel à des méthodes scientifiques fondées sur les risques.</a:t>
            </a:r>
            <a:endParaRPr b="0" lang="en-US" sz="20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s évaluations de la sécurité sanitaire se font « au cas par cas »</a:t>
            </a:r>
            <a:endParaRPr b="0" lang="en-US" sz="20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s effets recherchés et les effets non intentionnels des modifications génétiques sont pris en compte</a:t>
            </a:r>
            <a:endParaRPr b="0" lang="en-US" sz="20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 cas échéant, on  procède à des comparaisons avec des aliments obtenus par des méthodes conventionnelle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Les décisions eu égard à la sécurité sanitaire se fondent sur l’ensemble des preuves</a:t>
            </a:r>
            <a:r>
              <a:rPr b="0" lang="en-US" sz="2400" spc="-1" strike="noStrike">
                <a:solidFill>
                  <a:srgbClr val="000000"/>
                </a:solidFill>
                <a:latin typeface="Times New Roman"/>
                <a:ea typeface="Times New Roman"/>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6:07:18Z</dcterms:created>
  <dc:creator>Takeuchi, Masami (AGNS)</dc:creator>
  <dc:description/>
  <dc:language>en-US</dc:language>
  <cp:lastModifiedBy>Claudio</cp:lastModifiedBy>
  <dcterms:modified xsi:type="dcterms:W3CDTF">2009-10-03T09:21:05Z</dcterms:modified>
  <cp:revision>206</cp:revision>
  <dc:subject/>
  <dc:title>Concepts and Principles of GM Food Safety Assessment</dc:title>
</cp:coreProperties>
</file>