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DFB-D722-43D4-8051-9759EA65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8C6-CFD6-4D68-9388-770A2210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F5D-BFC9-47C9-BE66-A437C278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B12-DE89-48B1-8FF3-9708CEF5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BF9-5987-4129-86CF-3D5BEF2D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263-397A-455B-8742-46AC654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F06-1A35-4CAF-A12A-56802BDB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176-6E9B-4342-BCF5-34418A21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BEE-46B4-4A33-BB6A-C9F1BA82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866-C74D-4CE2-AD3B-B8E5F4C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D3E-FFE7-41B3-A47D-530D5DC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216-BFBA-44EA-8BA5-3BF3FA1A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3F8-6664-46F5-AAF3-38BCD7A5232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10-16T13:11:25Z</dcterms:modified>
  <cp:revision>8</cp:revision>
  <dc:subject/>
  <dc:title>Presentazione di PowerPoint</dc:title>
</cp:coreProperties>
</file>