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BCBEE0-016B-48D6-9285-396538A2E5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EF439-B131-453E-9AE4-275A98D1D58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6"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D7A31-0526-43CA-9E47-7A869D8963A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4DB89-B770-4EBF-995C-701D0E7A20B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BA1E8B-A81F-4E02-B794-D64B49F72E7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D616AC-1C73-4AC6-8BFA-9BB9D3FFB15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197186-F8EF-431C-8078-0B2581575BB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4452B-1B12-454F-B89A-2FBD73573CD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8ABECF-5D76-4488-9648-2ADBA560DF9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F557E-1671-409F-B8F6-B44ECC0AD4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863A3A-321A-41F0-BD57-458AFAA0A1D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CB4D6-93A3-4787-AEA8-78B6447F344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C49DF4-7EC6-406A-AC86-13D8CE1939A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7D90AB-7943-4EB8-808C-F99C367469D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E6BF6-4F33-4E7C-9943-9ECF57B1C0D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18DED-BBB0-4EEF-94C0-69162515EEF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EBDF9-9349-4D8D-A34F-032CE2BFFA9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708CF5-A6AF-43C2-9F4E-6ABB6FE7BB5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aractérisation de la ou des modification(s) génétique(s), évaluation de la toxicité et de l’allergénicité potentielles et analyse de la composition</a:t>
            </a:r>
            <a:endParaRPr b="0" lang="en-US" sz="32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odule de présentation 4</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aramètres importants</a:t>
            </a:r>
            <a:endParaRPr b="0" lang="en-US" sz="3600" spc="-1" strike="noStrike">
              <a:solidFill>
                <a:srgbClr val="ffffff"/>
              </a:solidFill>
              <a:latin typeface="Arial"/>
            </a:endParaRPr>
          </a:p>
        </p:txBody>
      </p:sp>
      <p:sp>
        <p:nvSpPr>
          <p:cNvPr id="10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Origine de la protéin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omologie de la séquence d’acides aminé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Résistance à la pepsin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épistage de sérums spécifique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Remarques sur l’évaluation de la toxicité et de l’allergénicité</a:t>
            </a:r>
            <a:endParaRPr b="0" lang="en-US" sz="3600" spc="-1" strike="noStrike">
              <a:solidFill>
                <a:srgbClr val="ffffff"/>
              </a:solidFill>
              <a:latin typeface="Arial"/>
            </a:endParaRPr>
          </a:p>
        </p:txBody>
      </p:sp>
      <p:sp>
        <p:nvSpPr>
          <p:cNvPr id="11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Assurance de la qualité</a:t>
            </a:r>
            <a:endParaRPr b="0" lang="en-US" sz="28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Il est essentiel que le processus d’organisation et les conditions de planification, d’exécution, de contrôle, d’enregistrement et de notification des examens de laboratoire soient conformes aux principes des Bonnes pratiques de laboratoire</a:t>
            </a:r>
            <a:endParaRPr b="0" lang="en-US" sz="28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Études toxicologiques: il est important d’établir la relation entre les variations des paramètres physiologiques mesurés et les doses administrées du composé testé</a:t>
            </a:r>
            <a:endParaRPr b="0" lang="en-US" sz="2800" spc="-1" strike="noStrike">
              <a:solidFill>
                <a:srgbClr val="ffffff"/>
              </a:solidFill>
              <a:latin typeface="Arial"/>
            </a:endParaRPr>
          </a:p>
          <a:p>
            <a:pPr lvl="1" marL="898560" indent="-44928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Remarques sur l’évaluation de la toxicité et de l’allergénicité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13"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Autres méthodes et outils</a:t>
            </a:r>
            <a:endParaRPr b="0" lang="en-US" sz="2800" spc="-1" strike="noStrike">
              <a:solidFill>
                <a:srgbClr val="ffffff"/>
              </a:solidFill>
              <a:latin typeface="Arial"/>
            </a:endParaRPr>
          </a:p>
          <a:p>
            <a:pPr lvl="1" marL="920880" indent="-44928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Comme les connaissances scientifiques et les technologies évoluent, d’autres méthodes et outils peuvent être envisagés pour évaluer l’allergénicité potentielle des protéines nouvellement exprimé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nalyse de la composition</a:t>
            </a:r>
            <a:endParaRPr b="0" lang="en-US" sz="3600" spc="-1" strike="noStrike">
              <a:solidFill>
                <a:srgbClr val="ffffff"/>
              </a:solidFill>
              <a:latin typeface="Arial"/>
            </a:endParaRPr>
          </a:p>
        </p:txBody>
      </p:sp>
      <p:sp>
        <p:nvSpPr>
          <p:cNvPr id="115"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léments bénéfiques et nocifs du régime alimentaire:</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eléments nutritif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ubstances bioactives sans valeur nutritiv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facteurs antinutritionnel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ubstances toxiqu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contaminant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utres éléments potentiellement utiles et dangereux</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It est important de déterminer les éléments nutritifs/éléments sur lesquels doit être centrée l’évalu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s 44 à 46</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rocédés de transformation des aliments</a:t>
            </a:r>
            <a:endParaRPr b="0" lang="en-US" sz="3600" spc="-1" strike="noStrike">
              <a:solidFill>
                <a:srgbClr val="ffffff"/>
              </a:solidFill>
              <a:latin typeface="Arial"/>
            </a:endParaRPr>
          </a:p>
        </p:txBody>
      </p:sp>
      <p:sp>
        <p:nvSpPr>
          <p:cNvPr id="117"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 47</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méthodes de transformation peuvent entraîner des variations significatives de la teneur en éléments nutritifs d’un produit alimentai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techniques de séparation modernes (mouture, centrifugation, pressage, etc.) altèrent le contenu nutritionnel</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techniques de chauffage peuvent réduire la teneur en nombreux éléments nutritifs thermolabiles (vitamines, substances phytochimiques, etc.)</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Modifications nutritionnelles</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rective du Codex, paragraphes 48 à 53</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our les plantes à ADN recombiné, dont les éléments nutritifs ont été altérés de propos délibéré, le but de l’évaluation nutritionnelle est de démontrer l’absence de modifications non intentionnelles (biodisponibilité, etc.)</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différences de composition sont généralement plus importantes – les méthodes d’évaluation de la sécurité sanitaire actuelles peuvent donc apparaître insuffisantes, du fait que les cultures dont le contenu nutritionnel a été modifié ne seront pas «équivalentes en substance» par rapport à l’aliment traditionnel de référence, et auront moins de valeurs compositionnelles en commun à comparer</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Nouvelles méthodes analytiques</a:t>
            </a:r>
            <a:endParaRPr b="0" lang="en-US" sz="3600" spc="-1" strike="noStrike">
              <a:solidFill>
                <a:srgbClr val="ffffff"/>
              </a:solidFill>
              <a:latin typeface="Arial"/>
            </a:endParaRPr>
          </a:p>
        </p:txBody>
      </p:sp>
      <p:sp>
        <p:nvSpPr>
          <p:cNvPr id="12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es méthodologies plus perfectionnées et des techniques plus sensibles permettent de détecter des altérations non recherchées de la composition jusque là impossibles à déceler</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utilité et l’applicabilité des techniques d’évaluation des risques non ciblées doivent faire l’objet d’un examen plus approfondi pour déterminer si les modifications observées ont une incidence sur la sécurité sanitair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méthodes d’établissement de profils ne sont pas encore utilisables aux fins de l’évaluation des risques, mais si elles sont validées, elles peuvent être utiles pour confirmer et compléter d’autres données</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âches du groupe de travail</a:t>
            </a:r>
            <a:endParaRPr b="0" lang="en-US" sz="3600" spc="-1" strike="noStrike">
              <a:solidFill>
                <a:srgbClr val="ffffff"/>
              </a:solidFill>
              <a:latin typeface="Arial"/>
            </a:endParaRPr>
          </a:p>
        </p:txBody>
      </p:sp>
      <p:sp>
        <p:nvSpPr>
          <p:cNvPr id="12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En s’appuyant sur les études de cas:</a:t>
            </a:r>
            <a:endParaRPr b="0" lang="en-US" sz="32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identifier</a:t>
            </a:r>
            <a:r>
              <a:rPr b="0" lang="en-US" sz="2800" spc="-1" strike="noStrike">
                <a:solidFill>
                  <a:srgbClr val="000000"/>
                </a:solidFill>
                <a:latin typeface="Times New Roman"/>
                <a:ea typeface="Times New Roman"/>
              </a:rPr>
              <a:t> les études de la toxicité et évaluer la toxicité potentiel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identifier</a:t>
            </a:r>
            <a:r>
              <a:rPr b="0" lang="en-US" sz="2800" spc="-1" strike="noStrike">
                <a:solidFill>
                  <a:srgbClr val="000000"/>
                </a:solidFill>
                <a:latin typeface="Times New Roman"/>
                <a:ea typeface="Times New Roman"/>
              </a:rPr>
              <a:t> les études de l’allergénicité, puis évaluer l’allergénicité potentiel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identifier</a:t>
            </a:r>
            <a:r>
              <a:rPr b="0" lang="en-US" sz="2800" spc="-1" strike="noStrike">
                <a:solidFill>
                  <a:srgbClr val="000000"/>
                </a:solidFill>
                <a:latin typeface="Times New Roman"/>
                <a:ea typeface="Times New Roman"/>
              </a:rPr>
              <a:t> la description de l’analyse de la composition, puis </a:t>
            </a:r>
            <a:r>
              <a:rPr b="1" lang="en-US" sz="2800" spc="-1" strike="noStrike">
                <a:solidFill>
                  <a:srgbClr val="000000"/>
                </a:solidFill>
                <a:latin typeface="Times New Roman"/>
                <a:ea typeface="Times New Roman"/>
              </a:rPr>
              <a:t>évaluer</a:t>
            </a:r>
            <a:r>
              <a:rPr b="0" lang="en-US" sz="2800" spc="-1" strike="noStrike">
                <a:solidFill>
                  <a:srgbClr val="000000"/>
                </a:solidFill>
                <a:latin typeface="Times New Roman"/>
                <a:ea typeface="Times New Roman"/>
              </a:rPr>
              <a:t> l’analyse</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Objectifs de la présentatio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pliquer la méthodologie de caractérisation de la ou des modification(s) généti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a méthodologie d’évaluation de la toxicité, y compris des études sur animaux</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a méthodologie d’évaluation de l’allergénicité potentielle, y compris les paramètres important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es méthodologies d’analyse de la composition, d’évaluation des métabolites, des procédés de transformation des aliments et des modifications nutritionnelle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aractérisation de la ou des modification(s) génétique(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s 30 à 33</a:t>
            </a:r>
            <a:endParaRPr b="0" lang="en-US" sz="2800" spc="-1" strike="noStrike">
              <a:solidFill>
                <a:srgbClr val="ffffff"/>
              </a:solidFill>
              <a:latin typeface="Arial"/>
            </a:endParaRPr>
          </a:p>
          <a:p>
            <a:pPr lvl="1" marL="988920" indent="-44136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Analyse moléculaire</a:t>
            </a:r>
            <a:endParaRPr b="0" lang="en-US" sz="2400" spc="-1" strike="noStrike">
              <a:solidFill>
                <a:srgbClr val="ffffff"/>
              </a:solidFill>
              <a:latin typeface="Arial"/>
            </a:endParaRPr>
          </a:p>
          <a:p>
            <a:pPr lvl="1" marL="988920" indent="-44136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Événements de transformation de la plante générés de façon aléatoire</a:t>
            </a:r>
            <a:endParaRPr b="0" lang="en-US" sz="2400" spc="-1" strike="noStrike">
              <a:solidFill>
                <a:srgbClr val="ffffff"/>
              </a:solidFill>
              <a:latin typeface="Arial"/>
            </a:endParaRPr>
          </a:p>
          <a:p>
            <a:pPr lvl="1" marL="988920" indent="-44136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Détection de transgènes au moyen d’amorces spécifiques d’un évènement</a:t>
            </a:r>
            <a:endParaRPr b="0" lang="en-US" sz="2400" spc="-1" strike="noStrike">
              <a:solidFill>
                <a:srgbClr val="ffffff"/>
              </a:solidFill>
              <a:latin typeface="Arial"/>
            </a:endParaRPr>
          </a:p>
          <a:p>
            <a:pPr lvl="1" marL="988920" indent="-44136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Degré de perfectionnement, compte tenu du niveau actuel des technologies</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s 34 à 40</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incipales considérations:</a:t>
            </a:r>
            <a:endParaRPr b="0" lang="en-US" sz="28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Produit (s) d’expression des protéines du ou des gène(s) inséré(s)</a:t>
            </a:r>
            <a:endParaRPr b="0" lang="en-US" sz="24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Effets résultant d’une perturbation de l’expression des gènes due à l’insertion de l’ADN du donneur dans le génome hôt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Objet de la détermination de la sécurité sanitaire: aliment aussi sûr que l’aliment traditionnel de référence</a:t>
            </a:r>
            <a:endParaRPr b="0" lang="en-US" sz="2800" spc="-1" strike="noStrike">
              <a:solidFill>
                <a:srgbClr val="ffffff"/>
              </a:solidFill>
              <a:latin typeface="Arial"/>
            </a:endParaRPr>
          </a:p>
          <a:p>
            <a:pPr lvl="3" marL="988920" indent="-45720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ar exemple, le soja traditionnel peut affecter les fonctions endocriniennes, donc le soja génétiquement</a:t>
            </a:r>
            <a:endParaRPr b="0" lang="en-US" sz="24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oxicité</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Études </a:t>
            </a:r>
            <a:r>
              <a:rPr b="0" i="1" lang="en-US" sz="3600" spc="-1" strike="noStrike">
                <a:solidFill>
                  <a:srgbClr val="000000"/>
                </a:solidFill>
                <a:latin typeface="Arial"/>
              </a:rPr>
              <a:t>in vitro</a:t>
            </a:r>
            <a:endParaRPr b="0" lang="en-US" sz="3600" spc="-1" strike="noStrike">
              <a:solidFill>
                <a:srgbClr val="ffffff"/>
              </a:solidFill>
              <a:latin typeface="Arial"/>
            </a:endParaRPr>
          </a:p>
        </p:txBody>
      </p:sp>
      <p:sp>
        <p:nvSpPr>
          <p:cNvPr id="99" name="Text Box 2"/>
          <p:cNvSpPr/>
          <p:nvPr/>
        </p:nvSpPr>
        <p:spPr>
          <a:xfrm>
            <a:off x="720720" y="1619280"/>
            <a:ext cx="8082000" cy="518616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Nouvelles protéines (par opposition aux autres substances chimiqu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Devenir métabolique prévisible dans le tube digestif de l’homme/animal</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Test de digestibilité </a:t>
            </a:r>
            <a:r>
              <a:rPr b="0" i="1" lang="en-US" sz="2000" spc="-1" strike="noStrike">
                <a:solidFill>
                  <a:srgbClr val="000000"/>
                </a:solidFill>
                <a:latin typeface="Times New Roman"/>
                <a:ea typeface="Times New Roman"/>
              </a:rPr>
              <a:t>in vitro </a:t>
            </a:r>
            <a:r>
              <a:rPr b="0" lang="en-US" sz="2000" spc="-1" strike="noStrike">
                <a:solidFill>
                  <a:srgbClr val="000000"/>
                </a:solidFill>
                <a:latin typeface="Times New Roman"/>
                <a:ea typeface="Times New Roman"/>
              </a:rPr>
              <a:t>– indique la probabilité qu’une protéine ait des caractéristiques inhabituelles pour les protéines alimentaire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Si une protéine s’avère résistante aux fluides digestifs normaux: significatif pour les protéines ayant des activités biologiques potentiellement néfastes (toxicité ou allergénicité)</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protéines qui ont un effet toxique l’exercent généralement rapidement – les tests de toxicité aiguë sont considérés comme adéquat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Études sur animaux</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incipal élément de l’évaluation de la sécurité sanitaire de nombreux composés: pesticides, médicaments, produits chimiques, additifs alimentaires, etc.</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Substance: pureté connue, sans valeur nutritionnell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rective du Codex paragraphes 10–12 et 53</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fficultés: les aliments sont des mélanges complexes de composés souvent caractérisés par une grande variation de leur composition et valeur nutritionnelle – il est extrêmement difficile de détecter les effets néfastes éventuels dans des études sur animaux sans traitements de contrôle approprié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llergénicité (protéines)</a:t>
            </a:r>
            <a:endParaRPr b="0" lang="en-US" sz="36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s 41 à 43</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véritables allergies alimentaires peuvent mettre en jeu plusieurs types de réponses immunitair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ypes les plus courants: induits par des anticorps qui sont des immunoglobulines de la classe E (IgE) spécifiques d’un allergèn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véritables allergies alimentaires peuvent aussi englober des réactions à médiation cellulaire</a:t>
            </a:r>
            <a:endParaRPr b="0" lang="en-US" sz="2800" spc="-1" strike="noStrike">
              <a:solidFill>
                <a:srgbClr val="ffffff"/>
              </a:solidFill>
              <a:latin typeface="Arial"/>
            </a:endParaRPr>
          </a:p>
          <a:p>
            <a:pPr marL="455760" indent="-45576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llergénicité (protéines)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0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 Codex a établi une liste des aliments allergisants les plus courants associés à des réactions induites par l’Ig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cultures alimentaires génétiquement modifiées destinées à la consommation humaine peuvent avoir un pouvoir allergisant</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 Codex recommande d’utiliser une approche au cas par cas, progressive et intégrée pour l'évaluation de l'allergénicité potentielle des aliments génétiquement modifié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tratégie d’évaluation</a:t>
            </a:r>
            <a:endParaRPr b="0" lang="en-US" sz="3600" spc="-1" strike="noStrike">
              <a:solidFill>
                <a:srgbClr val="ffffff"/>
              </a:solidFill>
              <a:latin typeface="Arial"/>
            </a:endParaRPr>
          </a:p>
        </p:txBody>
      </p:sp>
      <p:sp>
        <p:nvSpPr>
          <p:cNvPr id="107"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emière étape – détermination de </a:t>
            </a:r>
            <a:endParaRPr b="0" lang="en-US" sz="2400" spc="-1" strike="noStrike">
              <a:solidFill>
                <a:srgbClr val="ffffff"/>
              </a:solidFill>
              <a:latin typeface="Arial"/>
            </a:endParaRPr>
          </a:p>
          <a:p>
            <a:pPr lvl="1" marL="920880" indent="-45720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l’origine de la protéine introduite </a:t>
            </a:r>
            <a:endParaRPr b="0" lang="en-US" sz="2400" spc="-1" strike="noStrike">
              <a:solidFill>
                <a:srgbClr val="ffffff"/>
              </a:solidFill>
              <a:latin typeface="Arial"/>
            </a:endParaRPr>
          </a:p>
          <a:p>
            <a:pPr lvl="1" marL="920880" indent="-45720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toute similarité significative entre la séquence d'acides aminés de la protéine et celle des allergènes connus</a:t>
            </a:r>
            <a:endParaRPr b="0" lang="en-US" sz="2400" spc="-1" strike="noStrike">
              <a:solidFill>
                <a:srgbClr val="ffffff"/>
              </a:solidFill>
              <a:latin typeface="Arial"/>
            </a:endParaRPr>
          </a:p>
          <a:p>
            <a:pPr lvl="1" marL="920880" indent="-45720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ses propriétés structurel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ucun test unique ne peut prédire la probabilité d'une réponse IgE humaine suite à une exposition par voie oral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urification des nouvelles protéines exprimées chez la plante à ADN recombiné, pour caractériser la protéin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Il est important d’établir si la source est connue pour provoquer des réactions allergique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8:26:34Z</dcterms:created>
  <dc:creator>Takeuchi, Masami (AGNS)</dc:creator>
  <dc:description/>
  <dc:language>en-US</dc:language>
  <cp:lastModifiedBy>Claudio</cp:lastModifiedBy>
  <dcterms:modified xsi:type="dcterms:W3CDTF">2009-10-03T09:33:15Z</dcterms:modified>
  <cp:revision>194</cp:revision>
  <dc:subject/>
  <dc:title>Concepts and Principles of GM Food Safety Assessment</dc:title>
</cp:coreProperties>
</file>