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DAB-D499-414D-BEE0-CF830915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11A-246F-4152-B074-14834690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9D4-0BAC-44D5-8F30-19165B61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86E-1702-4E7B-A9DF-8133225D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7CD8-3F71-4C80-8CA0-82FEFCE3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409-E1B1-4EAB-861C-9D6431FD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922-B03D-4429-89AB-6D3B4BBF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F9E-AD92-4566-91EF-3D9E63A0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325-AA76-432E-A26F-4D5517B0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1F1-6789-4E92-9BFB-47D404B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350-DEA0-4EB1-9ECF-DC838E7B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65A-58F6-4541-ADF1-F5D70F1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4C22-6D88-4FF7-A25C-AE41D253FE0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9692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8-06-12T15:32:44Z</dcterms:modified>
  <cp:revision>4</cp:revision>
  <dc:subject/>
  <dc:title>Presentazione di PowerPoint</dc:title>
</cp:coreProperties>
</file>