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C8B-96E7-48D2-9C8F-9329C9EE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CA66-C105-47C6-87E3-4DC10045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58D-8FBB-465C-BE71-51953025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5451-0A82-43AB-83CE-45C1303D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1DC9-87AD-4FCC-8293-7A0CB37F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4E4C-0C75-4AFB-875C-E8414C26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C0DB-DE6F-4679-8FE1-66392C40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86E-8591-44F7-ACA4-7B3F5789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DA23-6DD3-4E2A-BF02-9BF729EB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B46-ED9F-4154-9BEF-A0788250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C49-5D1E-4640-81D0-43A7B3DF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8D2-3B8A-4C3D-8778-808ED462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E146-7D6E-4918-A8A7-26DDE065215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09-15T13:34:24Z</dcterms:modified>
  <cp:revision>6</cp:revision>
  <dc:subject/>
  <dc:title>Presentazione di PowerPoint</dc:title>
</cp:coreProperties>
</file>