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41D-A679-4F7E-A69C-FE73DF96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1FF-90E7-4211-A91F-FA61164E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BDA-1F2B-4C61-BC31-D18A33CE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FA7-FF16-44EE-AD7B-0D62FC42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21E-1D41-45F5-A88B-8CCEEAFA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5D7-CE1E-44A9-8387-93A09EBA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C3E-076C-48BF-AC68-FA686EC1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1C3-FE51-496C-9F49-2A473549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CF2-8EA7-48E9-A901-19CCE9A7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DFA-3A76-44A5-A900-B89D5732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61E-4026-4613-BAC0-026089EB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C36-EC45-42BA-A5D3-0A7DE44B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7546-9205-4C51-B974-627B3C72464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8-06-12T15:39:25Z</dcterms:modified>
  <cp:revision>4</cp:revision>
  <dc:subject/>
  <dc:title>Presentazione di PowerPoint</dc:title>
</cp:coreProperties>
</file>