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C51-FB21-4252-A6D0-459D7E14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24C-F13B-4A75-9A81-98D972F7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871-6242-4DBF-B9B5-8661ADAB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863-247E-4941-9AEE-B0E4ACA3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FA6-137F-426C-BF46-F2328315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26D-B91A-4B0C-AC9C-3F82E11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552-D77D-4B83-B9A4-D52FC3E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AFE-86B3-4D4D-BD33-C2FEA87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22C-AB0E-406D-AA38-5592972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379-CB1D-4A8B-8F23-E7B7F55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CDA-FB84-4BC5-A229-561BD38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2EE-9A35-4ECF-B195-C2B656E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767-C5FF-4224-BB30-1AA60A8FBE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8:58:11Z</dcterms:modified>
  <cp:revision>7</cp:revision>
  <dc:subject/>
  <dc:title>Presentazione di PowerPoint</dc:title>
</cp:coreProperties>
</file>