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672E6E-3D65-46AA-92EE-A85BCFDE19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E4F3C-96FC-472B-A6AD-0340F7ED4DF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827F8-68E3-468F-BAB7-51DBD2A3D29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F776C-DB0D-4275-8529-D71EBCDFD48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94F5E5-2B94-4F34-AD54-0BB0DEAD4B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DEA1B-4535-401E-9EE4-A026F675B39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CEAB7-275A-4691-846E-1507C3B65BD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F766D-7212-45A7-9009-19F417B883C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DBE434-F0CB-4254-852A-2BDA8453108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63593-04C8-4872-B51E-1809AC652A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CB37E-69B0-446B-BB73-1E774186E5B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08D80-191C-41DC-9B62-0B511E5299F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3A84C-618D-4ACA-A425-434A8077EA2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6ECE0-F4AF-4286-8D6C-AC20C9C4973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54801-943F-413A-B4F9-BFBDAC7F901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8893D4-2993-4D46-AE5F-E8E1222ADB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69662-0C47-437A-9F6F-0188DA56C35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CDE83-8943-4950-AF35-E5087DC9FC1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76F94-925E-46C9-AA5B-3E471161A5E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Enfoque y marco para la evaluación de la inocuidad de los alimentos GM</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Módulo de presentación 3</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Objeto de debate</a:t>
            </a:r>
            <a:endParaRPr b="0" lang="en-US" sz="3600" spc="-1" strike="noStrike">
              <a:solidFill>
                <a:srgbClr val="ffffff"/>
              </a:solidFill>
              <a:latin typeface="Arial"/>
            </a:endParaRPr>
          </a:p>
        </p:txBody>
      </p:sp>
      <p:sp>
        <p:nvSpPr>
          <p:cNvPr id="11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xpertos de muchos organismos han debatido ampliamente sobre la correcta utilización del concepto de equivalencia sustancial</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OCDE, FAO/OMS, Codex</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Instituto de Tecnología de los Alimentos, 2000</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Real Comisión sobre Modificaciones Genéticas de Nueva Zelandia,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lvl="1" marL="455760" indent="-45576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lvl="1" marL="455760" indent="-45576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s-ES" sz="2000" spc="-1" strike="noStrike">
                <a:solidFill>
                  <a:srgbClr val="000000"/>
                </a:solidFill>
                <a:latin typeface="Times New Roman"/>
                <a:ea typeface="Times New Roman"/>
              </a:rPr>
              <a:t>(cont.)</a:t>
            </a:r>
            <a:endParaRPr b="0" lang="en-US" sz="20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Objeto de debate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1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Informe de la Real Sociedad Canadiense,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cademia Nacional de Ciencias de los Estados Unidos,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Real Sociedad de Ciencias del Reino Unido,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ocumento de situación de la Sociedad de Toxicología,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merican College of Nutrition,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Informe del Gobierno del Reino Unido, 2003</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Ratificación del concepto</a:t>
            </a:r>
            <a:endParaRPr b="0" lang="en-US" sz="3600" spc="-1" strike="noStrike">
              <a:solidFill>
                <a:srgbClr val="ffffff"/>
              </a:solidFill>
              <a:latin typeface="Arial"/>
            </a:endParaRPr>
          </a:p>
        </p:txBody>
      </p:sp>
      <p:sp>
        <p:nvSpPr>
          <p:cNvPr id="114"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a:t>
            </a:r>
            <a:r>
              <a:rPr b="1" lang="es-ES" sz="2400" spc="-1" strike="noStrike">
                <a:solidFill>
                  <a:srgbClr val="000000"/>
                </a:solidFill>
                <a:latin typeface="Times New Roman"/>
                <a:ea typeface="Times New Roman"/>
              </a:rPr>
              <a:t>OCDE</a:t>
            </a:r>
            <a:r>
              <a:rPr b="0" lang="es-ES" sz="2400" spc="-1" strike="noStrike">
                <a:solidFill>
                  <a:srgbClr val="000000"/>
                </a:solidFill>
                <a:latin typeface="Times New Roman"/>
                <a:ea typeface="Times New Roman"/>
              </a:rPr>
              <a:t> y otras organizaciones internacionales reconocen la validez de este concepto que “contribuye a fortalecer el marco de la evaluación de la inocuidad”</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a:t>
            </a:r>
            <a:r>
              <a:rPr b="1" lang="es-ES" sz="2400" spc="-1" strike="noStrike">
                <a:solidFill>
                  <a:srgbClr val="000000"/>
                </a:solidFill>
                <a:latin typeface="Times New Roman"/>
                <a:ea typeface="Times New Roman"/>
              </a:rPr>
              <a:t>Grupo de acción del Codex </a:t>
            </a:r>
            <a:r>
              <a:rPr b="0" lang="es-ES" sz="2400" spc="-1" strike="noStrike">
                <a:solidFill>
                  <a:srgbClr val="000000"/>
                </a:solidFill>
                <a:latin typeface="Times New Roman"/>
                <a:ea typeface="Times New Roman"/>
              </a:rPr>
              <a:t>sigue trabajando con el concepto de equivalencia sustancial en la evaluación de la inocuidad y la evaluación nutricional, y considerando estrategias alternativa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a:t>
            </a:r>
            <a:r>
              <a:rPr b="1" lang="es-ES" sz="2400" spc="-1" strike="noStrike">
                <a:solidFill>
                  <a:srgbClr val="000000"/>
                </a:solidFill>
                <a:latin typeface="Times New Roman"/>
                <a:ea typeface="Times New Roman"/>
              </a:rPr>
              <a:t>Directrices del Codex</a:t>
            </a:r>
            <a:r>
              <a:rPr b="0" lang="es-ES" sz="2400" spc="-1" strike="noStrike">
                <a:solidFill>
                  <a:srgbClr val="000000"/>
                </a:solidFill>
                <a:latin typeface="Times New Roman"/>
                <a:ea typeface="Times New Roman"/>
              </a:rPr>
              <a:t> hacen referencia a la equivalencia sustancial (párrafo 13) como una etapa fundamental del proceso de evaluación de la inocuidad, no como una evaluación de la inocuidad en sí misma</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Limitaciones de la equivalencia sustancial </a:t>
            </a:r>
            <a:endParaRPr b="0" lang="en-US" sz="3600" spc="-1" strike="noStrike">
              <a:solidFill>
                <a:srgbClr val="ffffff"/>
              </a:solidFill>
              <a:latin typeface="Arial"/>
            </a:endParaRPr>
          </a:p>
        </p:txBody>
      </p:sp>
      <p:sp>
        <p:nvSpPr>
          <p:cNvPr id="116"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Requiere datos analíticos suficientes, procedentes de las publicaciones científicas u obtenida de los análisis realizado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pende de la existencia de un comparador y de la información disponible o que se pueda obtener del comparador</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elección del comparador es fundamental para una aplicación eficaz del concept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Un comparador adecuado debe tener una trayectoria de utilización bien documentada</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servaciones sobre el enfoque comparativo</a:t>
            </a:r>
            <a:endParaRPr b="0" lang="en-US" sz="3600" spc="-1" strike="noStrike">
              <a:solidFill>
                <a:srgbClr val="ffffff"/>
              </a:solidFill>
              <a:latin typeface="Arial"/>
            </a:endParaRPr>
          </a:p>
        </p:txBody>
      </p:sp>
      <p:sp>
        <p:nvSpPr>
          <p:cNvPr id="118"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400" spc="-1" strike="noStrike">
                <a:solidFill>
                  <a:srgbClr val="000000"/>
                </a:solidFill>
                <a:latin typeface="Times New Roman"/>
                <a:ea typeface="Times New Roman"/>
              </a:rPr>
              <a:t>Alimentos enteros</a:t>
            </a:r>
            <a:r>
              <a:rPr b="0" lang="es-ES" sz="2400" spc="-1" strike="noStrike">
                <a:solidFill>
                  <a:srgbClr val="000000"/>
                </a:solidFill>
                <a:latin typeface="Times New Roman"/>
                <a:ea typeface="Times New Roman"/>
              </a:rPr>
              <a:t> frente a </a:t>
            </a:r>
            <a:r>
              <a:rPr b="1" lang="es-ES" sz="2400" spc="-1" strike="noStrike">
                <a:solidFill>
                  <a:srgbClr val="000000"/>
                </a:solidFill>
                <a:latin typeface="Times New Roman"/>
                <a:ea typeface="Times New Roman"/>
              </a:rPr>
              <a:t>sustancias consideradas individualmente </a:t>
            </a:r>
            <a:r>
              <a:rPr b="0" lang="es-ES" sz="2400" spc="-1" strike="noStrike">
                <a:solidFill>
                  <a:srgbClr val="000000"/>
                </a:solidFill>
                <a:latin typeface="Times New Roman"/>
                <a:ea typeface="Times New Roman"/>
              </a:rPr>
              <a:t>(aditivos, plaguicidas, etc.)</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Times New Roman"/>
                <a:ea typeface="Times New Roman"/>
              </a:rPr>
              <a:t>la evaluación de la inocuidad exige distintos enfoqu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Times New Roman"/>
                <a:ea typeface="Times New Roman"/>
              </a:rPr>
              <a:t>los alimentos enteros procedentes de muchos cultivos suelen contener sustancias tóxicas y antinutrientes naturales, que pueden ser importantes para la planta pero perjudiciales para las persona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400" spc="-1" strike="noStrike">
                <a:solidFill>
                  <a:srgbClr val="000000"/>
                </a:solidFill>
                <a:latin typeface="Times New Roman"/>
                <a:ea typeface="Times New Roman"/>
              </a:rPr>
              <a:t>Las directrices del Codex </a:t>
            </a:r>
            <a:r>
              <a:rPr b="0" lang="es-ES" sz="2400" spc="-1" strike="noStrike">
                <a:solidFill>
                  <a:srgbClr val="000000"/>
                </a:solidFill>
                <a:latin typeface="Times New Roman"/>
                <a:ea typeface="Times New Roman"/>
              </a:rPr>
              <a:t>recomiendan utilizar una </a:t>
            </a:r>
            <a:r>
              <a:rPr b="1" lang="es-ES" sz="2400" spc="-1" strike="noStrike">
                <a:solidFill>
                  <a:srgbClr val="000000"/>
                </a:solidFill>
                <a:latin typeface="Times New Roman"/>
                <a:ea typeface="Times New Roman"/>
              </a:rPr>
              <a:t>evaluación comparativa </a:t>
            </a:r>
            <a:r>
              <a:rPr b="0" lang="es-ES" sz="2400" spc="-1" strike="noStrike">
                <a:solidFill>
                  <a:srgbClr val="000000"/>
                </a:solidFill>
                <a:latin typeface="Times New Roman"/>
                <a:ea typeface="Times New Roman"/>
              </a:rPr>
              <a:t>para establecer la inocuidad de los alimentos GM (que sean tan inocuos como su homólogo convencional)</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Times New Roman"/>
                <a:ea typeface="Times New Roman"/>
              </a:rPr>
              <a:t>párrafos 13–17</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Marco del Codex</a:t>
            </a:r>
            <a:endParaRPr b="0" lang="en-US" sz="36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Principios para el análisis de riesgos de alimentos obtenidos por medios biotecnológicos modernos” (2003)</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Directrices para la realización de la evaluación de la inocuidad de los alimentos obtenidos de plantas de ADN recombinante” (2003)</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nfoque por etapas</a:t>
            </a:r>
            <a:endParaRPr b="0" lang="en-US" sz="3600" spc="-1" strike="noStrike">
              <a:solidFill>
                <a:srgbClr val="ffffff"/>
              </a:solidFill>
              <a:latin typeface="Arial"/>
            </a:endParaRPr>
          </a:p>
        </p:txBody>
      </p:sp>
      <p:sp>
        <p:nvSpPr>
          <p:cNvPr id="122"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Párrafos 18–21 </a:t>
            </a:r>
            <a:r>
              <a:rPr b="0" lang="es-ES" sz="2800" spc="-1" strike="noStrike">
                <a:solidFill>
                  <a:srgbClr val="000000"/>
                </a:solidFill>
                <a:latin typeface="Times New Roman"/>
                <a:ea typeface="Times New Roman"/>
              </a:rPr>
              <a:t>de las Directrices</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finalidad </a:t>
            </a:r>
            <a:r>
              <a:rPr b="0" lang="es-ES" sz="2800" spc="-1" strike="noStrike">
                <a:solidFill>
                  <a:srgbClr val="000000"/>
                </a:solidFill>
                <a:latin typeface="Times New Roman"/>
                <a:ea typeface="Times New Roman"/>
              </a:rPr>
              <a:t>es examinar las consecuencias intencionales o no de una determinada modificación de los componentes de un alimento, en comparación con un alimento homólogo que tenga una trayectoria de uso inocuo</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atos concretos necesarios</a:t>
            </a:r>
            <a:endParaRPr b="0" lang="en-US" sz="3600" spc="-1" strike="noStrike">
              <a:solidFill>
                <a:srgbClr val="ffffff"/>
              </a:solidFill>
              <a:latin typeface="Arial"/>
            </a:endParaRPr>
          </a:p>
        </p:txBody>
      </p:sp>
      <p:sp>
        <p:nvSpPr>
          <p:cNvPr id="124"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 la planta de ADN recombinante (párrafo 22)</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 la planta hospedadora y de su utilización como alimento (párrafos 23</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25)</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l organismo u organismos donantes (párrafo 26)</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 la modificación o  modificaciones genéticas (párrafos 27</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29)</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metido del grupo de trabajo</a:t>
            </a:r>
            <a:endParaRPr b="0" lang="en-US" sz="3600" spc="-1" strike="noStrike">
              <a:solidFill>
                <a:srgbClr val="ffffff"/>
              </a:solidFill>
              <a:latin typeface="Arial"/>
            </a:endParaRPr>
          </a:p>
        </p:txBody>
      </p:sp>
      <p:sp>
        <p:nvSpPr>
          <p:cNvPr id="126"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Utilizando estudios de casos, </a:t>
            </a: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os siguientes punto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 la planta de ADN recombinant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 la planta hospedadora y de su utilización como alimento</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l organismo u organismos dona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 la modificación o modificaciones genética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 continuación, </a:t>
            </a:r>
            <a:r>
              <a:rPr b="1" lang="es-ES" sz="2800" spc="-1" strike="noStrike">
                <a:solidFill>
                  <a:srgbClr val="000000"/>
                </a:solidFill>
                <a:latin typeface="Times New Roman"/>
                <a:ea typeface="Times New Roman"/>
              </a:rPr>
              <a:t>examinar </a:t>
            </a:r>
            <a:r>
              <a:rPr b="0" lang="es-ES" sz="2800" spc="-1" strike="noStrike">
                <a:solidFill>
                  <a:srgbClr val="000000"/>
                </a:solidFill>
                <a:latin typeface="Times New Roman"/>
                <a:ea typeface="Times New Roman"/>
              </a:rPr>
              <a:t>si la información  sobre los puntos anteriores es suficiente</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jetivos de la presentació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el concepto de “enfoque comparativo” y las razones por las que se utiliza para evaluar la inocuidad de los alimentos GM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el concepto de “equivalencia sustancial” (ES), ejemplos de pruebas que utilizan la ES, cuestiones sobre su aplicación y antecedentes de la adaptación del concepto</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el marco del Codex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xplicar el enfoque gradual y los datos concretos necesario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nfoque comparativo</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Basándose en este </a:t>
            </a:r>
            <a:r>
              <a:rPr b="1" lang="es-ES" sz="2800" spc="-1" strike="noStrike">
                <a:solidFill>
                  <a:srgbClr val="000000"/>
                </a:solidFill>
                <a:latin typeface="Times New Roman"/>
                <a:ea typeface="Times New Roman"/>
              </a:rPr>
              <a:t>principio</a:t>
            </a:r>
            <a:r>
              <a:rPr b="0" lang="es-ES" sz="2800" spc="-1" strike="noStrike">
                <a:solidFill>
                  <a:srgbClr val="000000"/>
                </a:solidFill>
                <a:latin typeface="Times New Roman"/>
                <a:ea typeface="Times New Roman"/>
              </a:rPr>
              <a:t> los productos se pueden comparar con alimentos convencional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objetivo </a:t>
            </a:r>
            <a:r>
              <a:rPr b="0" lang="es-ES" sz="2800" spc="-1" strike="noStrike">
                <a:solidFill>
                  <a:srgbClr val="000000"/>
                </a:solidFill>
                <a:latin typeface="Times New Roman"/>
                <a:ea typeface="Times New Roman"/>
              </a:rPr>
              <a:t>es establecer si el alimento GM presenta algún peligro nuevo o alterado en comparación con su homólogo convencional</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finalidad </a:t>
            </a:r>
            <a:r>
              <a:rPr b="0" lang="es-ES" sz="2800" spc="-1" strike="noStrike">
                <a:solidFill>
                  <a:srgbClr val="000000"/>
                </a:solidFill>
                <a:latin typeface="Times New Roman"/>
                <a:ea typeface="Times New Roman"/>
              </a:rPr>
              <a:t>no es establecer un nivel absoluto de inocuidad, sino la inocuidad relativa de los nuevos productos y que existe una seguridad razonable de que el uso al que está destinado no ocasionará ningún perjuicio</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evaluación de la inocuidad se basa en la comparación de un organismo de ADN recombinante con su homólogo o un organismo de control que tengan una trayectoria de uso inocuo</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comparación se centra en el establecimiento de similitudes y diferencias</a:t>
            </a:r>
            <a:endParaRPr b="0" lang="en-US" sz="28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untos de interé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epto fundamental</a:t>
            </a:r>
            <a:endParaRPr b="0" lang="en-US" sz="3600" spc="-1" strike="noStrike">
              <a:solidFill>
                <a:srgbClr val="ffffff"/>
              </a:solidFill>
              <a:latin typeface="Arial"/>
            </a:endParaRPr>
          </a:p>
        </p:txBody>
      </p:sp>
      <p:sp>
        <p:nvSpPr>
          <p:cNvPr id="99"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400" spc="-1" strike="noStrike">
              <a:solidFill>
                <a:srgbClr val="ffffff"/>
              </a:solidFill>
              <a:latin typeface="Arial"/>
            </a:endParaRPr>
          </a:p>
        </p:txBody>
      </p:sp>
      <p:sp>
        <p:nvSpPr>
          <p:cNvPr id="100" name="Text Box 3"/>
          <p:cNvSpPr/>
          <p:nvPr/>
        </p:nvSpPr>
        <p:spPr>
          <a:xfrm>
            <a:off x="720720" y="1619280"/>
            <a:ext cx="8072280" cy="525780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Si se identifica un peligro nuevo o alterado, o un peligro nutricional u otra preocupación relacionada con la inocuidad (teniendo en cuenta que no todos los peligros son nuevos, ya que muchos están presentes en los alimentos existentes), se debe caracterizar el riesgo atendiendo a su pertinencia para la salud de personas o animale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Familiaridad y determinación</a:t>
            </a:r>
            <a:endParaRPr b="0" lang="en-US" sz="3600" spc="-1" strike="noStrike">
              <a:solidFill>
                <a:srgbClr val="ffffff"/>
              </a:solidFill>
              <a:latin typeface="Arial"/>
            </a:endParaRPr>
          </a:p>
        </p:txBody>
      </p:sp>
      <p:sp>
        <p:nvSpPr>
          <p:cNvPr id="10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familiaridad</a:t>
            </a:r>
            <a:r>
              <a:rPr b="0" lang="es-ES" sz="2800" spc="-1" strike="noStrike">
                <a:solidFill>
                  <a:srgbClr val="000000"/>
                </a:solidFill>
                <a:latin typeface="Times New Roman"/>
                <a:ea typeface="Times New Roman"/>
              </a:rPr>
              <a:t> se define como el conocimiento de las características de una especie y la experiencia en su utilización</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determinación</a:t>
            </a:r>
            <a:r>
              <a:rPr b="0" lang="es-ES" sz="2800" spc="-1" strike="noStrike">
                <a:solidFill>
                  <a:srgbClr val="000000"/>
                </a:solidFill>
                <a:latin typeface="Times New Roman"/>
                <a:ea typeface="Times New Roman"/>
              </a:rPr>
              <a:t> se basa en las publicaciones científicas y la experiencia práctica con el organismo y con variedades o líneas similar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Identificación de los efectos no intencionales</a:t>
            </a:r>
            <a:endParaRPr b="0" lang="en-US" sz="3600" spc="-1" strike="noStrike">
              <a:solidFill>
                <a:srgbClr val="ffffff"/>
              </a:solidFill>
              <a:latin typeface="Arial"/>
            </a:endParaRPr>
          </a:p>
        </p:txBody>
      </p:sp>
      <p:sp>
        <p:nvSpPr>
          <p:cNvPr id="104"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os nuevos productos que tienen perfiles nutricionales deliberadamente alterados desafían la capacidad de evaluar las consecuencias no intencional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jemplos:</a:t>
            </a:r>
            <a:endParaRPr b="0" lang="en-US" sz="2800" spc="-1" strike="noStrike">
              <a:solidFill>
                <a:srgbClr val="ffffff"/>
              </a:solidFill>
              <a:latin typeface="Arial"/>
            </a:endParaRPr>
          </a:p>
          <a:p>
            <a:pPr lvl="1" marL="89856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arroz GM bajo en glutelina (la disminución del nivel de glutelina estuvo asociada con un aumento no intencional del nivel de prolaminas)</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arroz dorado GM (los niveles de betacaroteno se aumentaron deliberadamente, pero se observó de forma imprevista que esta modificación traía consigo niveles más altos de xantofila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quivalencia sustancial</a:t>
            </a:r>
            <a:endParaRPr b="0" lang="en-US" sz="3600" spc="-1" strike="noStrike">
              <a:solidFill>
                <a:srgbClr val="ffffff"/>
              </a:solidFill>
              <a:latin typeface="Arial"/>
            </a:endParaRPr>
          </a:p>
        </p:txBody>
      </p:sp>
      <p:sp>
        <p:nvSpPr>
          <p:cNvPr id="106"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Concepto descrito por primera vez en un documento de la OCDE publicado en 1993</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60 expertos, 19 países, más de 2 años de debates sobre cómo evaluar la inocuidad de los alimentos GM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Una Consulta mixta de expertos FAO/OMS ratificó el concepto de equivalencia sustancial en 1996</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concepto de familiaridad fue el antecedente de la “equivalencia sustancial”, enfoque elaborado en algunos ámbitos jurisdiccionales como parte del proceso de evaluación de riesgo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epto fundamental</a:t>
            </a:r>
            <a:endParaRPr b="0" lang="en-US" sz="3600" spc="-1" strike="noStrike">
              <a:solidFill>
                <a:srgbClr val="ffffff"/>
              </a:solidFill>
              <a:latin typeface="Arial"/>
            </a:endParaRPr>
          </a:p>
        </p:txBody>
      </p:sp>
      <p:sp>
        <p:nvSpPr>
          <p:cNvPr id="10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equivalencia sustancial es uno de los muchos instrumentos del proceso de reglamentación para la toma de decisiones sobre determinadas características de un organismo de ADN recombinante comparadas con las de su homólogo sin modificar (p. ej. un pariente, hospedador o donante)</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e debería utilizar el concepto como punto de partida para establecer la inocuidad de las diferencias encontradas en el análisis exhaustivo de un organismo de ADN recombinante, y no como fase final de decisión</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3:22:35Z</dcterms:created>
  <dc:creator>Takeuchi, Masami (AGNS)</dc:creator>
  <dc:description/>
  <dc:language>en-US</dc:language>
  <cp:lastModifiedBy>Claudio</cp:lastModifiedBy>
  <dcterms:modified xsi:type="dcterms:W3CDTF">2009-10-03T08:52:28Z</dcterms:modified>
  <cp:revision>194</cp:revision>
  <dc:subject/>
  <dc:title>Concepts and Principles of GM Food Safety Assessment</dc:title>
</cp:coreProperties>
</file>