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2351E-D92E-4C72-A5A5-6084C4C05B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4F9D95-354D-4ABD-89D9-4DFF0EFA0B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90298-2E08-4FD8-8B35-D6CFD78176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69322-81B0-43E5-9711-B426725B1E3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9ABF5-F166-4278-8228-E20ACAE0CA8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BE6D4-56CC-4D4E-BC4C-E71B70B515C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2A214-5A70-4286-9EC0-45F493F6FB5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1FAD9-345C-40B8-AB58-E30E151CD5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1CB75-5326-4C09-94DA-DA0553A05EA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E028E-51BF-48B4-A799-20EB8D5B9F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8B05F-AD1A-458A-8CA6-D97A62360E7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C5D07-8E4D-4B57-9FE4-C146FAB910B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B5B81-87CC-4CA4-95F8-8085AB1486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24FE4-CD66-4AE1-ABFC-8B8E9F5BA76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39F2E-A495-465E-99A4-B53655FA03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FF067-E0E2-4041-91DD-45519073A62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18CCC-9078-4024-8CB2-806BBDD42C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03CAD-D947-49B3-A0A6-AF74078E6DA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40E01-4F81-4ED8-A7FE-526F20CDEA6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ADEE2-8D38-4149-843E-D03B227499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037BD-ED2B-4BDE-90D5-33B30318A7B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3D2A5-267F-4975-A53E-20AF66A1D80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AB83D-5119-4D41-B405-3099E3448EE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4EAEC-A672-4922-918D-91C5AA4AF5C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79BAA-A547-45E1-8095-1095A410B94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9D592-FB2C-410E-BEA0-809182189F3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2B39EF-35E8-4065-B550-FE787E7DA4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077E5A-FBEE-476C-97C7-F9D0C685CAB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Conceptos y principios para la evaluación de la inocuidad de los alimentos GM</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arco del análisis de riesgos</a:t>
            </a:r>
            <a:endParaRPr b="0" lang="en-US" sz="3600" spc="-1" strike="noStrike">
              <a:solidFill>
                <a:srgbClr val="ffffff"/>
              </a:solidFill>
              <a:latin typeface="Arial"/>
            </a:endParaRPr>
          </a:p>
        </p:txBody>
      </p:sp>
      <p:grpSp>
        <p:nvGrpSpPr>
          <p:cNvPr id="110" name="Group 2"/>
          <p:cNvGrpSpPr/>
          <p:nvPr/>
        </p:nvGrpSpPr>
        <p:grpSpPr>
          <a:xfrm>
            <a:off x="1143000" y="1569960"/>
            <a:ext cx="6707160" cy="4524480"/>
            <a:chOff x="1143000" y="1569960"/>
            <a:chExt cx="6707160" cy="4524480"/>
          </a:xfrm>
        </p:grpSpPr>
        <p:grpSp>
          <p:nvGrpSpPr>
            <p:cNvPr id="111" name="Group 3"/>
            <p:cNvGrpSpPr/>
            <p:nvPr/>
          </p:nvGrpSpPr>
          <p:grpSpPr>
            <a:xfrm>
              <a:off x="1143000" y="1569960"/>
              <a:ext cx="6707160" cy="4524480"/>
              <a:chOff x="1143000" y="1569960"/>
              <a:chExt cx="6707160" cy="4524480"/>
            </a:xfrm>
          </p:grpSpPr>
          <p:pic>
            <p:nvPicPr>
              <p:cNvPr id="112" name="Picture 4" descr=""/>
              <p:cNvPicPr/>
              <p:nvPr/>
            </p:nvPicPr>
            <p:blipFill>
              <a:blip r:embed="rId1"/>
              <a:stretch/>
            </p:blipFill>
            <p:spPr>
              <a:xfrm>
                <a:off x="1143000" y="1569960"/>
                <a:ext cx="6707160" cy="4524480"/>
              </a:xfrm>
              <a:prstGeom prst="rect">
                <a:avLst/>
              </a:prstGeom>
              <a:ln w="0">
                <a:noFill/>
              </a:ln>
            </p:spPr>
          </p:pic>
          <p:sp>
            <p:nvSpPr>
              <p:cNvPr id="113" name="Text Box 5"/>
              <p:cNvSpPr/>
              <p:nvPr/>
            </p:nvSpPr>
            <p:spPr>
              <a:xfrm>
                <a:off x="1143000" y="1569960"/>
                <a:ext cx="6707160" cy="452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grpSp>
          <p:nvGrpSpPr>
            <p:cNvPr id="114" name="Group 6"/>
            <p:cNvGrpSpPr/>
            <p:nvPr/>
          </p:nvGrpSpPr>
          <p:grpSpPr>
            <a:xfrm>
              <a:off x="2363400" y="1814040"/>
              <a:ext cx="4776840" cy="4074840"/>
              <a:chOff x="2363400" y="1814040"/>
              <a:chExt cx="4776840" cy="4074840"/>
            </a:xfrm>
          </p:grpSpPr>
          <p:sp>
            <p:nvSpPr>
              <p:cNvPr id="115" name="Freeform 7"/>
              <p:cNvSpPr/>
              <p:nvPr/>
            </p:nvSpPr>
            <p:spPr>
              <a:xfrm>
                <a:off x="3009240" y="2448720"/>
                <a:ext cx="1185480" cy="4410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6" name="Freeform 8"/>
              <p:cNvSpPr/>
              <p:nvPr/>
            </p:nvSpPr>
            <p:spPr>
              <a:xfrm>
                <a:off x="2444040" y="3115080"/>
                <a:ext cx="739440" cy="59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7" name="Freeform 9"/>
              <p:cNvSpPr/>
              <p:nvPr/>
            </p:nvSpPr>
            <p:spPr>
              <a:xfrm>
                <a:off x="3385440" y="3204000"/>
                <a:ext cx="877680" cy="4680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8" name="Freeform 10"/>
              <p:cNvSpPr/>
              <p:nvPr/>
            </p:nvSpPr>
            <p:spPr>
              <a:xfrm>
                <a:off x="4455000" y="2469600"/>
                <a:ext cx="740880" cy="3996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9" name="Freeform 11"/>
              <p:cNvSpPr/>
              <p:nvPr/>
            </p:nvSpPr>
            <p:spPr>
              <a:xfrm>
                <a:off x="5501160" y="2931120"/>
                <a:ext cx="817200" cy="385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0" name="Freeform 12"/>
              <p:cNvSpPr/>
              <p:nvPr/>
            </p:nvSpPr>
            <p:spPr>
              <a:xfrm>
                <a:off x="6140520" y="3524760"/>
                <a:ext cx="999720" cy="4093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1" name="Freeform 13"/>
              <p:cNvSpPr/>
              <p:nvPr/>
            </p:nvSpPr>
            <p:spPr>
              <a:xfrm>
                <a:off x="5686560" y="4280040"/>
                <a:ext cx="1028520" cy="3567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2" name="Freeform 14"/>
              <p:cNvSpPr/>
              <p:nvPr/>
            </p:nvSpPr>
            <p:spPr>
              <a:xfrm>
                <a:off x="3718800" y="4470480"/>
                <a:ext cx="1380600" cy="214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3" name="Freeform 15"/>
              <p:cNvSpPr/>
              <p:nvPr/>
            </p:nvSpPr>
            <p:spPr>
              <a:xfrm>
                <a:off x="3423600" y="5197320"/>
                <a:ext cx="2267640" cy="6915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4" name="Freeform 16"/>
              <p:cNvSpPr/>
              <p:nvPr/>
            </p:nvSpPr>
            <p:spPr>
              <a:xfrm>
                <a:off x="4725000" y="3375360"/>
                <a:ext cx="1326600" cy="5839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5" name="Freeform 17"/>
              <p:cNvSpPr/>
              <p:nvPr/>
            </p:nvSpPr>
            <p:spPr>
              <a:xfrm>
                <a:off x="2363400" y="3883320"/>
                <a:ext cx="1804320" cy="3009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Rectangle 18"/>
              <p:cNvSpPr/>
              <p:nvPr/>
            </p:nvSpPr>
            <p:spPr>
              <a:xfrm>
                <a:off x="3567960" y="1814040"/>
                <a:ext cx="2086920" cy="288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sp>
          <p:nvSpPr>
            <p:cNvPr id="127" name="Text Box 19"/>
            <p:cNvSpPr/>
            <p:nvPr/>
          </p:nvSpPr>
          <p:spPr>
            <a:xfrm>
              <a:off x="3354840" y="181404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Comunicación de riesgos</a:t>
              </a:r>
              <a:endParaRPr b="0" lang="en-US" sz="1600" spc="-1" strike="noStrike">
                <a:solidFill>
                  <a:srgbClr val="ffffff"/>
                </a:solidFill>
                <a:latin typeface="Arial"/>
              </a:endParaRPr>
            </a:p>
          </p:txBody>
        </p:sp>
        <p:sp>
          <p:nvSpPr>
            <p:cNvPr id="128" name="Text Box 20"/>
            <p:cNvSpPr/>
            <p:nvPr/>
          </p:nvSpPr>
          <p:spPr>
            <a:xfrm>
              <a:off x="2229480" y="385344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Evaluación de riesgos</a:t>
              </a:r>
              <a:endParaRPr b="0" lang="en-US" sz="1600" spc="-1" strike="noStrike">
                <a:solidFill>
                  <a:srgbClr val="ffffff"/>
                </a:solidFill>
                <a:latin typeface="Arial"/>
              </a:endParaRPr>
            </a:p>
          </p:txBody>
        </p:sp>
        <p:sp>
          <p:nvSpPr>
            <p:cNvPr id="129" name="Text Box 21"/>
            <p:cNvSpPr/>
            <p:nvPr/>
          </p:nvSpPr>
          <p:spPr>
            <a:xfrm>
              <a:off x="4647240" y="3326760"/>
              <a:ext cx="107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Gestión de riesgos</a:t>
              </a:r>
              <a:endParaRPr b="0" lang="en-US" sz="1600" spc="-1" strike="noStrike">
                <a:solidFill>
                  <a:srgbClr val="ffffff"/>
                </a:solidFill>
                <a:latin typeface="Arial"/>
              </a:endParaRPr>
            </a:p>
          </p:txBody>
        </p:sp>
        <p:sp>
          <p:nvSpPr>
            <p:cNvPr id="130" name="Text Box 22"/>
            <p:cNvSpPr/>
            <p:nvPr/>
          </p:nvSpPr>
          <p:spPr>
            <a:xfrm>
              <a:off x="3063240" y="2461680"/>
              <a:ext cx="1223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Caracterización del riesgo</a:t>
              </a:r>
              <a:endParaRPr b="0" lang="en-US" sz="1200" spc="-1" strike="noStrike">
                <a:solidFill>
                  <a:srgbClr val="ffffff"/>
                </a:solidFill>
                <a:latin typeface="Arial"/>
              </a:endParaRPr>
            </a:p>
          </p:txBody>
        </p:sp>
        <p:sp>
          <p:nvSpPr>
            <p:cNvPr id="131" name="Text Box 23"/>
            <p:cNvSpPr/>
            <p:nvPr/>
          </p:nvSpPr>
          <p:spPr>
            <a:xfrm>
              <a:off x="2415960" y="3110760"/>
              <a:ext cx="122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Caracteri-</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zación del peligro</a:t>
              </a:r>
              <a:endParaRPr b="0" lang="en-US" sz="1200" spc="-1" strike="noStrike">
                <a:solidFill>
                  <a:srgbClr val="ffffff"/>
                </a:solidFill>
                <a:latin typeface="Arial"/>
              </a:endParaRPr>
            </a:p>
          </p:txBody>
        </p:sp>
        <p:sp>
          <p:nvSpPr>
            <p:cNvPr id="132" name="Text Box 24"/>
            <p:cNvSpPr/>
            <p:nvPr/>
          </p:nvSpPr>
          <p:spPr>
            <a:xfrm>
              <a:off x="3280680" y="3110760"/>
              <a:ext cx="934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 la exposición</a:t>
              </a:r>
              <a:endParaRPr b="0" lang="en-US" sz="1200" spc="-1" strike="noStrike">
                <a:solidFill>
                  <a:srgbClr val="ffffff"/>
                </a:solidFill>
                <a:latin typeface="Arial"/>
              </a:endParaRPr>
            </a:p>
          </p:txBody>
        </p:sp>
        <p:sp>
          <p:nvSpPr>
            <p:cNvPr id="133" name="Text Box 25"/>
            <p:cNvSpPr/>
            <p:nvPr/>
          </p:nvSpPr>
          <p:spPr>
            <a:xfrm>
              <a:off x="4431600" y="2461680"/>
              <a:ext cx="93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l riesgo</a:t>
              </a:r>
              <a:endParaRPr b="0" lang="en-US" sz="1200" spc="-1" strike="noStrike">
                <a:solidFill>
                  <a:srgbClr val="ffffff"/>
                </a:solidFill>
                <a:latin typeface="Arial"/>
              </a:endParaRPr>
            </a:p>
          </p:txBody>
        </p:sp>
        <p:sp>
          <p:nvSpPr>
            <p:cNvPr id="134" name="Text Box 26"/>
            <p:cNvSpPr/>
            <p:nvPr/>
          </p:nvSpPr>
          <p:spPr>
            <a:xfrm>
              <a:off x="5367960" y="286956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 las opciones</a:t>
              </a:r>
              <a:endParaRPr b="0" lang="en-US" sz="1200" spc="-1" strike="noStrike">
                <a:solidFill>
                  <a:srgbClr val="ffffff"/>
                </a:solidFill>
                <a:latin typeface="Arial"/>
              </a:endParaRPr>
            </a:p>
          </p:txBody>
        </p:sp>
        <p:sp>
          <p:nvSpPr>
            <p:cNvPr id="135" name="Text Box 27"/>
            <p:cNvSpPr/>
            <p:nvPr/>
          </p:nvSpPr>
          <p:spPr>
            <a:xfrm>
              <a:off x="6086880" y="346968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Aplicación de las opciones</a:t>
              </a:r>
              <a:endParaRPr b="0" lang="en-US" sz="1200" spc="-1" strike="noStrike">
                <a:solidFill>
                  <a:srgbClr val="ffffff"/>
                </a:solidFill>
                <a:latin typeface="Arial"/>
              </a:endParaRPr>
            </a:p>
          </p:txBody>
        </p:sp>
        <p:sp>
          <p:nvSpPr>
            <p:cNvPr id="136" name="Text Box 28"/>
            <p:cNvSpPr/>
            <p:nvPr/>
          </p:nvSpPr>
          <p:spPr>
            <a:xfrm>
              <a:off x="5726520" y="4164480"/>
              <a:ext cx="93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Vigilancia y examen</a:t>
              </a:r>
              <a:endParaRPr b="0" lang="en-US" sz="1200" spc="-1" strike="noStrike">
                <a:solidFill>
                  <a:srgbClr val="ffffff"/>
                </a:solidFill>
                <a:latin typeface="Arial"/>
              </a:endParaRPr>
            </a:p>
          </p:txBody>
        </p:sp>
        <p:sp>
          <p:nvSpPr>
            <p:cNvPr id="137" name="Text Box 29"/>
            <p:cNvSpPr/>
            <p:nvPr/>
          </p:nvSpPr>
          <p:spPr>
            <a:xfrm>
              <a:off x="3928320" y="438048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Identificación del peligro</a:t>
              </a:r>
              <a:endParaRPr b="0" lang="en-US" sz="1200" spc="-1" strike="noStrike">
                <a:solidFill>
                  <a:srgbClr val="ffffff"/>
                </a:solidFill>
                <a:latin typeface="Arial"/>
              </a:endParaRPr>
            </a:p>
          </p:txBody>
        </p:sp>
        <p:sp>
          <p:nvSpPr>
            <p:cNvPr id="138" name="Text Box 30"/>
            <p:cNvSpPr/>
            <p:nvPr/>
          </p:nvSpPr>
          <p:spPr>
            <a:xfrm>
              <a:off x="3423600" y="5245200"/>
              <a:ext cx="2374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imes New Roman"/>
                </a:rPr>
                <a:t>Consumidores, industria y otras partes interesadas</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valuación de riesgos</a:t>
            </a:r>
            <a:endParaRPr b="0" lang="en-US" sz="3600" spc="-1" strike="noStrike">
              <a:solidFill>
                <a:srgbClr val="ffffff"/>
              </a:solidFill>
              <a:latin typeface="Arial"/>
            </a:endParaRPr>
          </a:p>
        </p:txBody>
      </p:sp>
      <p:sp>
        <p:nvSpPr>
          <p:cNvPr id="140"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1. Identificación de peligros</a:t>
            </a:r>
            <a:endParaRPr b="0" lang="en-US" sz="2800" spc="-1" strike="noStrike">
              <a:solidFill>
                <a:srgbClr val="ffffff"/>
              </a:solidFill>
              <a:latin typeface="Arial"/>
            </a:endParaRPr>
          </a:p>
        </p:txBody>
      </p:sp>
      <p:sp>
        <p:nvSpPr>
          <p:cNvPr id="141" name="Text Box 3"/>
          <p:cNvSpPr/>
          <p:nvPr/>
        </p:nvSpPr>
        <p:spPr>
          <a:xfrm>
            <a:off x="838080" y="4038480"/>
            <a:ext cx="4542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2. Caracterización de peligros</a:t>
            </a:r>
            <a:endParaRPr b="0" lang="en-US" sz="2800" spc="-1" strike="noStrike">
              <a:solidFill>
                <a:srgbClr val="ffffff"/>
              </a:solidFill>
              <a:latin typeface="Arial"/>
            </a:endParaRPr>
          </a:p>
        </p:txBody>
      </p:sp>
      <p:sp>
        <p:nvSpPr>
          <p:cNvPr id="142" name="Text Box 4"/>
          <p:cNvSpPr/>
          <p:nvPr/>
        </p:nvSpPr>
        <p:spPr>
          <a:xfrm>
            <a:off x="4038480" y="2819520"/>
            <a:ext cx="46818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Evaluación de la exposición</a:t>
            </a:r>
            <a:endParaRPr b="0" lang="en-US" sz="2800" spc="-1" strike="noStrike">
              <a:solidFill>
                <a:srgbClr val="ffffff"/>
              </a:solidFill>
              <a:latin typeface="Arial"/>
            </a:endParaRPr>
          </a:p>
        </p:txBody>
      </p:sp>
      <p:sp>
        <p:nvSpPr>
          <p:cNvPr id="143" name="Text Box 5"/>
          <p:cNvSpPr/>
          <p:nvPr/>
        </p:nvSpPr>
        <p:spPr>
          <a:xfrm>
            <a:off x="2590920" y="5943600"/>
            <a:ext cx="4319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4. Caracterización de riesgos</a:t>
            </a:r>
            <a:endParaRPr b="0" lang="en-US" sz="2800" spc="-1" strike="noStrike">
              <a:solidFill>
                <a:srgbClr val="ffffff"/>
              </a:solidFill>
              <a:latin typeface="Arial"/>
            </a:endParaRPr>
          </a:p>
        </p:txBody>
      </p:sp>
      <p:sp>
        <p:nvSpPr>
          <p:cNvPr id="144"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45"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46"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1. La evaluación de la inocuidad utiliza métodos científicos basados en los riesgos</a:t>
            </a:r>
            <a:endParaRPr b="0" lang="en-US" sz="2800" spc="-1" strike="noStrike">
              <a:solidFill>
                <a:srgbClr val="ffffff"/>
              </a:solidFill>
              <a:latin typeface="Arial"/>
            </a:endParaRPr>
          </a:p>
        </p:txBody>
      </p:sp>
      <p:sp>
        <p:nvSpPr>
          <p:cNvPr id="14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a:t>
            </a:r>
            <a:r>
              <a:rPr b="1" lang="es-ES" sz="2400" spc="-1" strike="noStrike">
                <a:solidFill>
                  <a:srgbClr val="000000"/>
                </a:solidFill>
                <a:latin typeface="Times New Roman"/>
                <a:ea typeface="Times New Roman"/>
              </a:rPr>
              <a:t> evaluación de riesgos</a:t>
            </a:r>
            <a:r>
              <a:rPr b="0" lang="es-ES" sz="2400" spc="-1" strike="noStrike">
                <a:solidFill>
                  <a:srgbClr val="000000"/>
                </a:solidFill>
                <a:latin typeface="Times New Roman"/>
                <a:ea typeface="Times New Roman"/>
              </a:rPr>
              <a:t> es el proceso que  determina, con la mayor exactitud posible, la probabilidad y las consecuencias efectivas de los riesgos que presenta la exposición a los peligros identificados</a:t>
            </a:r>
            <a:endParaRPr b="0" lang="en-US" sz="2400" spc="-1" strike="noStrike">
              <a:solidFill>
                <a:srgbClr val="ffffff"/>
              </a:solidFill>
              <a:latin typeface="Arial"/>
            </a:endParaRPr>
          </a:p>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El objetivo es </a:t>
            </a:r>
            <a:r>
              <a:rPr b="1" lang="es-ES" sz="2400" spc="-1" strike="noStrike">
                <a:solidFill>
                  <a:srgbClr val="000000"/>
                </a:solidFill>
                <a:latin typeface="Times New Roman"/>
                <a:ea typeface="Times New Roman"/>
              </a:rPr>
              <a:t>identificar los posibles efectos nocivos</a:t>
            </a:r>
            <a:r>
              <a:rPr b="0" lang="es-ES" sz="2400" spc="-1" strike="noStrike">
                <a:solidFill>
                  <a:srgbClr val="000000"/>
                </a:solidFill>
                <a:latin typeface="Times New Roman"/>
                <a:ea typeface="Times New Roman"/>
              </a:rPr>
              <a:t> sobre la salud humana que pueden ocasionar los alimentos obtenidos de organismos de ADN recombinante</a:t>
            </a:r>
            <a:endParaRPr b="0" lang="en-US" sz="2400" spc="-1" strike="noStrike">
              <a:solidFill>
                <a:srgbClr val="ffffff"/>
              </a:solidFill>
              <a:latin typeface="Arial"/>
            </a:endParaRPr>
          </a:p>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utiliza un </a:t>
            </a:r>
            <a:r>
              <a:rPr b="1" lang="es-ES" sz="2400" spc="-1" strike="noStrike">
                <a:solidFill>
                  <a:srgbClr val="000000"/>
                </a:solidFill>
                <a:latin typeface="Times New Roman"/>
                <a:ea typeface="Times New Roman"/>
              </a:rPr>
              <a:t>sistema modificado de identificación de peligros</a:t>
            </a:r>
            <a:r>
              <a:rPr b="0" lang="es-ES" sz="2400" spc="-1" strike="noStrike">
                <a:solidFill>
                  <a:srgbClr val="000000"/>
                </a:solidFill>
                <a:latin typeface="Times New Roman"/>
                <a:ea typeface="Times New Roman"/>
              </a:rPr>
              <a:t> denominado evaluación de la inocuidad para identificar si un peligro está presente en el alimento entero.</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2. La evaluación de la inocuidad se realiza caso por caso</a:t>
            </a:r>
            <a:endParaRPr b="0" lang="en-US" sz="3600" spc="-1" strike="noStrike">
              <a:solidFill>
                <a:srgbClr val="ffffff"/>
              </a:solidFill>
              <a:latin typeface="Arial"/>
            </a:endParaRPr>
          </a:p>
        </p:txBody>
      </p:sp>
      <p:sp>
        <p:nvSpPr>
          <p:cNvPr id="15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Aplicada a un producto alimenticio básico, se realiza para el alimento y  los productos alimenticios derivados de ese producto básico modificado, p. ej. maíz (granos, harina de maíz, jarabe de maíz, aceite); canola (aceite); algodón (aceite y borra)</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alimentos obtenidos de un producto básico (p. ej. la soja) que se han modificado con caracteres diferentes se evalúan por separad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Cualquier utilización posterior de biotecnología moderna requiere una evaluación de la inocuidad por separado</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3. Se tienen en cuenta los efectos, intencionales o no, de la modificación genética</a:t>
            </a:r>
            <a:endParaRPr b="0" lang="en-US" sz="2800" spc="-1" strike="noStrike">
              <a:solidFill>
                <a:srgbClr val="ffffff"/>
              </a:solidFill>
              <a:latin typeface="Arial"/>
            </a:endParaRPr>
          </a:p>
        </p:txBody>
      </p:sp>
      <p:sp>
        <p:nvSpPr>
          <p:cNvPr id="152"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Times New Roman"/>
                <a:ea typeface="Times New Roman"/>
              </a:rPr>
              <a:t>Las consideraciones sobre la inocuidad se aplican a todos los aspectos del alimento obtenido de organismos de ADN recombinante. Se realiza en dos fases:</a:t>
            </a:r>
            <a:endParaRPr b="0" lang="en-US" sz="2800" spc="-1" strike="noStrike">
              <a:solidFill>
                <a:srgbClr val="ffffff"/>
              </a:solidFill>
              <a:latin typeface="Arial"/>
            </a:endParaRPr>
          </a:p>
          <a:p>
            <a:pPr>
              <a:lnSpc>
                <a:spcPct val="100000"/>
              </a:lnSpc>
              <a:spcBef>
                <a:spcPts val="601"/>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Times New Roman"/>
              </a:rPr>
              <a:t>Identificación de similitudes y  diferencias</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fuentes convencionales frente a fuentes nuevas de ADN o genes</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caracterización molecular: nuevos genes, proteínas, estabilidad genética</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análisis de la composición</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3. Se tienen en cuenta los efectos, intencionales o no, de la modificación genética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54"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startAt="2"/>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Times New Roman"/>
              </a:rPr>
              <a:t>Las diferencias identificadas se analizan con mayor rigor</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toxicidad/alergenicidad de cualquier nueva proteína</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inocuidad de cualquier gen transferido de resistencia a los antibióticos</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consecuencias en materia de nutrición e inocuidad y perfil de cualquier cambio de la composició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4. Se llevan a cabo comparaciones con alimentos obtenidos de forma convencional</a:t>
            </a:r>
            <a:endParaRPr b="0" lang="en-US" sz="2800" spc="-1" strike="noStrike">
              <a:solidFill>
                <a:srgbClr val="ffffff"/>
              </a:solidFill>
              <a:latin typeface="Arial"/>
            </a:endParaRPr>
          </a:p>
        </p:txBody>
      </p:sp>
      <p:sp>
        <p:nvSpPr>
          <p:cNvPr id="15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compara la variedad del alimento obtenido de organismos de ADN recombinante con su homólogo convencional con una trayectoria de uso inocu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 comparación se utiliza para identificar las diferencias en los niveles de alérgenos, toxinas, nutrientes y antinutrientes naturales, o la capacidad de fomentar el crecimiento normal o el bienestar</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s diferencias significativas (entre los alimentos de ADN recombinante y los convencionales) se evalúan para identificar la importancia biológica y los posibles efecto nocivos para la salud</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a:t>
            </a:r>
            <a:endParaRPr b="0" lang="en-US" sz="3600" spc="-1" strike="noStrike">
              <a:solidFill>
                <a:srgbClr val="ffffff"/>
              </a:solidFill>
              <a:latin typeface="Arial"/>
            </a:endParaRPr>
          </a:p>
        </p:txBody>
      </p:sp>
      <p:sp>
        <p:nvSpPr>
          <p:cNvPr id="15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Descripción del organismo hospedador que ha sido modificado, que incluya información sobre la composición de nutrientes, sobre antinutrientes, sustancias tóxicas y potencial alérgeno conocidos y sobre cualquier cambio significativo en ellos que la elaboración normal del alimento pudiera ocasionar.</a:t>
            </a:r>
            <a:endParaRPr b="0" lang="en-US" sz="24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Descripción del organismo donante, que incluya toda toxicidad y alergenicidad asociada que se conozca y el gen o los genes introducid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Caracterización molecular de la modificación genética, que incluya una descripción del proceso de modificación y de la estabilidad del carácter introducido</a:t>
            </a:r>
            <a:r>
              <a:rPr b="0" lang="es-ES" sz="1800" spc="-1" strike="noStrike">
                <a:solidFill>
                  <a:srgbClr val="000000"/>
                </a:solidFill>
                <a:latin typeface="Times New Roman"/>
                <a:ea typeface="Times New Roman"/>
              </a:rPr>
              <a:t>.</a:t>
            </a:r>
            <a:endParaRPr b="0" lang="en-US" sz="18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6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Identificación de los productos génicos, incluida la descripción de las características del gen insertado.</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Evaluación de la inocuidad de las nuevas sustancias que se prevé estén presentes en el alimento, incluida una evaluación de cualquier toxina producida directamente por la modificación.</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Evaluación de la posible alergenicidad del nuevo alimen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8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62"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800" spc="-1" strike="noStrike">
                <a:solidFill>
                  <a:srgbClr val="000000"/>
                </a:solidFill>
                <a:latin typeface="Times New Roman"/>
                <a:ea typeface="Times New Roman"/>
              </a:rPr>
              <a:t>7.</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valuación de los efectos no intencionales en la composición del alimento, que incluya:</a:t>
            </a:r>
            <a:endParaRPr b="0" lang="en-US" sz="28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evaluación de los cambios en la concentración de nutrientes o sustancias tóxicas naturales</a:t>
            </a:r>
            <a:endParaRPr b="0" lang="en-US" sz="24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Identificación de compuestos de antinutrientes significativamente alterados que estén presentes en los nuevos alimentos</a:t>
            </a:r>
            <a:endParaRPr b="0" lang="en-US" sz="24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Evaluación de la inocuidad de los compuestos cuya concentración esté significativamente alterada</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sentar las definiciones, conceptos y principios que se aplican actualmente en la evaluación de la inocuidad de los alimentos GM</a:t>
            </a:r>
            <a:endParaRPr b="0" lang="en-US" sz="2800" spc="-1" strike="noStrike">
              <a:solidFill>
                <a:srgbClr val="ffffff"/>
              </a:solidFill>
              <a:latin typeface="Arial"/>
            </a:endParaRPr>
          </a:p>
          <a:p>
            <a:pPr marL="449280" indent="-44928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sentar textos, directrices y recomendaciones acordados internacionalmente, necesarios para el procedimiento de evaluación de la inocuidad</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64"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s-ES" sz="2800" spc="-1" strike="noStrike">
                <a:solidFill>
                  <a:srgbClr val="000000"/>
                </a:solidFill>
                <a:latin typeface="Times New Roman"/>
                <a:ea typeface="Times New Roman"/>
              </a:rPr>
              <a:t>Grupo de acción de la OCDE para la inocuidad de los alimentos y piensos nuevos</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documentos de consenso que ofrecen orientación sobre los parámetros fundamentales (p. ej., los nutrientes esenciales) de la inocuidad y la nutrición para cada cultivo alimentario</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documentos sobre los productos que ya han sido aprobados y los productos básicos que podrían aprobarse próximamente</a:t>
            </a:r>
            <a:endParaRPr b="0" lang="en-US" sz="2400" spc="-1" strike="noStrike">
              <a:solidFill>
                <a:srgbClr val="ffffff"/>
              </a:solidFill>
              <a:latin typeface="Arial"/>
            </a:endParaRPr>
          </a:p>
          <a:p>
            <a:pPr lvl="1" marL="455760" indent="-4557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u="sng">
                <a:solidFill>
                  <a:srgbClr val="333399"/>
                </a:solidFill>
                <a:uFillTx/>
                <a:latin typeface="Times New Roman"/>
                <a:ea typeface="Times New Roman"/>
              </a:rPr>
              <a:t>http://www.oecd.org/document/63/0,2340,en_2649_34391_1905919_1_1_1_1,00.html</a:t>
            </a:r>
            <a:r>
              <a:rPr b="0" lang="es-ES" sz="2400" spc="-1" strike="noStrike">
                <a:solidFill>
                  <a:srgbClr val="333399"/>
                </a:solidFill>
                <a:latin typeface="Times New Roman"/>
                <a:ea typeface="Times New Roman"/>
              </a:rPr>
              <a:t> </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66"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ＭＳ Ｐゴシック"/>
              </a:rPr>
              <a:t>Grupo de acción intergubernamental especial sobre alimentos obtenidos por medios biotecnológicos</a:t>
            </a:r>
            <a:r>
              <a:rPr b="0" lang="es-ES" sz="2800" spc="-1" strike="noStrike">
                <a:solidFill>
                  <a:srgbClr val="000000"/>
                </a:solidFill>
                <a:latin typeface="Times New Roman"/>
                <a:ea typeface="ＭＳ Ｐゴシック"/>
              </a:rPr>
              <a:t> </a:t>
            </a:r>
            <a:r>
              <a:rPr b="1" lang="es-ES" sz="2800" spc="-1" strike="noStrike">
                <a:solidFill>
                  <a:srgbClr val="000000"/>
                </a:solidFill>
                <a:latin typeface="Times New Roman"/>
                <a:ea typeface="ＭＳ Ｐゴシック"/>
              </a:rPr>
              <a:t>del </a:t>
            </a:r>
            <a:r>
              <a:rPr b="1" lang="es-ES" sz="2800" spc="-1" strike="noStrike">
                <a:solidFill>
                  <a:srgbClr val="000000"/>
                </a:solidFill>
                <a:latin typeface="Times New Roman"/>
                <a:ea typeface="Times New Roman"/>
              </a:rPr>
              <a:t>Codex</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principios generales para el análisis de riesgos de alimentos obtenidos de plantas de ADN recombinante</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directrices para la realización de la evaluación de la inocuidad de alimentos obtenidos de plantas y microorganismos de ADN recombinante</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y más...</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http://www.fao.org/ag/agn/agns/biotechnology_codex_es.asp</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irectrices del Codex</a:t>
            </a:r>
            <a:endParaRPr b="0" lang="en-US" sz="3600" spc="-1" strike="noStrike">
              <a:solidFill>
                <a:srgbClr val="ffffff"/>
              </a:solidFill>
              <a:latin typeface="Arial"/>
            </a:endParaRPr>
          </a:p>
        </p:txBody>
      </p:sp>
      <p:sp>
        <p:nvSpPr>
          <p:cNvPr id="168"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1" lang="es-ES" sz="2400" spc="-1" strike="noStrike">
                <a:solidFill>
                  <a:srgbClr val="000000"/>
                </a:solidFill>
                <a:latin typeface="Times New Roman"/>
                <a:ea typeface="Times New Roman"/>
              </a:rPr>
              <a:t>Directrices del Codex sobre alimentos obtenidos de plantas de ADN recombinant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400" spc="-1" strike="noStrike">
                <a:solidFill>
                  <a:srgbClr val="000000"/>
                </a:solidFill>
                <a:latin typeface="Times New Roman"/>
                <a:ea typeface="Times New Roman"/>
              </a:rPr>
              <a:t>Para evaluar la inocuidad de un alimento obtenido de una planta de ADN recombinante se aplica un procedimiento por etapas que examina los factores pertinentes, a saber:</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planta de ADN recombina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planta hospedadora y de su utilización como alimento</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l organismo u organismos donant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modificación o modificaciones genética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caracterización de la modificación o modificaciones genéticas</a:t>
            </a:r>
            <a:endParaRPr b="0" lang="en-US" sz="2000" spc="-1" strike="noStrike">
              <a:solidFill>
                <a:srgbClr val="ffffff"/>
              </a:solidFill>
              <a:latin typeface="Arial"/>
            </a:endParaRPr>
          </a:p>
          <a:p>
            <a:pPr lvl="1" marL="898560" indent="-457200" algn="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endParaRPr b="0" lang="en-US" sz="2000" spc="-1" strike="noStrike">
              <a:solidFill>
                <a:srgbClr val="ffffff"/>
              </a:solidFill>
              <a:latin typeface="Arial"/>
            </a:endParaRPr>
          </a:p>
          <a:p>
            <a:pPr lvl="1" marL="898560" indent="-457200" algn="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Evaluación de la inocuidad</a:t>
            </a:r>
            <a:endParaRPr b="0" lang="en-US" sz="24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ustancias expresadas (sustancias distintas de ácidos nucleicos): evaluación de la posible toxicidad y alergenicidad (de las proteína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análisis de los componentes esenciale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evaluación de los metabolito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elaboración del alimento</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modificación nutricional </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otras consideraciones (p. ej., genes marcadores)</a:t>
            </a:r>
            <a:endParaRPr b="0" lang="en-US" sz="2000" spc="-1" strike="noStrike">
              <a:solidFill>
                <a:srgbClr val="ffffff"/>
              </a:solidFill>
              <a:latin typeface="Arial"/>
            </a:endParaRPr>
          </a:p>
        </p:txBody>
      </p:sp>
      <p:sp>
        <p:nvSpPr>
          <p:cNvPr id="170"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irectrices del Codex </a:t>
            </a:r>
            <a:r>
              <a:rPr b="0" i="1" lang="es-ES" sz="2800" spc="-1" strike="noStrike">
                <a:solidFill>
                  <a:srgbClr val="000000"/>
                </a:solidFill>
                <a:latin typeface="Arial"/>
              </a:rPr>
              <a:t>(con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7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s-ES" sz="2800" spc="-1" strike="noStrike">
                <a:solidFill>
                  <a:srgbClr val="000000"/>
                </a:solidFill>
                <a:latin typeface="Times New Roman"/>
                <a:ea typeface="Times New Roman"/>
              </a:rPr>
              <a:t>Consultas de expertos FAO/OMS </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spectos relativos a la inocuidad de los alimentos de origen vegetal GM (junio de 2000)</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lergenicidad de los alimentos GM (enero d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valuación de la inocuidad de los alimentos obtenidos de microorganismos GM (septiembre d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valuación de la inocuidad de los alimentos derivados de animales GM, incluidos los peces (noviembre de 2003)</a:t>
            </a:r>
            <a:endParaRPr b="0" lang="en-US" sz="2800" spc="-1" strike="noStrike">
              <a:solidFill>
                <a:srgbClr val="ffffff"/>
              </a:solidFill>
              <a:latin typeface="Arial"/>
            </a:endParaRPr>
          </a:p>
          <a:p>
            <a:pPr lvl="1" marL="455760" indent="-4557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Iniciativas más importantes: señalar y abordar las futuras necesidade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7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lvl="1" marL="449280" indent="-449280">
              <a:lnSpc>
                <a:spcPct val="100000"/>
              </a:lnSpc>
              <a:spcBef>
                <a:spcPts val="601"/>
              </a:spcBef>
              <a:buClr>
                <a:srgbClr val="000000"/>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000000"/>
                </a:solidFill>
                <a:latin typeface="Times New Roman"/>
                <a:ea typeface="Times New Roman"/>
              </a:rPr>
              <a:t>Inocuidad de los alimentos obtenidos por medios biotecnológicos</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000000"/>
                </a:solidFill>
                <a:latin typeface="Times New Roman"/>
                <a:ea typeface="Times New Roman"/>
              </a:rPr>
              <a:t>Programa de capacitación de la FAO para ayudar a los países a aplicar las normas internacionales relacionadas con el análisis de riesgos de productos obtenidos por medios biotecnológicos</a:t>
            </a:r>
            <a:endParaRPr b="0" lang="en-US" sz="2800" spc="-1" strike="noStrike">
              <a:solidFill>
                <a:srgbClr val="ffffff"/>
              </a:solidFill>
              <a:latin typeface="Arial"/>
            </a:endParaRPr>
          </a:p>
          <a:p>
            <a:pPr lvl="1" marL="449280" indent="-449280">
              <a:lnSpc>
                <a:spcPct val="100000"/>
              </a:lnSpc>
              <a:spcBef>
                <a:spcPts val="601"/>
              </a:spcBef>
              <a:buClr>
                <a:srgbClr val="333399"/>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333399"/>
                </a:solidFill>
                <a:latin typeface="Times New Roman"/>
                <a:ea typeface="Times New Roman"/>
              </a:rPr>
              <a:t>http://www.fao.org/ag/agn/agns/biotechnology_es.asp</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lusiones</a:t>
            </a:r>
            <a:endParaRPr b="0" lang="en-US" sz="3600" spc="-1" strike="noStrike">
              <a:solidFill>
                <a:srgbClr val="ffffff"/>
              </a:solidFill>
              <a:latin typeface="Arial"/>
            </a:endParaRPr>
          </a:p>
        </p:txBody>
      </p:sp>
      <p:sp>
        <p:nvSpPr>
          <p:cNvPr id="17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países que evalúan la inocuidad de los alimentos obtenidos por medios biotecnológicos han aplicado de forma práctica los conceptos  principios elaborados por la OCDE, la  FAO y la OMS y el Codex</a:t>
            </a:r>
            <a:endParaRPr b="0" lang="en-US" sz="24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s evaluaciones efectuadas a escala internacional de los productos obtenidos de plantas de ADN recombinante han demostrado que estos conceptos se pueden aplicar eficazmente en la evaluación de la inocuidad de los alimentos obtenidos por medios biotecnológicos modernos</a:t>
            </a:r>
            <a:endParaRPr b="0" lang="en-US" sz="24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lusiones</a:t>
            </a:r>
            <a:r>
              <a:rPr b="0" lang="en-US" sz="3600" spc="-1" strike="noStrike">
                <a:solidFill>
                  <a:srgbClr val="000000"/>
                </a:solidFill>
                <a:latin typeface="Arial"/>
              </a:rPr>
              <a:t>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7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l enfoque de la evaluación de alimentos obtenidos por medios biotecnológicos modernos se valora, elabora y amplía de forma continua en los foros internacionales</a:t>
            </a:r>
            <a:endParaRPr b="0" lang="en-US" sz="28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Los países participantes contribuyen al proceso e incluyen enfoques actualizados en sus respectivos sistemas de reglamentació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efinición de biotecnología moderna</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plicación de:</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técnicas </a:t>
            </a:r>
            <a:r>
              <a:rPr b="0" i="1" lang="es-ES" sz="2400" spc="-1" strike="noStrike">
                <a:solidFill>
                  <a:srgbClr val="000000"/>
                </a:solidFill>
                <a:latin typeface="Times New Roman"/>
                <a:ea typeface="Times New Roman"/>
              </a:rPr>
              <a:t>in vitro </a:t>
            </a:r>
            <a:r>
              <a:rPr b="0" lang="es-ES" sz="2400" spc="-1" strike="noStrike">
                <a:solidFill>
                  <a:srgbClr val="000000"/>
                </a:solidFill>
                <a:latin typeface="Times New Roman"/>
                <a:ea typeface="Times New Roman"/>
              </a:rPr>
              <a:t>de ácidos nucleicos, incluyendo el ADN recombinante y la inyección directa de ácido nucleico en células u orgánulos,</a:t>
            </a:r>
            <a:endParaRPr b="0" lang="en-US" sz="24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fusión de células de la misma o distinta familia taxonómica, para sobrepasar las barreras fisiológicas naturales, ya sean reproductoras o de recombinación, mediante técnicas que no se emplean en la selección y mejora tradicionales</a:t>
            </a:r>
            <a:endParaRPr b="0" lang="en-US" sz="2400" spc="-1" strike="noStrike">
              <a:solidFill>
                <a:srgbClr val="ffffff"/>
              </a:solidFill>
              <a:latin typeface="Arial"/>
            </a:endParaRPr>
          </a:p>
          <a:p>
            <a:pPr marL="449280" indent="-44928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Protocolo de Cartagena sobre Seguridad de la BIotecnologí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Biotecnología moderna</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mplía el alcance de los cambios genéticos</a:t>
            </a: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No debe producir alimentos menos inocuos que los obtenidos mediante técnicas convencionales (OCDE, 1993)</a:t>
            </a:r>
            <a:endParaRPr b="0" lang="en-US" sz="2800" spc="-1" strike="noStrike">
              <a:solidFill>
                <a:srgbClr val="ffffff"/>
              </a:solidFill>
              <a:latin typeface="Arial"/>
            </a:endParaRPr>
          </a:p>
          <a:p>
            <a:pPr marL="446040" indent="-44604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No hacen falta normas nuevas o distintas sobre inocuidad</a:t>
            </a: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Siguen vigentes los principios previamente establecidos para la evaluación de la inocuidad de los alimento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realizan esfuerzos concertados a escala internacional</a:t>
            </a:r>
            <a:endParaRPr b="0" lang="en-US" sz="2400" spc="-1" strike="noStrike">
              <a:solidFill>
                <a:srgbClr val="ffffff"/>
              </a:solidFill>
              <a:latin typeface="Arial"/>
            </a:endParaRPr>
          </a:p>
          <a:p>
            <a:pPr marL="336600" indent="-336600">
              <a:lnSpc>
                <a:spcPct val="9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Principales consultas internacionales sobre evaluación de la inocuidad de los alimentos GM:</a:t>
            </a:r>
            <a:endParaRPr b="0" lang="en-US" sz="24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FAO/OMS</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IFB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ILSI</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OCDE</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CA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et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gn="r">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
        <p:nvSpPr>
          <p:cNvPr id="10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iciativas internacionale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iciativas internacionales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2"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criterios que se utilizan para evaluar la inocuidad de los alimentos GM suelen ser coherentes entre distintos países (Banco Mundial, 2003)</a:t>
            </a:r>
            <a:endParaRPr b="0" lang="en-US" sz="2400" spc="-1" strike="noStrike">
              <a:solidFill>
                <a:srgbClr val="ffffff"/>
              </a:solidFill>
              <a:latin typeface="Arial"/>
            </a:endParaRPr>
          </a:p>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Arial"/>
            </a:endParaRPr>
          </a:p>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países pueden adoptar distintos enfoques legislativos y no legislativos para reglamentar los alimentos GM</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importantes</a:t>
            </a:r>
            <a:endParaRPr b="0" lang="en-US" sz="3600" spc="-1" strike="noStrike">
              <a:solidFill>
                <a:srgbClr val="ffffff"/>
              </a:solidFill>
              <a:latin typeface="Arial"/>
            </a:endParaRPr>
          </a:p>
        </p:txBody>
      </p:sp>
      <p:sp>
        <p:nvSpPr>
          <p:cNvPr id="104"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s-ES" sz="2800" spc="-1" strike="noStrike">
                <a:solidFill>
                  <a:srgbClr val="000000"/>
                </a:solidFill>
                <a:latin typeface="Times New Roman"/>
                <a:ea typeface="Times New Roman"/>
              </a:rPr>
              <a:t>Los debates a escala internacional entre países de la OCDE y en consultas de expertos FAO/OMS en el marco de las Naciones Unidas han logrado un consenso sobre las cuestiones concretas relativas a la inocuidad que hay que tener en cuenta al evaluar un nuevo alimento</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rincipios generales</a:t>
            </a:r>
            <a:endParaRPr b="0" lang="en-US" sz="3600" spc="-1" strike="noStrike">
              <a:solidFill>
                <a:srgbClr val="ffffff"/>
              </a:solidFill>
              <a:latin typeface="Arial"/>
            </a:endParaRPr>
          </a:p>
        </p:txBody>
      </p:sp>
      <p:sp>
        <p:nvSpPr>
          <p:cNvPr id="10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700"/>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Principios utilizados a escala internacional en la evaluación de la inocuidad de alimentos procedentes de organismos de ADN recombinante:</a:t>
            </a:r>
            <a:endParaRPr b="0" lang="en-US" sz="28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suele considerar que los alimentos convencionales son inocuos, si se consumen elaborados y manipulados</a:t>
            </a:r>
            <a:endParaRPr b="0" lang="en-US" sz="24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en algunos ámbitos jurisdiccionales (p. ej., Japón, Canadá, Australia y Nueva Zelandia, Reino Unido, la Unión Europea) se aplican análisis obligatorios a los nuevos alimentos, incluidos los que se obtienen de organismos de ADN recombinante</a:t>
            </a:r>
            <a:endParaRPr b="0" lang="en-US" sz="24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a estos alimentos, que no tienen un historial de uso inocuo, se les aplica un enfoque especialmente prudente</a:t>
            </a:r>
            <a:endParaRPr b="0" lang="en-US" sz="2400" spc="-1" strike="noStrike">
              <a:solidFill>
                <a:srgbClr val="ffffff"/>
              </a:solidFill>
              <a:latin typeface="Arial"/>
            </a:endParaRPr>
          </a:p>
          <a:p>
            <a:pPr lvl="1" marL="736560" indent="-2793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rincipios generales</a:t>
            </a:r>
            <a:r>
              <a:rPr b="0" lang="en-US" sz="3600" spc="-1" strike="noStrike">
                <a:solidFill>
                  <a:srgbClr val="000000"/>
                </a:solidFill>
                <a:latin typeface="Arial"/>
              </a:rPr>
              <a:t>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08"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La evaluación de la inocuidad de los alimentos obtenidos de organismos de ADN recombinante se realiza de conformidad con estos principios fundamental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La evaluación de la inocuidad utiliza métodos científicos basados en los riesgo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La evaluación de la inocuidad se realiza caso por caso.</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e tienen en cuenta los efectos, intencionales o no, de la modificación genética.</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e llevan a cabo comparaciones con alimentos obtenidos de forma convencional, si procede.   </a:t>
            </a:r>
            <a:r>
              <a:rPr b="0" lang="es-ES"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47840" indent="-44784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Las decisiones sobre inocuidad se basan en el conjunto de los dato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8:34:14Z</dcterms:created>
  <dc:creator>Takeuchi, Masami (AGNS)</dc:creator>
  <dc:description/>
  <dc:language>en-US</dc:language>
  <cp:lastModifiedBy>Claudio</cp:lastModifiedBy>
  <dcterms:modified xsi:type="dcterms:W3CDTF">2009-10-03T08:46:03Z</dcterms:modified>
  <cp:revision>191</cp:revision>
  <dc:subject/>
  <dc:title>Concepts and Principles of GM Food Safety Assessment</dc:title>
</cp:coreProperties>
</file>