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7AA-F672-4749-B80B-F43E2E5D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593-6771-49C8-BD72-ED4E75BB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7F0-A166-4195-8664-0A04354E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8C9-AB0D-4075-B4C4-94D3EDD4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426-5C7A-44A1-8BDD-A0812BA5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C18-61CB-46E6-9F86-051C643D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719-78C8-44D0-B581-07CEB9A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2BC-ED29-47D0-BB90-DA31C8D0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11C-328B-4E0C-8857-3738F832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9AC-4ADF-4483-BB18-D3031A8A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5B0-CAE2-482F-B9D3-6B3A3EFE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045-4330-4249-ACA9-4AAFBD0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6865-8BAF-41BE-BF36-A8FD4D694FD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11T11:06:40Z</dcterms:modified>
  <cp:revision>5</cp:revision>
  <dc:subject/>
  <dc:title>Presentazione di PowerPoint</dc:title>
</cp:coreProperties>
</file>