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1A2A3-C16F-49FF-AB16-35DAD120EB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335EA-F183-4054-AE90-2FAD7C9C24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5D58B-7F21-4022-B752-92CFBA58B9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FD3A8-8E1D-4C8D-B5DC-1457811DA8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7989B-FAEE-4B3A-9273-A4BB243082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4FA13-5CF1-4DDD-993D-4246DD17FF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7AE43-56A8-4714-980C-F094ED9DEE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DF5FF-0713-48B1-9399-8ED3768B61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95CA5-FA12-411C-83C9-B3D5D6C036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B1CFE-C541-474A-8FB2-99764F1A22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5BEFE-68DB-404F-813E-ED214234BF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292FB-F2BF-4253-9EE8-B03E95A3CF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osición gene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 un tal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ódulo de presentació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ograma: día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0720" y="1619280"/>
          <a:ext cx="8099280" cy="493380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9021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4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racterización de la modificación o  modificaciones genéticas, evaluación de la posible toxicidad y alergenicidad y análisis de los componentes esenci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valuar la posible toxic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uer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osible alergenic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men y conclusiones del día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ograma: día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0720" y="1619280"/>
          <a:ext cx="8099280" cy="5180040"/>
        </p:xfrm>
        <a:graphic>
          <a:graphicData uri="http://schemas.openxmlformats.org/drawingml/2006/table">
            <a:tbl>
              <a:tblPr/>
              <a:tblGrid>
                <a:gridCol w="898560"/>
                <a:gridCol w="7200720"/>
              </a:tblGrid>
              <a:tr h="4683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4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nálisis de la composi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4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uer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5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unicación de riesg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6600" indent="-336600">
                        <a:lnSpc>
                          <a:spcPct val="74000"/>
                        </a:lnSpc>
                        <a:tabLst>
                          <a:tab algn="l" pos="0"/>
                          <a:tab algn="l" pos="338040"/>
                          <a:tab algn="l" pos="795240"/>
                          <a:tab algn="l" pos="1252440"/>
                          <a:tab algn="l" pos="1709640"/>
                          <a:tab algn="l" pos="2166840"/>
                          <a:tab algn="l" pos="2624040"/>
                          <a:tab algn="l" pos="3081240"/>
                          <a:tab algn="l" pos="3538440"/>
                          <a:tab algn="l" pos="3995640"/>
                          <a:tab algn="l" pos="4452840"/>
                          <a:tab algn="l" pos="4910040"/>
                          <a:tab algn="l" pos="5367240"/>
                          <a:tab algn="l" pos="5824440"/>
                          <a:tab algn="l" pos="6281640"/>
                          <a:tab algn="l" pos="6738840"/>
                          <a:tab algn="l" pos="7196040"/>
                          <a:tab algn="l" pos="7653240"/>
                          <a:tab algn="l" pos="8110440"/>
                          <a:tab algn="l" pos="8567640"/>
                          <a:tab algn="l" pos="9024840"/>
                          <a:tab algn="l" pos="948204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Utilizando estudios de cas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6600" indent="-33660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Symbol" charset="2"/>
                        <a:buChar char=""/>
                        <a:tabLst>
                          <a:tab algn="l" pos="338040"/>
                          <a:tab algn="l" pos="795240"/>
                          <a:tab algn="l" pos="1252440"/>
                          <a:tab algn="l" pos="1709640"/>
                          <a:tab algn="l" pos="2166840"/>
                          <a:tab algn="l" pos="2624040"/>
                          <a:tab algn="l" pos="3081240"/>
                          <a:tab algn="l" pos="3538440"/>
                          <a:tab algn="l" pos="3995640"/>
                          <a:tab algn="l" pos="4452840"/>
                          <a:tab algn="l" pos="4910040"/>
                          <a:tab algn="l" pos="5367240"/>
                          <a:tab algn="l" pos="5824440"/>
                          <a:tab algn="l" pos="6281640"/>
                          <a:tab algn="l" pos="6738840"/>
                          <a:tab algn="l" pos="7196040"/>
                          <a:tab algn="l" pos="7653240"/>
                          <a:tab algn="l" pos="8110440"/>
                          <a:tab algn="l" pos="8567640"/>
                          <a:tab algn="l" pos="9024840"/>
                          <a:tab algn="l" pos="948204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una estrategia sobre el sentido de la comunicación de riesg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6600" indent="-33660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Symbol" charset="2"/>
                        <a:buChar char=""/>
                        <a:tabLst>
                          <a:tab algn="l" pos="338040"/>
                          <a:tab algn="l" pos="795240"/>
                          <a:tab algn="l" pos="1252440"/>
                          <a:tab algn="l" pos="1709640"/>
                          <a:tab algn="l" pos="2166840"/>
                          <a:tab algn="l" pos="2624040"/>
                          <a:tab algn="l" pos="3081240"/>
                          <a:tab algn="l" pos="3538440"/>
                          <a:tab algn="l" pos="3995640"/>
                          <a:tab algn="l" pos="4452840"/>
                          <a:tab algn="l" pos="4910040"/>
                          <a:tab algn="l" pos="5367240"/>
                          <a:tab algn="l" pos="5824440"/>
                          <a:tab algn="l" pos="6281640"/>
                          <a:tab algn="l" pos="6738840"/>
                          <a:tab algn="l" pos="7196040"/>
                          <a:tab algn="l" pos="7653240"/>
                          <a:tab algn="l" pos="8110440"/>
                          <a:tab algn="l" pos="8567640"/>
                          <a:tab algn="l" pos="9024840"/>
                          <a:tab algn="l" pos="948204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ar un documento de decisiones para el público en gener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 del taller, certificados, observaciones finales, clausura del tal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tivos del ta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ar a aplic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incipios y directric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cionalmente acep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tir las experiencias de much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íses sobre métodos de reglamentación y evaluación de la inoc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Ámbito del ta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tación de expertos (formación de capacitadores) para impartir talleres con el fin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jorar las aptitudes de las autoridades de regla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r, gestion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unic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los posibles riesgos asociados con los alimentos obtenidos de plantas de ADN recombin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os y principios para la evaluación de la inoc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y marco de la evaluación de la inoc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a posible toxicidad y de la posible alergenicidad y análisis de la compo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de riesgos y políticas públ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sent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siones de trabajo en gru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esiones separadas con estudios de casos ofrecerán a los participantes ejercicios prácticos para preparar y realizar talleres de capaci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udios de casos incluy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íz MON 8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ja GTS 40-3-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ja con alto contenido en ácido ole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sultados previs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aller ofre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exposición general de las perspectivas internacionales sobre la evaluación de la inocuidad de los alimentos obtenidos de plantas de ADN recombinante (Codex y FAO/O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ias teóricas y prácticas sobre la metodología de evaluación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práctica sobre cómo organizar e impartir talleres de capacit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sultados previst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utoridades de reglamentación adecuadamente capacitadas pued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r la inocuidad de los alimentos, con lo que no sólo mejoran la salud de los consumidores, sino que garantizan la inocuidad de los alimentos destinados al comerci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a: día 1, mañ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0720" y="1619280"/>
          <a:ext cx="8099280" cy="498312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517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xposición general del tal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de los participantes y capacit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2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ceptos y principios de la evaluación de la inocuidad de los alimentos GM, principales iniciativas internacionales (Codex, FAO/OMS, OCDE, et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de tres estudios de ca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íz GM resistente a los insectos, evento MON 8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ja GM de alto contenido de ácido ole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ja GM tolerante a herbici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los grupos de tra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uer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a: día 1, tar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0720" y="1619280"/>
          <a:ext cx="8099280" cy="5118120"/>
        </p:xfrm>
        <a:graphic>
          <a:graphicData uri="http://schemas.openxmlformats.org/drawingml/2006/table">
            <a:tbl>
              <a:tblPr/>
              <a:tblGrid>
                <a:gridCol w="973080"/>
                <a:gridCol w="7126200"/>
              </a:tblGrid>
              <a:tr h="8298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3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nfoque comparativo y marco para la evaluación de la inocuidad de los alimentos G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1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Utilizando estudios de casos, señalar la descripción y examinar si es suficiente la información sobre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la planta de ADN recombin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la planta hospedadora y de su utilización como al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el organismo u organismos don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la modificación o modificaciones gené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1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 y debate sobre la sesión de trabajo en grupo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men y conclusiones del día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0:49:41Z</dcterms:created>
  <dc:creator>Takeuchi, Masami (AGNS)</dc:creator>
  <dc:description/>
  <dc:language>en-US</dc:language>
  <cp:lastModifiedBy>Claudio</cp:lastModifiedBy>
  <dcterms:modified xsi:type="dcterms:W3CDTF">2009-10-03T09:11:13Z</dcterms:modified>
  <cp:revision>189</cp:revision>
  <dc:subject/>
  <dc:title>Concepts and Principles of GM Food Safety Assessment</dc:title>
</cp:coreProperties>
</file>