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70F-EE07-4616-A776-4968E5FD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155-2060-41EC-83D5-E0DF448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9B8-C848-44C9-80A6-CAC717B5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363-D9A8-49FC-AE74-5E07ABE1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CB9-04C9-4AA8-8B75-FC7F928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1EB-8FB3-45AD-9D3C-EFE0910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8CC-4AC0-4C6E-89DF-86303F7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C45-B7AA-4C24-8CF5-9156BC25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112-D37E-4E51-A70E-CB49182C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A26-B459-4A35-8A14-481AA21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209-425A-4941-96D5-58F4E3B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C28-F89D-45E5-B5A1-AEAC3F1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2BB8-C9E0-41F3-85BE-0893CDA4D44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4:13Z</dcterms:modified>
  <cp:revision>8</cp:revision>
  <dc:subject/>
  <dc:title>Presentazione di PowerPoint</dc:title>
</cp:coreProperties>
</file>