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FBD-0031-4B52-9EB2-32E08305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520-A73B-4F49-9713-EBB73997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C81-E1F4-414E-BFC7-8CA5A470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235-6040-470F-A6FB-5AC323B9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9B2-DF50-4791-A456-0A936504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86E-B3A6-4F36-BF29-BE0A39E6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499-FAFE-404B-AFE4-BFEF9708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3F9-981D-40F6-939B-CD59F669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BBE-4EA2-4F5D-B9F3-A95CA0DB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E39-55A4-4DF2-B748-F01A7743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45A-40FE-491A-B218-3007FA8A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0B2-3D80-4426-B479-3FCB3AA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78E6-5867-4C03-977B-42A90CF777C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24000"/>
            <a:ext cx="553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a84eb7"/>
                </a:solidFill>
                <a:latin typeface="Lucida Sans"/>
              </a:rPr>
              <a:t>Heading h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2367000"/>
            <a:ext cx="868680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6405480"/>
            <a:ext cx="312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a84eb7"/>
                </a:solidFill>
                <a:latin typeface="Lucida Sans"/>
              </a:rPr>
              <a:t>Modúlo ? / diapositiva 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16T08:52:34Z</dcterms:modified>
  <cp:revision>7</cp:revision>
  <dc:subject/>
  <dc:title>Presentazione di PowerPoint</dc:title>
</cp:coreProperties>
</file>