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029-6C93-4C29-ABB9-21AB9696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3BB-C502-402D-B88D-31DD1263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8A7-C240-4911-9260-F9C379AA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5916-AF79-4454-8BA2-FF10795F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763-2992-4EF5-BC92-59AFC4C3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787-CE54-411A-927E-39D908D5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582F-0C82-4027-AA69-0C08A38F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D5D-65A6-4CE6-B817-6F6592F5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046-91E2-4F64-BBC6-6FFB9BEA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961-F8DB-45F2-8D5E-1AE9683C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1F9-661F-48C0-8F5F-5BDB5087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52E-6011-4FAA-8EB4-0FA2DB57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D3F0-3D1A-45A0-9E9B-D23FFFF2890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10-16T13:14:56Z</dcterms:modified>
  <cp:revision>7</cp:revision>
  <dc:subject/>
  <dc:title>Presentazione di PowerPoint</dc:title>
</cp:coreProperties>
</file>