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E93-DADE-4113-B47D-EB5A452E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59C-197F-49A5-8200-61BC0E40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AA8-6BE8-4B47-930F-4BB5AC5B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32D-C0A1-4C13-AF66-7832CEA5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002-058D-46AD-8753-B3142C5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8EE-AD02-452D-BCD7-92AC531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8D9-49C2-4CBC-AEBC-E6EE83A6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9B1-FB21-48CA-B22B-A16BD7E5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7A6-9918-4D8F-9246-AF234A94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6D8-7B62-4259-9F62-3F82AB0E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2E6-160F-49C5-ADF4-2C7C0C1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794-CCCD-4815-8D24-F40AD7A2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B36D-138E-418A-9D3B-FBD25DCA4AB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11T09:53:44Z</dcterms:modified>
  <cp:revision>6</cp:revision>
  <dc:subject/>
  <dc:title>Presentazione di PowerPoint</dc:title>
</cp:coreProperties>
</file>