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D80DF-BC4F-4534-9F00-2D836903DC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11646-7126-4EA8-80F8-2D60637CF8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8008B-5455-4D66-9B7C-4FFDD0DE97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5814-6439-43A7-96AE-88C94BFB89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DE30-BE3F-40DF-908A-6FEF8B32B9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C3E7B-FC63-4ACB-9A7C-05A55354AD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478A-6B1E-455B-BD0B-7178619C57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992C-4A5D-441C-9A9F-F07FA175E9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13D53-9FC6-4FA9-AC53-8F1A907758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1B91-AE14-4964-8B03-BFDDB6CD13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53C0F-96DC-4725-A2C3-4ED52731D6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rkshop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entation Modu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498960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ompositional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4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isk commun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sing case studie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ze the meaning of risk commun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e a decision document for the general publ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5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shop evaluation, certificates, concluding comments, workshop cl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in implementing internationally 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s an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man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ies’ experiences of regulation and safety assessmen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ope of the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 experts (training of trainers) to deliver workshop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 the capability of regulatory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sess, man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uni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he potential risks associated with foods derived from recombinant-DNA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and principles of safety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 and frameworks of safety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possible toxicity, possible allergenicity, and compositio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communication and public polic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sen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orking group s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-out sessions with case studies will give participants hands-on exercises on preparing and conducting training worksho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i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 810 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TS 40-3-2 soyb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oleic acid soyb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pected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pro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verview of the international perspectives on safety assessment of foods derived from r-DNA plants (Codex and FAO/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and practical experience in safety assessment 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information on organizing and delivering training 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trained regulators c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the safety of foods, thereby not only improving the health of consumers but also ensuring the safety of foods entering international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1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20720" y="1619280"/>
          <a:ext cx="8099280" cy="51163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Workshop over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 of the participants and trai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ncepts and principles of GM Food safety assessment, key international initiatives (Codex, FAO/WHO, OECD, et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 of three case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Insect Resistant Corn Event MON 8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High Oleic Acid Soyb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Herbicide Tolerant Soyb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igning working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1 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715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The comparative approach and the framework for the safety assessment of GM foo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1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sing case studies, identify the description and review the sufficiency of the information on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recombinant-DNA pl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host plant and its use as 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donor organism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genetic modification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 and discussion for WG Session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and Conclusions of Day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9021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4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aracterization of the genetic modification(s), assessment of possible toxicity &amp; allergenicity, and compositional analysis of key compon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valuate possible toxi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le allergeni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and Conclusions of Day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4:29:00Z</dcterms:created>
  <dc:creator>Takeuchi, Masami (AGNS)</dc:creator>
  <dc:description/>
  <dc:language>en-US</dc:language>
  <cp:lastModifiedBy>Claudio</cp:lastModifiedBy>
  <dcterms:modified xsi:type="dcterms:W3CDTF">2009-10-03T10:04:51Z</dcterms:modified>
  <cp:revision>179</cp:revision>
  <dc:subject/>
  <dc:title>Concepts and Principles of GM Food Safety Assessment</dc:title>
</cp:coreProperties>
</file>