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C5B-1E34-44C0-8DD1-BEDF8947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F45-B346-447D-87BF-843E0F36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09D-6714-47E8-B083-333523AD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959-4D06-4E77-A631-5755319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D2F-9A6B-4EB1-8604-3C2A6959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5DA-4BA5-4D5E-B4BB-AD89652C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946-C81B-4CB2-8071-441DE717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507-EB06-4315-90A4-CA9C5F8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F5B-E7D2-4BB3-B69C-F535F0B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455-DFAE-4779-B328-2E1B141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300-FA09-4D66-ADFD-9C21E248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D15-415B-48BB-B0E7-63E3CA9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3876-657E-4138-82AF-88C6A45A938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58:58Z</dcterms:modified>
  <cp:revision>5</cp:revision>
  <dc:subject/>
  <dc:title>Presentazione di PowerPoint</dc:title>
</cp:coreProperties>
</file>