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889-54A8-48FA-BD9D-4E47149B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18D-2705-4755-90AE-729F1783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BF4-FD75-46FB-8D60-A48AFA60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2E1-F794-4D6B-A8E0-ED27D6B8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0CE-5821-43F6-BEF1-3E9CE790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61A-B83D-4CD4-8B9A-D419DCB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FA5-1DEE-435E-AA1F-BA8C438E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464-4953-4F1D-A9EE-6AE98489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8B8-A3D9-4FE5-B80D-B00585AE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864-3A98-4DBA-913F-8C5E263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EA7-B5B1-4E48-9A7E-2FC1AC4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65C-637D-4FBE-AD8B-8FE089E7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1C21-6DEF-440F-A05F-09DD0B15F19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09:28:49Z</dcterms:modified>
  <cp:revision>9</cp:revision>
  <dc:subject/>
  <dc:title>Presentazione di PowerPoint</dc:title>
</cp:coreProperties>
</file>