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4F08-9A7B-4BBF-91FD-04F309AA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976-B836-48EC-9BBD-CA8A2A80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EF9-F0DC-48FD-A206-59D6D294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F86-DD26-493E-87C0-14511B6A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FCF-FE1E-464F-A49F-2DDDB90E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CA3-A9FC-4762-BD16-2EB05946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BFBE-EC80-4A3D-A373-FFA759E9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86F-A482-40FB-AAAC-252D874F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659-8E76-4015-91BC-BD3079C6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B517-DF20-4D34-AB8F-07BADB73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9AE5-6583-4E7D-8261-7E4872AE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570-D99B-45D7-99CF-E41F1F44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97BA-BBCC-46A2-9EA8-D6874678F6C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224000"/>
            <a:ext cx="553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a84eb7"/>
                </a:solidFill>
                <a:latin typeface="Lucida Sans"/>
              </a:rPr>
              <a:t>Heading h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2367000"/>
            <a:ext cx="868680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a84eb7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84eb7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in text main text tanto va la gatta al lardo che ci lascia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lo zampino main text tanto va la gatta al lardo che ci lascia lo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zamp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a84eb7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84eb7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in text main text tanto va la gatta al lardo che ci lascia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lo zamp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a84eb7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84eb7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in text main text tanto va la gatta al lardo che ci lascia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lo zampino main text tanto va la gatta al lardo che ci lascia lo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zamp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15000" y="6405480"/>
            <a:ext cx="3124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a84eb7"/>
                </a:solidFill>
                <a:latin typeface="Lucida Sans"/>
              </a:rPr>
              <a:t>Module ? / diapositive ?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09-25T10:39:35Z</dcterms:modified>
  <cp:revision>8</cp:revision>
  <dc:subject/>
  <dc:title>Presentazione di PowerPoint</dc:title>
</cp:coreProperties>
</file>