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C4B-D1A5-4253-A9E5-13547F3B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6FE-EF0A-4510-AA61-CDD85408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C20-DAC3-4B04-BA3C-802CC36F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9E0-9447-48D4-834D-C1AD3AD0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EB2-C304-4E8F-8C1C-B1EBCAC5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BE2-11F3-4666-A7A7-B7BFDEB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95E-7D91-4ED5-B310-85FFDEDD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A5E-AE17-4277-8FAD-1DE20B35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2FE-F85B-4CF7-9A25-C067F8DF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C59-6277-4273-B5C8-CF0B681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7B3-D4E7-4B8D-A475-D926A8A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002-39FE-48B0-A490-B548215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6E0-F37A-4CB9-B7CA-B4DE7109A0B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36:05Z</dcterms:created>
  <dc:creator>******* ********* **************</dc:creator>
  <dc:description/>
  <dc:language>en-US</dc:language>
  <cp:lastModifiedBy>******* ********* **************</cp:lastModifiedBy>
  <dcterms:modified xsi:type="dcterms:W3CDTF">2009-09-11T11:06:40Z</dcterms:modified>
  <cp:revision>5</cp:revision>
  <dc:subject/>
  <dc:title>Presentazione di PowerPoint</dc:title>
</cp:coreProperties>
</file>