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47C-1950-45A3-AA11-504FA600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824-0F54-416A-8203-DE10B4E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189-ED51-4913-AD08-A2D5ACE4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200-996E-445B-A6FA-2D49DBE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9F8-F17D-41BF-A769-1A85FA85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4CB-31DF-4C5E-88EF-2EBDBCD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494-6E0B-4202-A787-7FB06EF9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4A8-EDB5-4BC8-8531-1E0FF9C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1D1-AFFC-4E74-A8C7-7E935CDC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08F-9BD4-45A5-88BD-B485A38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EBF-F0DF-4EFC-A111-C636880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016-0E9F-4A48-BD2B-4E7931E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E9F-DF00-4A51-8B50-3CD247CBBC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9692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8-06-12T15:32:44Z</dcterms:modified>
  <cp:revision>4</cp:revision>
  <dc:subject/>
  <dc:title>Presentazione di PowerPoint</dc:title>
</cp:coreProperties>
</file>