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5D7-AF63-4DCD-AB3E-A051E499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DB8-FAB3-439C-90DB-55B28F76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223-7C32-4FC4-88BD-77FDEC76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F78-0A01-4126-92F1-018AB750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023-4580-4799-87B6-48E8E76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455-26DA-4E62-8341-CB14A78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59A-71E9-4AAE-AFAC-E3ADE453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CD2-BF7C-4266-A89F-0FB33EE2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F30-AEF9-44A1-9CB2-B1AB2A6E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1E4-D04E-4617-8A44-E417C0D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212-9972-4576-8981-59DBB0F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1C3-B1C6-4914-AB21-D91DE98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82A6-5573-4F9F-AB0E-3815F41C747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5:39:25Z</dcterms:modified>
  <cp:revision>4</cp:revision>
  <dc:subject/>
  <dc:title>Presentazione di PowerPoint</dc:title>
</cp:coreProperties>
</file>