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583-F5AC-42BC-A74E-24028EA4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D3F-173E-400F-95BF-BC29C851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051-711B-4B97-AA3D-42A626C1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A3F-EB75-4D69-B456-ABCA4BFA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D3E-A8D7-47CE-97F6-0EE07FDF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4B7-A1FD-4A78-AA06-1695B706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163-DE96-4256-B942-0120E1F2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66C-DB0C-449A-A15E-D5D7F1A4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B62-3DB1-4D45-8A29-69559E25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1E7-75DF-432A-BC71-76FFC1E4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A16-4E4B-443E-8E2D-D187351F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2C3-1EF8-416C-A053-0EFF86EE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958E-A488-4B68-86F2-76D0470415D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11T09:53:44Z</dcterms:modified>
  <cp:revision>6</cp:revision>
  <dc:subject/>
  <dc:title>Presentazione di PowerPoint</dc:title>
</cp:coreProperties>
</file>