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034-22D1-4F6D-858C-431E6B94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45D-4C05-4B86-8211-105A3EC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F54-C319-49EB-BA21-CB985654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C9C-C3A8-4058-889B-8E5B7955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742-E1D0-4726-872B-E8F4F6C2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93B-509D-46CA-8129-2175FBF4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557-B2F5-4368-925B-E6BD0BD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6D6-DDA7-4C7A-A0ED-5B3BED1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6DC-EBC3-446F-BAA9-C0C9CABC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3DC-E1F5-4442-81D5-D7B3892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8F7-AF88-4582-8156-037F087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A81-F026-494B-A906-1B5934E3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35ED-66EA-4FF1-BE48-8E9D81AB6C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58:58Z</dcterms:modified>
  <cp:revision>5</cp:revision>
  <dc:subject/>
  <dc:title>Presentazione di PowerPoint</dc:title>
</cp:coreProperties>
</file>