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DFD-93EF-427B-B949-61FA563D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F2E-11D5-407B-9FF6-A68A6A48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3F6-64B3-4126-81E9-1E4B87C9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85F-DEC2-4642-B405-AF0FCAD0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5507-204C-43D3-A957-4ADD45F2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2CE-2BFA-4036-8116-0B39A781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F13-90D8-4DB2-AB36-61040DFB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04F-1777-47B4-9C5C-909A4E66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A92-1040-4792-B059-C0D0E80D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F49-DC14-43E7-AE26-3E877F19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A79-5964-4375-83B2-619069C5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45D8-09AD-4AB4-8895-9462EFCC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188A-8D31-49F7-935A-B3A0B517D45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72200" y="6405480"/>
            <a:ext cx="2666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a84eb7"/>
                </a:solidFill>
                <a:latin typeface="Lucida Sans"/>
              </a:rPr>
              <a:t>Moldule ? / slide ?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224000"/>
            <a:ext cx="553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a84eb7"/>
                </a:solidFill>
                <a:latin typeface="Lucida Sans"/>
              </a:rPr>
              <a:t>Heading h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367000"/>
            <a:ext cx="868680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a84eb7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84eb7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in text main text tanto va la gatta al lardo che ci lasci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lo zampino main text tanto va la gatta al lardo che ci lascia lo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zamp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84eb7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84eb7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in text main text tanto va la gatta al lardo che ci lasci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lo zamp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84eb7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84eb7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in text main text tanto va la gatta al lardo che ci lasci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lo zampino main text tanto va la gatta al lardo che ci lascia lo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zamp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8-06-12T16:20:51Z</dcterms:modified>
  <cp:revision>6</cp:revision>
  <dc:subject/>
  <dc:title>Presentazione di PowerPoint</dc:title>
</cp:coreProperties>
</file>