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4080" cy="34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1"/>
          </p:nvPr>
        </p:nvSpPr>
        <p:spPr>
          <a:xfrm>
            <a:off x="388440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05A872-5FB9-4833-B22D-9DD6B8B4786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A76DF4-4781-4D4A-8F2D-1AF01328055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439D25-BABC-435D-8713-F09882ACE04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B69983-6DC3-4DFF-A739-B6E3417A85B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1D00AB-69C2-4351-9E4A-8E58E97F20E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F987EB-9276-4A03-9227-41FEFD554E8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99C1AB-9CA2-49EC-904B-31A0E5ACDE1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8C45F7-58A6-4EE5-B331-CC9FCFF1537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9C5F98-AE7D-405E-BB50-83F9CE9EFCD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402829-2FB2-4E36-85CA-90EE372C771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2807FB-CCC9-4BF6-8A74-F03F73319F5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16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223160"/>
            <a:ext cx="82216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8520" y="160020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22316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898520" y="422316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470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65720" y="1600200"/>
            <a:ext cx="26470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45280" y="1600200"/>
            <a:ext cx="26470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223160"/>
            <a:ext cx="26470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65720" y="4223160"/>
            <a:ext cx="26470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245280" y="4223160"/>
            <a:ext cx="26470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22168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168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1184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98520" y="1600200"/>
            <a:ext cx="401184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128520"/>
            <a:ext cx="73072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98520" y="1600200"/>
            <a:ext cx="401184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22316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22168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1184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8520" y="160020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898520" y="422316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8520" y="160020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223160"/>
            <a:ext cx="82216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16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223160"/>
            <a:ext cx="82216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8520" y="160020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22316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898520" y="422316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470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465720" y="1600200"/>
            <a:ext cx="26470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45280" y="1600200"/>
            <a:ext cx="26470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223160"/>
            <a:ext cx="26470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465720" y="4223160"/>
            <a:ext cx="26470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245280" y="4223160"/>
            <a:ext cx="26470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168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1184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898520" y="1600200"/>
            <a:ext cx="401184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128520"/>
            <a:ext cx="73072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8520" y="1600200"/>
            <a:ext cx="401184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22316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1184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8520" y="160020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898520" y="422316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8520" y="1600200"/>
            <a:ext cx="401184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23160"/>
            <a:ext cx="82216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22168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"/>
          <p:cNvSpPr/>
          <p:nvPr/>
        </p:nvSpPr>
        <p:spPr>
          <a:xfrm>
            <a:off x="3276720" y="6381720"/>
            <a:ext cx="571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Text Box 2"/>
          <p:cNvSpPr/>
          <p:nvPr/>
        </p:nvSpPr>
        <p:spPr>
          <a:xfrm>
            <a:off x="6781680" y="228600"/>
            <a:ext cx="2149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3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22168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720720" y="1619280"/>
            <a:ext cx="773604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Workshop Overview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720720" y="3959280"/>
            <a:ext cx="75438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esentation Module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720720" y="270000"/>
            <a:ext cx="737856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genda: day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720720" y="1619280"/>
          <a:ext cx="8099280" cy="4989600"/>
        </p:xfrm>
        <a:graphic>
          <a:graphicData uri="http://schemas.openxmlformats.org/drawingml/2006/table">
            <a:tbl>
              <a:tblPr/>
              <a:tblGrid>
                <a:gridCol w="898560"/>
                <a:gridCol w="7200720"/>
              </a:tblGrid>
              <a:tr h="46836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orking group session 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</a:t>
                      </a: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e compositional analysi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i="1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ffee brea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enary session 4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Report bac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i="1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i="1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unc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sentation 5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Risk communic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 marL="333360" indent="-333360">
                        <a:lnSpc>
                          <a:spcPts val="1800"/>
                        </a:lnSpc>
                        <a:tabLst>
                          <a:tab algn="l" pos="0"/>
                          <a:tab algn="l" pos="334800"/>
                          <a:tab algn="l" pos="792000"/>
                          <a:tab algn="l" pos="1249200"/>
                          <a:tab algn="l" pos="1706400"/>
                          <a:tab algn="l" pos="2163600"/>
                          <a:tab algn="l" pos="2620800"/>
                          <a:tab algn="l" pos="3078000"/>
                          <a:tab algn="l" pos="3535200"/>
                          <a:tab algn="l" pos="3992400"/>
                          <a:tab algn="l" pos="4449600"/>
                          <a:tab algn="l" pos="4906800"/>
                          <a:tab algn="l" pos="5364000"/>
                          <a:tab algn="l" pos="5821200"/>
                          <a:tab algn="l" pos="6278400"/>
                          <a:tab algn="l" pos="6735600"/>
                          <a:tab algn="l" pos="7192800"/>
                          <a:tab algn="l" pos="7650000"/>
                          <a:tab algn="l" pos="8107200"/>
                          <a:tab algn="l" pos="8564400"/>
                          <a:tab algn="l" pos="9021600"/>
                          <a:tab algn="l" pos="94788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orking group session 5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Using case studies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33360" indent="-333360">
                        <a:lnSpc>
                          <a:spcPts val="18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334800"/>
                          <a:tab algn="l" pos="792000"/>
                          <a:tab algn="l" pos="1249200"/>
                          <a:tab algn="l" pos="1706400"/>
                          <a:tab algn="l" pos="2163600"/>
                          <a:tab algn="l" pos="2620800"/>
                          <a:tab algn="l" pos="3078000"/>
                          <a:tab algn="l" pos="3535200"/>
                          <a:tab algn="l" pos="3992400"/>
                          <a:tab algn="l" pos="4449600"/>
                          <a:tab algn="l" pos="4906800"/>
                          <a:tab algn="l" pos="5364000"/>
                          <a:tab algn="l" pos="5821200"/>
                          <a:tab algn="l" pos="6278400"/>
                          <a:tab algn="l" pos="6735600"/>
                          <a:tab algn="l" pos="7192800"/>
                          <a:tab algn="l" pos="7650000"/>
                          <a:tab algn="l" pos="8107200"/>
                          <a:tab algn="l" pos="8564400"/>
                          <a:tab algn="l" pos="9021600"/>
                          <a:tab algn="l" pos="94788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rategize the meaning of risk communic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33360" indent="-333360">
                        <a:lnSpc>
                          <a:spcPts val="18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334800"/>
                          <a:tab algn="l" pos="792000"/>
                          <a:tab algn="l" pos="1249200"/>
                          <a:tab algn="l" pos="1706400"/>
                          <a:tab algn="l" pos="2163600"/>
                          <a:tab algn="l" pos="2620800"/>
                          <a:tab algn="l" pos="3078000"/>
                          <a:tab algn="l" pos="3535200"/>
                          <a:tab algn="l" pos="3992400"/>
                          <a:tab algn="l" pos="4449600"/>
                          <a:tab algn="l" pos="4906800"/>
                          <a:tab algn="l" pos="5364000"/>
                          <a:tab algn="l" pos="5821200"/>
                          <a:tab algn="l" pos="6278400"/>
                          <a:tab algn="l" pos="6735600"/>
                          <a:tab algn="l" pos="7192800"/>
                          <a:tab algn="l" pos="7650000"/>
                          <a:tab algn="l" pos="8107200"/>
                          <a:tab algn="l" pos="8564400"/>
                          <a:tab algn="l" pos="9021600"/>
                          <a:tab algn="l" pos="94788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pare a decision document for the general publi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i="1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ffee brea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enary session 5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Report bac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04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orkshop evaluation, certificates, concluding comments, workshop clo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720720" y="270000"/>
            <a:ext cx="737856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  <a:ea typeface="Arial"/>
              </a:rPr>
              <a:t>Workshop objectiv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720720" y="1619280"/>
            <a:ext cx="808668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st in implementing internationally accepte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s and guidel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re man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ntries’ experiences of regulation and safety assessment 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"/>
          <p:cNvSpPr/>
          <p:nvPr/>
        </p:nvSpPr>
        <p:spPr>
          <a:xfrm>
            <a:off x="720720" y="270000"/>
            <a:ext cx="735012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cope of the worksho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720720" y="1619280"/>
            <a:ext cx="807732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Train experts (training of trainers) to deliver workshops 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improve the capability of regulatory author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t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ssess, mana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ommunic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the potential risks associated with foods derived from recombinant-DNA pla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3"/>
          <p:cNvSpPr/>
          <p:nvPr/>
        </p:nvSpPr>
        <p:spPr>
          <a:xfrm>
            <a:off x="720720" y="1619280"/>
            <a:ext cx="809640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pts and principles of safety assess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roach and frameworks of safety assess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essment of possible toxicity, possible allergenicity, and compositional 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sk communication and public policy iss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1"/>
          <p:cNvSpPr/>
          <p:nvPr/>
        </p:nvSpPr>
        <p:spPr>
          <a:xfrm>
            <a:off x="720720" y="270000"/>
            <a:ext cx="735012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resent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"/>
          <p:cNvSpPr/>
          <p:nvPr/>
        </p:nvSpPr>
        <p:spPr>
          <a:xfrm>
            <a:off x="720720" y="270000"/>
            <a:ext cx="735012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orking group sess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720720" y="1619280"/>
            <a:ext cx="809640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eak-out sessions with case studies will give participants hands-on exercises on preparing and conducting training workshop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studies includ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 810 co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TS 40-3-2 soybe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oleic acid soybe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720720" y="270000"/>
            <a:ext cx="73501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xpected outcom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720720" y="1619280"/>
            <a:ext cx="807228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shop provid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overview of the international perspectives on safety assessment of foods derived from r-DNA plants (Codex and FAO/WH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oretical and practical experience in safety assessment method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ctical information on organizing and delivering training worksho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ly trained regulators ca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hance the safety of foods, thereby not only improving the health of consumers but also ensuring the safety of foods entering international tra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720720" y="270000"/>
            <a:ext cx="737856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genda: day 1 morn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720720" y="1619280"/>
          <a:ext cx="8099280" cy="5116320"/>
        </p:xfrm>
        <a:graphic>
          <a:graphicData uri="http://schemas.openxmlformats.org/drawingml/2006/table">
            <a:tbl>
              <a:tblPr/>
              <a:tblGrid>
                <a:gridCol w="974880"/>
                <a:gridCol w="7124400"/>
              </a:tblGrid>
              <a:tr h="51732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sentation 1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Workshop overvie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roduction of the participants and traine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sentation 2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Concepts and principles of GM Food safety assessment, key international initiatives (Codex, FAO/WHO, OECD, etc.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i="1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i="1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ffee brea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540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 marL="333360" indent="-333360">
                        <a:lnSpc>
                          <a:spcPts val="1800"/>
                        </a:lnSpc>
                        <a:tabLst>
                          <a:tab algn="l" pos="0"/>
                          <a:tab algn="l" pos="334800"/>
                          <a:tab algn="l" pos="792000"/>
                          <a:tab algn="l" pos="1249200"/>
                          <a:tab algn="l" pos="1706400"/>
                          <a:tab algn="l" pos="2163600"/>
                          <a:tab algn="l" pos="2620800"/>
                          <a:tab algn="l" pos="3078000"/>
                          <a:tab algn="l" pos="3535200"/>
                          <a:tab algn="l" pos="3992400"/>
                          <a:tab algn="l" pos="4449600"/>
                          <a:tab algn="l" pos="4906800"/>
                          <a:tab algn="l" pos="5364000"/>
                          <a:tab algn="l" pos="5821200"/>
                          <a:tab algn="l" pos="6278400"/>
                          <a:tab algn="l" pos="6735600"/>
                          <a:tab algn="l" pos="7192800"/>
                          <a:tab algn="l" pos="7650000"/>
                          <a:tab algn="l" pos="8107200"/>
                          <a:tab algn="l" pos="8564400"/>
                          <a:tab algn="l" pos="9021600"/>
                          <a:tab algn="l" pos="94788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roduction of three case stud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33360" indent="-333360">
                        <a:lnSpc>
                          <a:spcPts val="1800"/>
                        </a:lnSpc>
                        <a:tabLst>
                          <a:tab algn="l" pos="0"/>
                          <a:tab algn="l" pos="334800"/>
                          <a:tab algn="l" pos="792000"/>
                          <a:tab algn="l" pos="1249200"/>
                          <a:tab algn="l" pos="1706400"/>
                          <a:tab algn="l" pos="2163600"/>
                          <a:tab algn="l" pos="2620800"/>
                          <a:tab algn="l" pos="3078000"/>
                          <a:tab algn="l" pos="3535200"/>
                          <a:tab algn="l" pos="3992400"/>
                          <a:tab algn="l" pos="4449600"/>
                          <a:tab algn="l" pos="4906800"/>
                          <a:tab algn="l" pos="5364000"/>
                          <a:tab algn="l" pos="5821200"/>
                          <a:tab algn="l" pos="6278400"/>
                          <a:tab algn="l" pos="6735600"/>
                          <a:tab algn="l" pos="7192800"/>
                          <a:tab algn="l" pos="7650000"/>
                          <a:tab algn="l" pos="8107200"/>
                          <a:tab algn="l" pos="8564400"/>
                          <a:tab algn="l" pos="9021600"/>
                          <a:tab algn="l" pos="94788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33360" indent="-333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334800"/>
                          <a:tab algn="l" pos="792000"/>
                          <a:tab algn="l" pos="1249200"/>
                          <a:tab algn="l" pos="1706400"/>
                          <a:tab algn="l" pos="2163600"/>
                          <a:tab algn="l" pos="2620800"/>
                          <a:tab algn="l" pos="3078000"/>
                          <a:tab algn="l" pos="3535200"/>
                          <a:tab algn="l" pos="3992400"/>
                          <a:tab algn="l" pos="4449600"/>
                          <a:tab algn="l" pos="4906800"/>
                          <a:tab algn="l" pos="5364000"/>
                          <a:tab algn="l" pos="5821200"/>
                          <a:tab algn="l" pos="6278400"/>
                          <a:tab algn="l" pos="6735600"/>
                          <a:tab algn="l" pos="7192800"/>
                          <a:tab algn="l" pos="7650000"/>
                          <a:tab algn="l" pos="8107200"/>
                          <a:tab algn="l" pos="8564400"/>
                          <a:tab algn="l" pos="9021600"/>
                          <a:tab algn="l" pos="94788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M Insect Resistant Corn Event MON 8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33360" indent="-333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334800"/>
                          <a:tab algn="l" pos="792000"/>
                          <a:tab algn="l" pos="1249200"/>
                          <a:tab algn="l" pos="1706400"/>
                          <a:tab algn="l" pos="2163600"/>
                          <a:tab algn="l" pos="2620800"/>
                          <a:tab algn="l" pos="3078000"/>
                          <a:tab algn="l" pos="3535200"/>
                          <a:tab algn="l" pos="3992400"/>
                          <a:tab algn="l" pos="4449600"/>
                          <a:tab algn="l" pos="4906800"/>
                          <a:tab algn="l" pos="5364000"/>
                          <a:tab algn="l" pos="5821200"/>
                          <a:tab algn="l" pos="6278400"/>
                          <a:tab algn="l" pos="6735600"/>
                          <a:tab algn="l" pos="7192800"/>
                          <a:tab algn="l" pos="7650000"/>
                          <a:tab algn="l" pos="8107200"/>
                          <a:tab algn="l" pos="8564400"/>
                          <a:tab algn="l" pos="9021600"/>
                          <a:tab algn="l" pos="94788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M High Oleic Acid Soybea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33360" indent="-333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334800"/>
                          <a:tab algn="l" pos="792000"/>
                          <a:tab algn="l" pos="1249200"/>
                          <a:tab algn="l" pos="1706400"/>
                          <a:tab algn="l" pos="2163600"/>
                          <a:tab algn="l" pos="2620800"/>
                          <a:tab algn="l" pos="3078000"/>
                          <a:tab algn="l" pos="3535200"/>
                          <a:tab algn="l" pos="3992400"/>
                          <a:tab algn="l" pos="4449600"/>
                          <a:tab algn="l" pos="4906800"/>
                          <a:tab algn="l" pos="5364000"/>
                          <a:tab algn="l" pos="5821200"/>
                          <a:tab algn="l" pos="6278400"/>
                          <a:tab algn="l" pos="6735600"/>
                          <a:tab algn="l" pos="7192800"/>
                          <a:tab algn="l" pos="7650000"/>
                          <a:tab algn="l" pos="8107200"/>
                          <a:tab algn="l" pos="8564400"/>
                          <a:tab algn="l" pos="9021600"/>
                          <a:tab algn="l" pos="94788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M Herbicide Tolerant Soybea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signing working group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i="1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i="1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unc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"/>
          <p:cNvSpPr/>
          <p:nvPr/>
        </p:nvSpPr>
        <p:spPr>
          <a:xfrm>
            <a:off x="720720" y="270000"/>
            <a:ext cx="737856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genda: day 1 afterno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20720" y="1619280"/>
          <a:ext cx="8099280" cy="4933800"/>
        </p:xfrm>
        <a:graphic>
          <a:graphicData uri="http://schemas.openxmlformats.org/drawingml/2006/table">
            <a:tbl>
              <a:tblPr/>
              <a:tblGrid>
                <a:gridCol w="973080"/>
                <a:gridCol w="7126200"/>
              </a:tblGrid>
              <a:tr h="871560">
                <a:tc>
                  <a:txBody>
                    <a:bodyPr lIns="90000" rIns="90000" tIns="10800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800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sentation 3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The comparative approach and the framework for the safety assessment of GM food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79720">
                <a:tc>
                  <a:txBody>
                    <a:bodyPr lIns="90000" rIns="90000" tIns="10800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800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orking group session 1</a:t>
                      </a: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Using case studies, identify the description and review the sufficiency of the information on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cription of the recombinant-DNA pla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cription of the host plant and its use as foo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cription of the donor organism(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cription of the genetic modification(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9760">
                <a:tc>
                  <a:txBody>
                    <a:bodyPr lIns="90000" rIns="90000" tIns="10800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i="1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800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i="1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ffee brea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760">
                <a:tc>
                  <a:txBody>
                    <a:bodyPr lIns="90000" rIns="90000" tIns="10800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800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enary session 1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Report back and discussion for WG Session 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10800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0800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mmary and Conclusions of Day 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720720" y="270000"/>
            <a:ext cx="737856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genda: day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720720" y="1619280"/>
          <a:ext cx="8099280" cy="4933800"/>
        </p:xfrm>
        <a:graphic>
          <a:graphicData uri="http://schemas.openxmlformats.org/drawingml/2006/table">
            <a:tbl>
              <a:tblPr/>
              <a:tblGrid>
                <a:gridCol w="974880"/>
                <a:gridCol w="7124400"/>
              </a:tblGrid>
              <a:tr h="90216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sentation 4</a:t>
                      </a: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Characterization of the genetic modification(s), assessment of possible toxicity &amp; allergenicity, and compositional analysis of key componen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96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orking group session 2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Evaluate possible toxic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20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i="1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unc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04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enary session 2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Report bac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48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orking group session 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</a:t>
                      </a: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sible allergenic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04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i="1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ffee brea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96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enary session 3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Report bac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108000" bIns="1080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mmary and Conclusions of Day 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1T14:29:00Z</dcterms:created>
  <dc:creator>Takeuchi, Masami (AGNS)</dc:creator>
  <dc:description/>
  <dc:language>en-US</dc:language>
  <cp:lastModifiedBy>Claudio</cp:lastModifiedBy>
  <dcterms:modified xsi:type="dcterms:W3CDTF">2009-10-03T10:04:51Z</dcterms:modified>
  <cp:revision>179</cp:revision>
  <dc:subject/>
  <dc:title>Concepts and Principles of GM Food Safety Assessment</dc:title>
</cp:coreProperties>
</file>