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F3ED6-5428-4FAA-B058-C797A83CD8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1532D-5747-459B-A7F2-4325BC8A3F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6D8A5-F3A8-4F82-9005-9F7613B420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A1EF6-D6EE-4B79-BF90-FABAFA0E8D1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ED377-9EE4-4058-9AF0-9D9527C49F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2DF24B-8B2F-43AC-A2D2-A2B8EF7802D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D7F3A-4C8B-4DDC-AA32-5FA2BA2087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20A72-36C1-4F56-B22F-10BA2DFA490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2AD81-D298-419D-8EA3-C8F0427380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C7887-6D19-47E5-B8E5-5869FC6629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ABF38-B646-43FA-BF41-882010A0442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A43DE-FAFF-400A-9DB9-E89A9EFCDCE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9E6B5-DA8F-40BD-9683-7BDCEDC135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8A17D-CAD5-47EA-8F66-B49E89CA04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CADEE-3997-4FC5-8063-981F759A3B3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93912-A8DA-452F-AB4F-FB90E507088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D4C12-6557-479C-9DDE-A60CE8E6C23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Characterization of GM, assessment of possible toxicity &amp; allergenicity and compositional analysis</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4</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mportant parameters</a:t>
            </a:r>
            <a:endParaRPr b="0" lang="en-US" sz="3600" spc="-1" strike="noStrike">
              <a:solidFill>
                <a:srgbClr val="ffffff"/>
              </a:solidFill>
              <a:latin typeface="Arial"/>
            </a:endParaRPr>
          </a:p>
        </p:txBody>
      </p:sp>
      <p:sp>
        <p:nvSpPr>
          <p:cNvPr id="10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ource of the protei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mino acid sequence homology</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epsin resistanc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pecific serum screening</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ks on toxicity and allergenicity assessment</a:t>
            </a:r>
            <a:endParaRPr b="0" lang="en-US" sz="3600" spc="-1" strike="noStrike">
              <a:solidFill>
                <a:srgbClr val="ffffff"/>
              </a:solidFill>
              <a:latin typeface="Arial"/>
            </a:endParaRPr>
          </a:p>
        </p:txBody>
      </p:sp>
      <p:sp>
        <p:nvSpPr>
          <p:cNvPr id="11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Quality assurance</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t is very important that the organizational process and the conditions under which lab studies are planned, performed, monitored, recorded &amp; reported are according to the principles of GLP</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oxicology studies: it is important to establish the relationship of changes in physiological parameters measured to the dose levels of the tested compound</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Other methods &amp; tool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s scientific knowledge and technology evolve, other methods and tools may be considered in assessing the allergenicity potential of newly expressed protein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positional analysis</a:t>
            </a:r>
            <a:endParaRPr b="0" lang="en-US" sz="3600" spc="-1" strike="noStrike">
              <a:solidFill>
                <a:srgbClr val="ffffff"/>
              </a:solidFill>
              <a:latin typeface="Arial"/>
            </a:endParaRPr>
          </a:p>
        </p:txBody>
      </p:sp>
      <p:sp>
        <p:nvSpPr>
          <p:cNvPr id="113"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oth beneficial and harmful components in the human die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bioactive non-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ntinutrie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oxica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ontaminant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ther potentially useful and dangerous element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t is important to decide which nutrients/elements to focus the evaluation o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6</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ood processing</a:t>
            </a:r>
            <a:endParaRPr b="0" lang="en-US" sz="3600" spc="-1" strike="noStrike">
              <a:solidFill>
                <a:srgbClr val="ffffff"/>
              </a:solidFill>
              <a:latin typeface="Arial"/>
            </a:endParaRPr>
          </a:p>
        </p:txBody>
      </p:sp>
      <p:sp>
        <p:nvSpPr>
          <p:cNvPr id="115"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 47</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cessing methods can cause a significant variation in the nutrient content of a food</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dern separation techniques (milling, centrifugation, pressing, etc.) change the nutritional conten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Heating techniques may reduce the content of many heat-labile nutrients (vitamins, phytochemicals, etc.)</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utritional modification</a:t>
            </a:r>
            <a:endParaRPr b="0" lang="en-US" sz="3600" spc="-1" strike="noStrike">
              <a:solidFill>
                <a:srgbClr val="ffffff"/>
              </a:solidFill>
              <a:latin typeface="Arial"/>
            </a:endParaRPr>
          </a:p>
        </p:txBody>
      </p:sp>
      <p:sp>
        <p:nvSpPr>
          <p:cNvPr id="117"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8</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5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or r-DNA plants that were intentionally developed to have altered nutrients, the aim of the nutritional evaluation is to demonstrate that there are no unintentional changes (bioavailability et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mpositional differences are likely to be greater – thus current methods for safety assessment may be found limiting because nutritionally modified crops will not be substantially equivalent to their conventional counterparts, and will share fewer compositional values for comparison</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New analytical methods</a:t>
            </a:r>
            <a:endParaRPr b="0" lang="en-US" sz="3600" spc="-1" strike="noStrike">
              <a:solidFill>
                <a:srgbClr val="ffffff"/>
              </a:solidFill>
              <a:latin typeface="Arial"/>
            </a:endParaRPr>
          </a:p>
        </p:txBody>
      </p:sp>
      <p:sp>
        <p:nvSpPr>
          <p:cNvPr id="11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urther improvement of methodologies and more sensitive techniques allow detection of unintended alterations in the composition that were once undetectabl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utility and applicability of the non-targeted techniques for risk assessment need further exploration in validating the relevance to food safety of observed chang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filing methods are not yet suitable for risk assessment purposes, but if validated they may be useful to confirm and supplement other data</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ea typeface="Times New Roman"/>
              </a:rPr>
              <a:t>Using case studies:</a:t>
            </a:r>
            <a:endParaRPr b="0" lang="en-US" sz="32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 </a:t>
            </a:r>
            <a:r>
              <a:rPr b="0" lang="en-US" sz="2800" spc="-1" strike="noStrike">
                <a:solidFill>
                  <a:srgbClr val="000000"/>
                </a:solidFill>
                <a:latin typeface="Times New Roman"/>
                <a:ea typeface="Times New Roman"/>
              </a:rPr>
              <a:t>the toxicity studies, and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possible tox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 </a:t>
            </a:r>
            <a:r>
              <a:rPr b="0" lang="en-US" sz="2800" spc="-1" strike="noStrike">
                <a:solidFill>
                  <a:srgbClr val="000000"/>
                </a:solidFill>
                <a:latin typeface="Times New Roman"/>
                <a:ea typeface="Times New Roman"/>
              </a:rPr>
              <a:t>the allergenicity studies, and then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possible allergen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identify</a:t>
            </a:r>
            <a:r>
              <a:rPr b="0" lang="en-US" sz="2800" spc="-1" strike="noStrike">
                <a:solidFill>
                  <a:srgbClr val="000000"/>
                </a:solidFill>
                <a:latin typeface="Times New Roman"/>
                <a:ea typeface="Times New Roman"/>
              </a:rPr>
              <a:t> the description of compositional analysis, and then </a:t>
            </a:r>
            <a:r>
              <a:rPr b="1" lang="en-US" sz="2800" spc="-1" strike="noStrike">
                <a:solidFill>
                  <a:srgbClr val="000000"/>
                </a:solidFill>
                <a:latin typeface="Times New Roman"/>
                <a:ea typeface="Times New Roman"/>
              </a:rPr>
              <a:t>evaluate</a:t>
            </a:r>
            <a:r>
              <a:rPr b="0" lang="en-US" sz="2800" spc="-1" strike="noStrike">
                <a:solidFill>
                  <a:srgbClr val="000000"/>
                </a:solidFill>
                <a:latin typeface="Times New Roman"/>
                <a:ea typeface="Times New Roman"/>
              </a:rPr>
              <a:t> the analysi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the methodology of characterization of the genetic modifica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y of toxicity assessment including animal studi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y of potential allergenicity assessment including important parameter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methodologies of compositional analysis, evaluation of metabolites, food processing and nutritional modificat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haracterization of the Genetic Modification(s)</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ea typeface="Times New Roman"/>
              </a:rPr>
              <a:t>Codex Guideline paragraphs 30</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3</a:t>
            </a:r>
            <a:endParaRPr b="0" lang="en-US" sz="32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lecular analysi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andomly generated plant transformation event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ansgene detection using event-specific primer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tent of refinement at the current level of the technology</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3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0</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Key consideration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otein expression product(s) of the inserted gene(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ffects resulting from disruption of gene expression due to insertion of donor DNA into the host genome</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ention to determine safety: as safe as the conventional counterpar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e.g. conventional soybean has the potential to affect endocrine functions – GM soybean with an equivalent composition would have the same potential</a:t>
            </a:r>
            <a:endParaRPr b="0" lang="en-US" sz="24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Toxicity</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600" spc="-1" strike="noStrike">
                <a:solidFill>
                  <a:srgbClr val="000000"/>
                </a:solidFill>
                <a:latin typeface="Arial"/>
              </a:rPr>
              <a:t>In vitro</a:t>
            </a:r>
            <a:r>
              <a:rPr b="0" lang="en-US" sz="3600" spc="-1" strike="noStrike">
                <a:solidFill>
                  <a:srgbClr val="000000"/>
                </a:solidFill>
                <a:latin typeface="Arial"/>
              </a:rPr>
              <a:t> studies</a:t>
            </a:r>
            <a:endParaRPr b="0" lang="en-US" sz="3600" spc="-1" strike="noStrike">
              <a:solidFill>
                <a:srgbClr val="ffffff"/>
              </a:solidFill>
              <a:latin typeface="Arial"/>
            </a:endParaRPr>
          </a:p>
        </p:txBody>
      </p:sp>
      <p:sp>
        <p:nvSpPr>
          <p:cNvPr id="99" name="Text Box 2"/>
          <p:cNvSpPr/>
          <p:nvPr/>
        </p:nvSpPr>
        <p:spPr>
          <a:xfrm>
            <a:off x="720720" y="1619280"/>
            <a:ext cx="8082000" cy="5186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vel proteins (as opposed to other chemical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redictable metabolic fate in the human/animal gut</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Times New Roman"/>
                <a:ea typeface="Times New Roman"/>
              </a:rPr>
              <a:t>in vitro</a:t>
            </a:r>
            <a:r>
              <a:rPr b="0" lang="en-US" sz="2400" spc="-1" strike="noStrike">
                <a:solidFill>
                  <a:srgbClr val="000000"/>
                </a:solidFill>
                <a:latin typeface="Times New Roman"/>
                <a:ea typeface="Times New Roman"/>
              </a:rPr>
              <a:t> digestibility assay – indicates the likelihood of a protein having characteristics unusual for dietary protein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f a protein is shown to be resistant to typical digestive fluid: significant for proteins with potentially adverse biological activities (toxicity or allergenicity)</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Proteins that exhibit toxicity generally exert their effect in a short time frame – acute toxicity tests are considered adequat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nimal studies</a:t>
            </a:r>
            <a:endParaRPr b="0" lang="en-US" sz="3600" spc="-1" strike="noStrike">
              <a:solidFill>
                <a:srgbClr val="ffffff"/>
              </a:solidFill>
              <a:latin typeface="Arial"/>
            </a:endParaRPr>
          </a:p>
        </p:txBody>
      </p:sp>
      <p:sp>
        <p:nvSpPr>
          <p:cNvPr id="101"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ajor element of the safety assessment of many compounds: pesticides, pharmaceuticals, chemicals, food additives, etc.</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ce: known purity, no nutritional valu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10</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2 and 5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ifficulties: foods are complex mixtures of compounds in composition and nutritional value – identifying potential adverse effects in animal studies without appropriate control treatments is extremely difficult</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enicity (proteins)</a:t>
            </a:r>
            <a:endParaRPr b="0" lang="en-US" sz="3600" spc="-1" strike="noStrike">
              <a:solidFill>
                <a:srgbClr val="ffffff"/>
              </a:solidFill>
              <a:latin typeface="Arial"/>
            </a:endParaRPr>
          </a:p>
        </p:txBody>
      </p:sp>
      <p:sp>
        <p:nvSpPr>
          <p:cNvPr id="10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Guideline paragraphs 41</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e food allergies may involve several types of immunological respons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Most common types: allergen-specific immunoglobulin E (IgE) antibodies</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llergenicity (proteins) </a:t>
            </a:r>
            <a:r>
              <a:rPr b="0" i="1" lang="en-US" sz="2800" spc="-1" strike="noStrike">
                <a:solidFill>
                  <a:srgbClr val="000000"/>
                </a:solidFill>
                <a:latin typeface="Arial"/>
              </a:rPr>
              <a:t>(cont.)</a:t>
            </a:r>
            <a:endParaRPr b="0" lang="en-US" sz="28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rue food allergies may also include cell-mediated reac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has adopted a list of the most common allergenic foods associated with IgE-mediated reaction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GM food crops can introduce potential allergenicity into the human die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Codex recommends that an integrated, stepwise, case-by-case approach be used in the assessment of possible allergenicity of GM food</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ssessment strategy</a:t>
            </a:r>
            <a:endParaRPr b="0" lang="en-US" sz="36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step: the determination of:</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the source of the introduced protein</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ny significant similarity between the amino acid sequence of the protein and that of known allergen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ts structural propertie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o single test can predict the likely human IgE response to oral exposure</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solation of any newly expressed proteins from the r-DNA plant in order to characterize the protein</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mportant to establish whether the source is known to cause allergic reaction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25:54Z</dcterms:created>
  <dc:creator>Takeuchi, Masami (AGNS)</dc:creator>
  <dc:description/>
  <dc:language>en-US</dc:language>
  <cp:lastModifiedBy>Claudio</cp:lastModifiedBy>
  <dcterms:modified xsi:type="dcterms:W3CDTF">2009-10-03T10:13:04Z</dcterms:modified>
  <cp:revision>176</cp:revision>
  <dc:subject/>
  <dc:title>Concepts and Principles of GM Food Safety Assessment</dc:title>
</cp:coreProperties>
</file>