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8A4-BECB-44A6-AC27-2DAD31DF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410-55F4-42D9-86EA-D6B79CB1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C45-8F89-452D-BF19-5BBF0E48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182-F730-45C1-8BB3-A56C4A6E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D76-FA51-4CF3-A3AB-447CB39D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143-75CC-47F0-993B-D90B823C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849-94C7-4A01-8319-3EF99A9A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2DB-DE66-49B0-A8BD-45E437A5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F54-7092-4857-BB8C-ACDD64DB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1D3-48EE-45C2-9D7C-77B8E20A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947-4011-4891-A1A2-5207E8E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047-7CE8-459D-9BB5-C27FF793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7E34-056D-4663-AFB7-AFD75D29D3B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25T08:34:23Z</dcterms:modified>
  <cp:revision>7</cp:revision>
  <dc:subject/>
  <dc:title>Presentazione di PowerPoint</dc:title>
</cp:coreProperties>
</file>