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F66-1875-409F-B20F-A6D6D5C2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B97-F5EB-486A-BB87-ACE176CA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EA9-392C-4569-801E-85F3D8D4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BD6-D63A-4925-A63B-D245AB55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CF3-60D4-431A-A9F3-8EA59D47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611-5F26-4311-81A3-7DBDCCF1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9C1-83C5-4249-9A56-B5AEE3EB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B74-806A-45BA-BE8D-D1E740CA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1F0-CF08-4B46-9EAD-D228EB54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4C0-0D11-4256-83E9-66C5DA2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F13-C7AD-4FFA-BAC4-02BF7A6A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5D5-8A00-4191-A4FC-46195E9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FB0C-23F2-4DB6-BD9B-B0D40F4AF71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08:50:28Z</dcterms:modified>
  <cp:revision>9</cp:revision>
  <dc:subject/>
  <dc:title>Presentazione di PowerPoint</dc:title>
</cp:coreProperties>
</file>