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947-7231-4846-B30C-4241C01E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130-2F30-4B13-B5BB-830FFE48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AE4-9B79-4048-9A10-4A0ABDD7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925-D88B-4679-81D6-D7B62B3C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B45-D2CC-46CD-9A90-15833208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0B2-FC15-4867-9B03-1CD5C87A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8F3-E96F-4C72-9799-B2FEA89F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1A5-E576-4BAD-BAEB-4B7A0A28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717-35B0-47C8-99A1-602ECCD7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29B-6E2F-46CD-ADDD-57BB96C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4BC-E2A0-40EE-8420-E565F04D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ADE-255C-419B-9FCF-47CD146C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B21B-43CE-4216-BA1F-7F3E9ADE9DE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08:58:11Z</dcterms:modified>
  <cp:revision>7</cp:revision>
  <dc:subject/>
  <dc:title>Presentazione di PowerPoint</dc:title>
</cp:coreProperties>
</file>