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5FD-8284-474D-83A2-C9ADCEF8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AB5-B5BF-478A-BC9E-2E7E0EEE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BD3-0553-4ED2-B861-EE799360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16E-0845-47E1-A323-7F312537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4AF-D8DA-432C-AE19-F493EE21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A40-C3F7-42A3-80CF-889A1BD0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7A8-A60A-4201-8C3E-34462633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756-210F-489A-B14D-8D1BE74F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E2D-6E6B-4D4D-AB58-77BA3C68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C7E-ED36-4DFD-B93F-F4985B75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CAC-0FF7-4F60-B543-73FD4C0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532-FD1C-4EE5-A52E-6D276C30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1704-14B1-407B-8196-666DF669A21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09:28:49Z</dcterms:modified>
  <cp:revision>9</cp:revision>
  <dc:subject/>
  <dc:title>Presentazione di PowerPoint</dc:title>
</cp:coreProperties>
</file>