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479-2EE0-4E96-815D-D3FB2931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73A-11DA-4D4A-9B22-E62B4DF1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C26-6BEC-424C-9A60-6321F10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768-E51A-4F81-B28A-4EA865BB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13F-9F38-4922-BD7B-8733C038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8DB-AEE2-427D-9728-AFC73BB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62A-1940-4EA3-85B3-17B657F5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6C9-941F-4E16-B6A0-38410D7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588-BA51-45E2-B9E8-EFB518F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6B7-4822-4910-B3AF-D6A0282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752-3129-40A5-A856-7C07BB9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10F-26B1-40D2-B0E8-45F6D83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B111-B561-477D-8A03-8855411C3F0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10:36:38Z</dcterms:modified>
  <cp:revision>8</cp:revision>
  <dc:subject/>
  <dc:title>Presentazione di PowerPoint</dc:title>
</cp:coreProperties>
</file>