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E4A-CA24-4717-9EE0-70180B36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D13A-90C8-4546-A68B-D0DD73B1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8C4-ECA6-476C-9DD1-FFC85057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F8E7-429D-466C-A70B-F9FA2F7D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705-5F7B-4A46-8552-CE037DB6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C0DE-E7BD-48D4-8951-B8345C4B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141-5F0F-415A-8788-DBADC178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6CC-E459-4AFF-8A9E-9EA50023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231-B49D-4CDA-903E-6BB9DB6E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543-D89E-48CE-9BFA-AEAF3DC2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630-1416-4A96-AC11-A5B5332B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52F-B288-4587-A2AF-EB2D8B64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798C-794D-4510-A293-4432884BE6C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224000"/>
            <a:ext cx="553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a84eb7"/>
                </a:solidFill>
                <a:latin typeface="Lucida Sans"/>
              </a:rPr>
              <a:t>Heading h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2367000"/>
            <a:ext cx="868680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a84eb7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84eb7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in text main text tanto va la gatta al lardo che ci lascia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lo zampino main text tanto va la gatta al lardo che ci lascia lo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zamp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a84eb7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84eb7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in text main text tanto va la gatta al lardo che ci lascia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lo zamp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a84eb7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84eb7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in text main text tanto va la gatta al lardo che ci lascia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lo zampino main text tanto va la gatta al lardo che ci lascia lo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zamp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15000" y="6405480"/>
            <a:ext cx="3124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a84eb7"/>
                </a:solidFill>
                <a:latin typeface="Lucida Sans"/>
              </a:rPr>
              <a:t>Module ? / diapositive ?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09-25T10:39:35Z</dcterms:modified>
  <cp:revision>8</cp:revision>
  <dc:subject/>
  <dc:title>Presentazione di PowerPoint</dc:title>
</cp:coreProperties>
</file>