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8387-A7C9-4E76-8B56-751082BB1E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B218-FA9D-4740-9BB5-28234EA92B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5EC7-935F-4EC3-880A-758767D946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51F28-5BC6-4549-969F-BFE64479EE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01B67-1579-4568-B00A-A98173FDCE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C988-32A2-4000-8ED8-FE538F628A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8871E-96F2-4644-A013-5761F06C15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9E07F-F0ED-4B42-8543-5CF311882B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F549C-F4DA-4FEE-927B-BF394CEADE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F6509-817F-47DD-95CF-C97DA7A507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146B0-D54C-4CB0-BC5E-34ECC0A8C7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FD9B8-2AF0-48CF-B945-9F6B838198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Aperçu de l’Atel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dule de présenta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me: Jour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50706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1039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4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aractérisation de la ou des modification(s) génétique(s), évaluation de la toxicité éventuelle et de l’allergénicité potentielle, et analyse de la composition des principaux constitu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2 du Groupe de travail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Évaluer la toxicité éventuel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2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3 du Groupe de travail. Allergénicité potentiel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3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hèse et conclusion du Jour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me: Jour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0720" y="1619280"/>
          <a:ext cx="8099280" cy="513720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4 du Groupe de travail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L’analyse de la com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4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5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munication sur les ris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5 du Groupe de travail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 l’aide des études de c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onner une définition stratégique de la communication sur les risqu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parer un exposé des décisions à l’intention du grand 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5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mpte-ren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Évaluation de l’atelier, certificats, remarques de conclusion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lôture de l’atel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Objectifs de l’Atel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er la mise en oeuv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incipes et directi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ement recon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ager 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ériences des méthodes de réglementation et d’évaluation de la sécurité sanitaire des aliments, entre de nombreux 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ortée de l’Atel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er des experts (formation de formateurs) pour animer des ateliers visant 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éliorer les capacités des autorités réglement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évaluer, gér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communiqu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s risques liés aux aliments dérivés de plantes à ADN recombin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et principes de l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et cadres de l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 la toxicité éventuelle, de l’allergénicité potentielle et analyses de la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sur les risques et considérations de politique publ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ésen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Sessions du Groupe de trav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éunions en petits groupes, avec des études de cas, permettront aux participants de faire des travaux pratiques sur la préparation et la conduite d’ateliers d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jets des études de 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maïs MON 8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ja GTS 40-3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ja à haute teneur en acide olé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ltats escomp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telier fourni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vue d’ensemble des perspectives internationales concernant la sécurité sanitaire des aliments dérivés de plantes à ADN recombiné (Codex et FAO/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expérience théorique et pratique de la méthodologie d’évaluation de la sécurité san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informations pratiques sur l’organisation et l‘exécution des ateliers d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ltats escompté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f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esponsables qualifiés peuv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forcer la sécurité sanitaire des aliments, et ce faisant, non seulement améliorer la santé des consommateurs, mais aussi garantir la sécurité sanitaire des aliments mis sur le marché inter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: Jour 1 – mat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50785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1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perçu de l’Atel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des participants et des formate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2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Concepts et principes de l’évaluation de la sécurité sanitaire des aliments transgéniques, principales initiatives internationales (CODEX, FAO/OMS, OCDE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des trois études de c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Évènement de transformation MON 810 – maïs génétiquement modifié résistant aux insec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oja à haute teneur en acide olé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oja transgénique résistant aux herbic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âches des groupes de trav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jeu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me: Jour 1 – après-mi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499104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715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ésentation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: Approche comparative et cadre de l’évaluation 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la sécurité sanitaire des aliments transgéniq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6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1 du Groupe de travail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À l’aide des études de cas, identifier la description des éléments suivants, et déterminer si les informations correspondantes sont suffisante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plante à ADN recomb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plante-hôte et de son utilisation comme ali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u ou des organisme(s) donneur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ption de la (des) modification(s) génétique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sé caf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ssion plénière 1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mpte-rendu et discussion de la Session 1 du G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hèse et conclusion du Jour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7:54Z</dcterms:created>
  <dc:creator>Takeuchi, Masami (AGNS)</dc:creator>
  <dc:description/>
  <dc:language>en-US</dc:language>
  <cp:lastModifiedBy>Claudio</cp:lastModifiedBy>
  <dcterms:modified xsi:type="dcterms:W3CDTF">2009-10-03T09:08:59Z</dcterms:modified>
  <cp:revision>201</cp:revision>
  <dc:subject/>
  <dc:title>Concepts and Principles of GM Food Safety Assessment</dc:title>
</cp:coreProperties>
</file>