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314F9-EDD8-4C0E-B730-C07E1C879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E1503-5FC0-4063-BE4C-42011A7CB72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9"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EA127-A730-40D8-94B7-8D90D65DEEF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7C90B-9135-48DD-AFCA-6787B1F66E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AF75B-858E-4394-AB57-58B41D940B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C9596-F208-4BF8-8D1A-0CD82FAE84E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0370D-75DE-4ACF-BD40-19B611FED4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9ADF4-372F-41B3-8AC5-C2A18E0FCCF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E547A-D079-4464-B854-E9479FF9149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A4048-61C8-4F13-9C85-B6F29BCADA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0649D-7FBE-4921-9190-09990620266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6F8D63-2D2D-467A-B4D6-2A5D014954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5AFC2-53D8-4B32-9624-8733C466050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02EB4-C586-45D9-BA08-D7CDBEFC31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63BB1-A449-4152-83D2-80D2648D838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FA74B-3208-4569-AF48-8F998DF540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4A5D4-50BD-4622-9104-C904DF80C6A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095E4-11C2-45CF-ADD1-D750F32505F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2173E-830F-4BA7-938C-9D174B6E0B2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L’approche et le cadre de l’évaluation de la sécurité sanitaire des aliments transgénique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odule de présentation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Un sujet de discussion</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question de l’utilisation appropriée du concept de l’équivalence en substance a été longuement débattue par de nombreux organes d’experts</a:t>
            </a:r>
            <a:endParaRPr b="0" lang="en-US" sz="2800" spc="-1" strike="noStrike">
              <a:solidFill>
                <a:srgbClr val="ffffff"/>
              </a:solidFill>
              <a:latin typeface="Arial"/>
            </a:endParaRPr>
          </a:p>
          <a:p>
            <a:pP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OCDE / FAO / OMS, Codex</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Institute of Food Technology, 2000</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Z Royal Commission on Genetic Modification, 2001</a:t>
            </a: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gn="r">
              <a:lnSpc>
                <a:spcPts val="2761"/>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suite)</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Un sujet de discussion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1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cadémie nationale des sciences (NAS – États-Unis)</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K Royal Society,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ociety of Toxicology Position Paper,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merican College of Nutrition, 2002</a:t>
            </a:r>
            <a:endParaRPr b="0" lang="en-US" sz="2800" spc="-1" strike="noStrike">
              <a:solidFill>
                <a:srgbClr val="ffffff"/>
              </a:solidFill>
              <a:latin typeface="Arial"/>
            </a:endParaRPr>
          </a:p>
          <a:p>
            <a:pPr marL="455760" indent="-455760">
              <a:lnSpc>
                <a:spcPts val="2761"/>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K Government Report, 2003</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doption du concept</a:t>
            </a:r>
            <a:endParaRPr b="0" lang="en-US" sz="3600" spc="-1" strike="noStrike">
              <a:solidFill>
                <a:srgbClr val="ffffff"/>
              </a:solidFill>
              <a:latin typeface="Arial"/>
            </a:endParaRPr>
          </a:p>
        </p:txBody>
      </p:sp>
      <p:sp>
        <p:nvSpPr>
          <p:cNvPr id="11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OCDE et quelques d’autres organisations internationales </a:t>
            </a:r>
            <a:r>
              <a:rPr b="0" lang="en-US" sz="2400" spc="-1" strike="noStrike">
                <a:solidFill>
                  <a:srgbClr val="000000"/>
                </a:solidFill>
                <a:latin typeface="Times New Roman"/>
                <a:ea typeface="Times New Roman"/>
              </a:rPr>
              <a:t>reconnaissent la validité de ce concept qui «contribue à l’établissement d’une base solide d’évaluation de la sécurité sanitair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a:t>
            </a:r>
            <a:r>
              <a:rPr b="1" lang="en-US" sz="2400" spc="-1" strike="noStrike">
                <a:solidFill>
                  <a:srgbClr val="000000"/>
                </a:solidFill>
                <a:latin typeface="Times New Roman"/>
                <a:ea typeface="Times New Roman"/>
              </a:rPr>
              <a:t>Groupe spécial du Codex </a:t>
            </a:r>
            <a:r>
              <a:rPr b="0" lang="en-US" sz="2400" spc="-1" strike="noStrike">
                <a:solidFill>
                  <a:srgbClr val="000000"/>
                </a:solidFill>
                <a:latin typeface="Times New Roman"/>
                <a:ea typeface="Times New Roman"/>
              </a:rPr>
              <a:t>continue à travailler sur le concept de l’équivalence substantielle dans les évaluations de la sécurité sanitaire et de la nutrition et sur d’éventuelles stratégies de substitution</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Directive du Codex</a:t>
            </a:r>
            <a:r>
              <a:rPr b="0" lang="en-US" sz="2400" spc="-1" strike="noStrike">
                <a:solidFill>
                  <a:srgbClr val="000000"/>
                </a:solidFill>
                <a:latin typeface="Times New Roman"/>
                <a:ea typeface="Times New Roman"/>
              </a:rPr>
              <a:t> contient une référence à l’équivalence substantielle (paragraphe 13), comme «une étape clé dans le processus d’évaluation de la sécurité sanitaire, qui n’est pas en soi une évaluation de sécurité sanitaire»</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imites de l’équivalence en substance</a:t>
            </a:r>
            <a:endParaRPr b="0" lang="en-US" sz="3600" spc="-1" strike="noStrike">
              <a:solidFill>
                <a:srgbClr val="ffffff"/>
              </a:solidFill>
              <a:latin typeface="Arial"/>
            </a:endParaRPr>
          </a:p>
        </p:txBody>
      </p:sp>
      <p:sp>
        <p:nvSpPr>
          <p:cNvPr id="11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Elle nécessite des données analytiques suffisantes, publiées ou tirées des analyses</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Elle dépend d’un comparateur et des éléments d’information disponibles ou pouvant être produits pour le comparateur</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e choix du comparateur est crucial pour garantir une application efficace du concept d'équivalence en substance</a:t>
            </a:r>
            <a:endParaRPr b="0" lang="en-US" sz="2800" spc="-1" strike="noStrike">
              <a:solidFill>
                <a:srgbClr val="ffffff"/>
              </a:solidFill>
              <a:latin typeface="Arial"/>
            </a:endParaRPr>
          </a:p>
          <a:p>
            <a:pPr marL="53964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Un comparateur approprié doit avoir des antécédents d’utilisation bien documenté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ques concernant l’approche comparative</a:t>
            </a:r>
            <a:endParaRPr b="0" lang="en-US" sz="3600" spc="-1" strike="noStrike">
              <a:solidFill>
                <a:srgbClr val="ffffff"/>
              </a:solidFill>
              <a:latin typeface="Arial"/>
            </a:endParaRPr>
          </a:p>
        </p:txBody>
      </p:sp>
      <p:sp>
        <p:nvSpPr>
          <p:cNvPr id="11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fférences entre l’</a:t>
            </a:r>
            <a:r>
              <a:rPr b="1" lang="en-US" sz="2400" spc="-1" strike="noStrike">
                <a:solidFill>
                  <a:srgbClr val="000000"/>
                </a:solidFill>
                <a:latin typeface="Times New Roman"/>
                <a:ea typeface="Times New Roman"/>
              </a:rPr>
              <a:t>aliment entier </a:t>
            </a:r>
            <a:r>
              <a:rPr b="0" lang="en-US" sz="2400" spc="-1" strike="noStrike">
                <a:solidFill>
                  <a:srgbClr val="000000"/>
                </a:solidFill>
                <a:latin typeface="Times New Roman"/>
                <a:ea typeface="Times New Roman"/>
              </a:rPr>
              <a:t>et les </a:t>
            </a:r>
            <a:r>
              <a:rPr b="1" lang="en-US" sz="2400" spc="-1" strike="noStrike">
                <a:solidFill>
                  <a:srgbClr val="000000"/>
                </a:solidFill>
                <a:latin typeface="Times New Roman"/>
                <a:ea typeface="Times New Roman"/>
              </a:rPr>
              <a:t>substances individuelles </a:t>
            </a:r>
            <a:r>
              <a:rPr b="0" lang="en-US" sz="2400" spc="-1" strike="noStrike">
                <a:solidFill>
                  <a:srgbClr val="000000"/>
                </a:solidFill>
                <a:latin typeface="Times New Roman"/>
                <a:ea typeface="Times New Roman"/>
              </a:rPr>
              <a:t>(additifs, pesticides, etc.)</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s évaluations de la sécurité sanitaire requièrent des approches différentes</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s aliments entiers issus de nombreuses plantes cultivées contiennent parfois des substances toxiques naturelles, des anti-nutriments – qui peuvent être importants pour la plante mais nocifs pour l’homm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Directive du Codex </a:t>
            </a:r>
            <a:r>
              <a:rPr b="0" lang="en-US" sz="2400" spc="-1" strike="noStrike">
                <a:solidFill>
                  <a:srgbClr val="000000"/>
                </a:solidFill>
                <a:latin typeface="Times New Roman"/>
                <a:ea typeface="Times New Roman"/>
              </a:rPr>
              <a:t>recommande le recours à une </a:t>
            </a:r>
            <a:r>
              <a:rPr b="1" lang="en-US" sz="2400" spc="-1" strike="noStrike">
                <a:solidFill>
                  <a:srgbClr val="000000"/>
                </a:solidFill>
                <a:latin typeface="Times New Roman"/>
                <a:ea typeface="Times New Roman"/>
              </a:rPr>
              <a:t>évaluation comparative</a:t>
            </a:r>
            <a:r>
              <a:rPr b="0" lang="en-US" sz="2400" spc="-1" strike="noStrike">
                <a:solidFill>
                  <a:srgbClr val="000000"/>
                </a:solidFill>
                <a:latin typeface="Times New Roman"/>
                <a:ea typeface="Times New Roman"/>
              </a:rPr>
              <a:t> pour déterminer la sécurité sanitaire des aliments génétiquement modifiés (aussi sûrs que l’aliment traditionnel de référence) </a:t>
            </a:r>
            <a:endParaRPr b="0" lang="en-US" sz="2400" spc="-1" strike="noStrike">
              <a:solidFill>
                <a:srgbClr val="ffffff"/>
              </a:solidFill>
              <a:latin typeface="Arial"/>
            </a:endParaRPr>
          </a:p>
          <a:p>
            <a:pPr lvl="1" marL="89532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Paragraphes 13 à 17.</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adre du Codex</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incipes pour l’analyse des risques liés aux aliments dérivés des biotechnologies modernes» (2003)</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s régissant la conduite de l’évaluation de la sécurité sanitaire des aliments dérivés de plantes à ADN recombiné» (2003)</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pproche par étapes</a:t>
            </a:r>
            <a:endParaRPr b="0" lang="en-US" sz="3600" spc="-1" strike="noStrike">
              <a:solidFill>
                <a:srgbClr val="ffffff"/>
              </a:solidFill>
              <a:latin typeface="Arial"/>
            </a:endParaRPr>
          </a:p>
        </p:txBody>
      </p:sp>
      <p:sp>
        <p:nvSpPr>
          <p:cNvPr id="12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irective </a:t>
            </a:r>
            <a:r>
              <a:rPr b="1" lang="en-US" sz="2800" spc="-1" strike="noStrike">
                <a:solidFill>
                  <a:srgbClr val="000000"/>
                </a:solidFill>
                <a:latin typeface="Times New Roman"/>
                <a:ea typeface="Times New Roman"/>
              </a:rPr>
              <a:t>paragraphes 18 à 21</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 </a:t>
            </a:r>
            <a:r>
              <a:rPr b="0" lang="en-US" sz="2800" spc="-1" strike="noStrike">
                <a:solidFill>
                  <a:srgbClr val="000000"/>
                </a:solidFill>
                <a:latin typeface="Times New Roman"/>
                <a:ea typeface="Times New Roman"/>
              </a:rPr>
              <a:t>examiner les conséquences recherchées et involontaires de la modification spécifique sur les constituants de l’aliment, par rapport à un aliment traditionnel de référence ayant un historique d’utilisation sans risque</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Données spécifiques requises</a:t>
            </a:r>
            <a:endParaRPr b="0" lang="en-US" sz="3600" spc="-1" strike="noStrike">
              <a:solidFill>
                <a:srgbClr val="ffffff"/>
              </a:solidFill>
              <a:latin typeface="Arial"/>
            </a:endParaRPr>
          </a:p>
        </p:txBody>
      </p:sp>
      <p:sp>
        <p:nvSpPr>
          <p:cNvPr id="12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plante à ADN recombiné (paragraphe 22)</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plante hôte et de son utilisation comme aliment (paragraphes 23 à 25)</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u ou des organisme(s) donneur(s) (paragraphe 26)</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Description de la ou des modification(s) génétique(s) (paragraphe 27 à 29)</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âches du Groupe de travail</a:t>
            </a:r>
            <a:endParaRPr b="0" lang="en-US" sz="3600" spc="-1" strike="noStrike">
              <a:solidFill>
                <a:srgbClr val="ffffff"/>
              </a:solidFill>
              <a:latin typeface="Arial"/>
            </a:endParaRPr>
          </a:p>
        </p:txBody>
      </p:sp>
      <p:sp>
        <p:nvSpPr>
          <p:cNvPr id="12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 l’aide des études de cas, identifier:</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plante à ADN recombiné</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plante-hôte et de son utilisation comme aliment</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u ou des organisme(s) donneur(s)</a:t>
            </a:r>
            <a:endParaRPr b="0" lang="en-US" sz="2800" spc="-1" strike="noStrike">
              <a:solidFill>
                <a:srgbClr val="ffffff"/>
              </a:solidFill>
              <a:latin typeface="Arial"/>
            </a:endParaRPr>
          </a:p>
          <a:p>
            <a:pPr lvl="1" marL="89676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la description de la (des) modification(s)  génét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uis, déterminer si les informations concernant les points ci-dessus sont suffisamment détaillée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Objectif de la présentation</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oncept d’«approche comparative» et les raisons justifiant son adoption pour l’évaluation de la sécurité sanitaire des aliments génétiquement modifié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oncept de l’«équivalence en substance», ou «équivalence substantielle» (ES), des exemples de tests basés sur ce concept, les problèmes liés à l’application du concept ES, et des informations de base relatives à l’adaptation du concept</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ésenter le cadre du Codex</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xpliquer l’approche par étapes et les données spécifiques requise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approche comparative</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Principe de base:</a:t>
            </a:r>
            <a:r>
              <a:rPr b="0" lang="en-US" sz="2800" spc="-1" strike="noStrike">
                <a:solidFill>
                  <a:srgbClr val="000000"/>
                </a:solidFill>
                <a:latin typeface="Times New Roman"/>
                <a:ea typeface="Times New Roman"/>
              </a:rPr>
              <a:t> les produits peuvent être comparés avec des aliments traditionn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Objectif:</a:t>
            </a:r>
            <a:r>
              <a:rPr b="0" lang="en-US" sz="2800" spc="-1" strike="noStrike">
                <a:solidFill>
                  <a:srgbClr val="000000"/>
                </a:solidFill>
                <a:latin typeface="Times New Roman"/>
                <a:ea typeface="Times New Roman"/>
              </a:rPr>
              <a:t> déterminer si l’aliment génétiquement modifié présente des dangers nouveaux ou accrus par rapport à l’aliment traditionnel de référenc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a:t>
            </a:r>
            <a:r>
              <a:rPr b="0" lang="en-US" sz="2800" spc="-1" strike="noStrike">
                <a:solidFill>
                  <a:srgbClr val="000000"/>
                </a:solidFill>
                <a:latin typeface="Times New Roman"/>
                <a:ea typeface="Times New Roman"/>
              </a:rPr>
              <a:t>: Il ne s’agit pas d’établir un niveau de sécurité absolu, mais relatif, de sorte que le nouveau produit offre une certitude raisonnable qu’aucun dommage ne résultera des utilisations prévu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Une évaluation de la sécurité sanitaire se fonde sur une comparaison entre un organisme à ADN recombiné et le produit traditionnel de référence, ou un contrôle par rapport à un «historique d’utilisation sans risque»</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comparaison est axée sur la détermination des similitudes et des différence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es axes de l’approche</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ept clé</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i un danger, nutritionnel ou un autre problème de sécurité sanitaire, nouveau ou modifié (notons que tous les dangers ne sont pas nouveaux, bon nombre d’entre eux étant présents dans l’aliment existant) était identifié, le risque devrait être caractérisé pour déterminer sa pertinence pour la santé humaine et animale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miliarité» et déterminatio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a:t>
            </a:r>
            <a:r>
              <a:rPr b="1" lang="en-US" sz="2800" spc="-1" strike="noStrike">
                <a:solidFill>
                  <a:srgbClr val="000000"/>
                </a:solidFill>
                <a:latin typeface="Times New Roman"/>
                <a:ea typeface="Times New Roman"/>
              </a:rPr>
              <a:t>familiarité</a:t>
            </a:r>
            <a:r>
              <a:rPr b="0" lang="en-US" sz="2800" spc="-1" strike="noStrike">
                <a:solidFill>
                  <a:srgbClr val="000000"/>
                </a:solidFill>
                <a:latin typeface="Times New Roman"/>
                <a:ea typeface="Times New Roman"/>
              </a:rPr>
              <a:t> s’entend de la connaissance des caractéristiques d’une espèce et de l’expérience de son utilisation</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 </a:t>
            </a:r>
            <a:r>
              <a:rPr b="1" lang="en-US" sz="2800" spc="-1" strike="noStrike">
                <a:solidFill>
                  <a:srgbClr val="000000"/>
                </a:solidFill>
                <a:latin typeface="Times New Roman"/>
                <a:ea typeface="Times New Roman"/>
              </a:rPr>
              <a:t>détermination</a:t>
            </a:r>
            <a:r>
              <a:rPr b="0" lang="en-US" sz="2800" spc="-1" strike="noStrike">
                <a:solidFill>
                  <a:srgbClr val="000000"/>
                </a:solidFill>
                <a:latin typeface="Times New Roman"/>
                <a:ea typeface="Times New Roman"/>
              </a:rPr>
              <a:t> se fonde sur la documentation scientifique et l’expérience pratique de l’organisme et des variétés ou lignées similair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dentification des effets involontaire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nouveaux produits à profil nutritionnel volontairement modifié vont nous permettre de tester notre capacité à évaluer les conséquences non intentionnelles.</a:t>
            </a:r>
            <a:endParaRPr b="0" lang="en-US" sz="28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xemples:</a:t>
            </a:r>
            <a:endParaRPr b="0" lang="en-US" sz="2800" spc="-1" strike="noStrike">
              <a:solidFill>
                <a:srgbClr val="ffffff"/>
              </a:solidFill>
              <a:latin typeface="Arial"/>
            </a:endParaRPr>
          </a:p>
          <a:p>
            <a:pPr lvl="1" marL="743040" indent="-285840">
              <a:lnSpc>
                <a:spcPct val="100000"/>
              </a:lnSpc>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riz génétiquement modifié à faible teneur en gluteline (la diminution du taux de gluteline a été associée à une augmentation non intentionnelle des taux de prolamine)</a:t>
            </a:r>
            <a:endParaRPr b="0" lang="en-US" sz="2400" spc="-1" strike="noStrike">
              <a:solidFill>
                <a:srgbClr val="ffffff"/>
              </a:solidFill>
              <a:latin typeface="Arial"/>
            </a:endParaRPr>
          </a:p>
          <a:p>
            <a:pPr lvl="1" marL="743040" indent="-285840">
              <a:lnSpc>
                <a:spcPct val="100000"/>
              </a:lnSpc>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le «riz doré» génétiquement modifié (conçu pour exprimer des taux accrus de bêta-carotène, mais de façon inattendue, on a constaté que cette modification s’accompagnait de taux plus élevés de xanthophyll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Équivalence en substance</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 été décrite pour la première fois dans une publication de l’Organisation de coopération et de développement économiques (OCDE) en 1993</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60 experts de 19 pays ont étudié pendant plus de deux ans la manière d’évaluer la sécurité des aliments génétiquement modifiés</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concept d’équivalence en substance a par la suite été approuvé par une consultation mixte d’experts FAO/OMS en 1996</a:t>
            </a:r>
            <a:endParaRPr b="0" lang="en-US" sz="2400" spc="-1" strike="noStrike">
              <a:solidFill>
                <a:srgbClr val="ffffff"/>
              </a:solidFill>
              <a:latin typeface="Arial"/>
            </a:endParaRPr>
          </a:p>
          <a:p>
            <a:pPr marL="455760" indent="-455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 concept de familiarité a été le précurseur du concept de l’équivalence en substance, une approche développée par certaines juridictions dans le cadre du processus d’évaluation des risque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cept clé</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équivalence en substance est l’un des nombreux outils utilisés dans le cadre du processus de réglementation pour prendre des décisions sur des caractéristiques déterminées d’un organisme à ADN recombiné, par rapport à son homologue traditionnel (organisme apparenté, hôte ou donneur)</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 concept devrait être considéré comme un point de départ pour déterminer la sécurité sanitaire des différences décelées lors de l’analyse complète d’un organisme à ADN recombiné, plutôt que comme une étape pour la décision final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21:47:56Z</dcterms:created>
  <dc:creator>Takeuchi, Masami (AGNS)</dc:creator>
  <dc:description/>
  <dc:language>en-US</dc:language>
  <cp:lastModifiedBy>Claudio</cp:lastModifiedBy>
  <dcterms:modified xsi:type="dcterms:W3CDTF">2009-10-03T09:26:56Z</dcterms:modified>
  <cp:revision>208</cp:revision>
  <dc:subject/>
  <dc:title>Concepts and Principles of GM Food Safety Assessment</dc:title>
</cp:coreProperties>
</file>