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5C13A-8565-4989-9FE1-BD25220C16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3A237-958E-4F0C-85BE-830F727EBF0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FBC05-49D7-4A51-99B1-4AD8EDA8B1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D39C5-24A6-4FD6-9E5C-D6D03A9904A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A48DE-9222-4185-A304-F6434F2013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0C733-3DEA-432F-A504-358B87E600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EA545-546E-4C26-86B3-5A5EBEC381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EC1C65-D1A3-4DC5-9EB1-963F08887F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7730A-C018-4194-86B0-85C4BBB071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A790A-D7D6-43BC-AAB6-5187E12D31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F58B3-7ABA-4531-8411-694A2B16F44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E7FD2-500D-4EAF-A6E2-087D297091D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C8164-7749-4851-BCAA-6DEE5F5053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CAC40-62E1-40FE-B96C-38C8519070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AE842-23CF-47AA-87CD-C374A45A670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0D116-C00B-47BA-BE09-A05AC26C727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04069-D032-4E73-9740-25A34080CC2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16E79-6EE1-4EED-81F0-409B32D5B2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CF68D-9669-4B4E-ADD8-FD1EE0E3B2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6D5CE-B39F-46E2-9A2C-6CBF21A42EC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50F24C-DF52-42F6-919F-13CD3ED3935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1E5F4-0D12-4022-B489-B43AD373F85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38B8FE-8D2B-4F62-92DD-91C0F1FDDC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23629-9ED0-4308-8E18-70F9CDA449E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DCD4E-415C-48B9-B1E6-D91783E32A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ommunication sur les risques et décisions en matière de sécurité sanitaire</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odule de présentation 5</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rincipale fonction de la communication sur les risques</a:t>
            </a:r>
            <a:endParaRPr b="0" lang="en-US" sz="3600" spc="-1" strike="noStrike">
              <a:solidFill>
                <a:srgbClr val="ffffff"/>
              </a:solidFill>
              <a:latin typeface="Arial"/>
            </a:endParaRPr>
          </a:p>
        </p:txBody>
      </p:sp>
      <p:sp>
        <p:nvSpPr>
          <p:cNvPr id="109"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ssurer que toutes les informations et les opinions requises pour une gestion efficace des risques soient prises en compte dans le processus de prise de décis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de façon transparente:</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politique d’évaluation des risqu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évaluation des risqu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es incertitude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 tant qu’élément important de la procédure de prévention des risques biotechnologiques</a:t>
            </a:r>
            <a:endParaRPr b="0" lang="en-US" sz="2800" spc="-1" strike="noStrike">
              <a:solidFill>
                <a:srgbClr val="ffffff"/>
              </a:solidFill>
              <a:latin typeface="Arial"/>
            </a:endParaRPr>
          </a:p>
        </p:txBody>
      </p:sp>
      <p:sp>
        <p:nvSpPr>
          <p:cNvPr id="111"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ire en sorte que le public accepte l’aliment dérivé de plantes à ADN recombiné </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mmuniquer et interagir avec le public à propos des risques spécifiques et des mesures pris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 mécanisme qui instaure la confiance entre les parties prenantes de façon progressive tout au long des différentes phases de la mise au point de la plante à ADN recombiné et des aliments qui en sont dérivés</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ux composantes de la communication sur les risques</a:t>
            </a:r>
            <a:endParaRPr b="0" lang="en-US" sz="3600" spc="-1" strike="noStrike">
              <a:solidFill>
                <a:srgbClr val="ffffff"/>
              </a:solidFill>
              <a:latin typeface="Arial"/>
            </a:endParaRPr>
          </a:p>
        </p:txBody>
      </p:sp>
      <p:sp>
        <p:nvSpPr>
          <p:cNvPr id="113"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mposantes techniques,</a:t>
            </a:r>
            <a:r>
              <a:rPr b="0" lang="en-US" sz="2800" spc="-1" strike="noStrike">
                <a:solidFill>
                  <a:srgbClr val="000000"/>
                </a:solidFill>
                <a:latin typeface="Times New Roman"/>
                <a:ea typeface="Times New Roman"/>
              </a:rPr>
              <a:t> concernant généralement les dangers scientifiques évalués au cours de </a:t>
            </a:r>
            <a:r>
              <a:rPr b="1" lang="en-US" sz="2800" spc="-1" strike="noStrike">
                <a:solidFill>
                  <a:srgbClr val="000000"/>
                </a:solidFill>
                <a:latin typeface="Times New Roman"/>
                <a:ea typeface="Times New Roman"/>
              </a:rPr>
              <a:t>l’évaluation des risques</a:t>
            </a:r>
            <a:r>
              <a:rPr b="0" lang="en-US" sz="2800" spc="-1" strike="noStrike">
                <a:solidFill>
                  <a:srgbClr val="000000"/>
                </a:solidFill>
                <a:latin typeface="Times New Roman"/>
                <a:ea typeface="Times New Roman"/>
              </a:rPr>
              <a:t> et les </a:t>
            </a:r>
            <a:r>
              <a:rPr b="1" lang="en-US" sz="2800" spc="-1" strike="noStrike">
                <a:solidFill>
                  <a:srgbClr val="000000"/>
                </a:solidFill>
                <a:latin typeface="Times New Roman"/>
                <a:ea typeface="Times New Roman"/>
              </a:rPr>
              <a:t>options de gestion </a:t>
            </a:r>
            <a:r>
              <a:rPr b="0" lang="en-US" sz="2800" spc="-1" strike="noStrike">
                <a:solidFill>
                  <a:srgbClr val="000000"/>
                </a:solidFill>
                <a:latin typeface="Times New Roman"/>
                <a:ea typeface="Times New Roman"/>
              </a:rPr>
              <a:t>mises en évidence par l’évalu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mposantes non techniques, comprenant </a:t>
            </a:r>
            <a:r>
              <a:rPr b="0" lang="en-US" sz="2800" spc="-1" strike="noStrike">
                <a:solidFill>
                  <a:srgbClr val="000000"/>
                </a:solidFill>
                <a:latin typeface="Times New Roman"/>
                <a:ea typeface="Times New Roman"/>
              </a:rPr>
              <a:t>les protocoles </a:t>
            </a:r>
            <a:r>
              <a:rPr b="1" lang="en-US" sz="2800" spc="-1" strike="noStrike">
                <a:solidFill>
                  <a:srgbClr val="000000"/>
                </a:solidFill>
                <a:latin typeface="Times New Roman"/>
                <a:ea typeface="Times New Roman"/>
              </a:rPr>
              <a:t>administratifs,</a:t>
            </a:r>
            <a:r>
              <a:rPr b="0" lang="en-US" sz="2800" spc="-1" strike="noStrike">
                <a:solidFill>
                  <a:srgbClr val="000000"/>
                </a:solidFill>
                <a:latin typeface="Times New Roman"/>
                <a:ea typeface="Times New Roman"/>
              </a:rPr>
              <a:t> ainsi que les aspects culturels et éthiques de la société traités par les institutions règlementaires durant le processus d’analyse des risqu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munication règlementaire des risques</a:t>
            </a:r>
            <a:endParaRPr b="0" lang="en-US" sz="3600" spc="-1" strike="noStrike">
              <a:solidFill>
                <a:srgbClr val="ffffff"/>
              </a:solidFill>
              <a:latin typeface="Arial"/>
            </a:endParaRPr>
          </a:p>
        </p:txBody>
      </p:sp>
      <p:sp>
        <p:nvSpPr>
          <p:cNvPr id="11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ncipes du Codex, paragraphes 22 à 24</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expliquer comment et pourquoi les décisions sont pris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enir compte des préoccupations exprimées par les parties prenant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expliquer comment ces problèmes ont été traité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Un certain nombre de pays ont adopté les mesures de l’OCDE relatives à la diffusion des information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inviter le public à faire des observations sur les rapports d’évaluation de la sécurité sanitair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ivulguer les informations utilisées dans les évaluations de la sécurité sanitair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publier les résultats des réunions des organismes responsables de l’évaluation de la sécurité sanitaire</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a communication sur les risques,</a:t>
            </a:r>
            <a:endParaRPr b="0" lang="en-US" sz="3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un processus à double sens</a:t>
            </a:r>
            <a:endParaRPr b="0" lang="en-US" sz="3600" spc="-1" strike="noStrike">
              <a:solidFill>
                <a:srgbClr val="ffffff"/>
              </a:solidFill>
              <a:latin typeface="Arial"/>
            </a:endParaRPr>
          </a:p>
        </p:txBody>
      </p:sp>
      <p:sp>
        <p:nvSpPr>
          <p:cNvPr id="11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mmunication règlementaire sur les risques</a:t>
            </a:r>
            <a:endParaRPr b="0" lang="en-US" sz="24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fournir des informations sur le cadre et les processus règlementaires </a:t>
            </a:r>
            <a:endParaRPr b="0" lang="en-US" sz="20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collecte d’informations et informations en retour</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crédibilité est garantie dans le processus de communication, grâce à des études techniques, présentées sous une forme aisément compréhensibl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eux questions – soulevant le problème du choix et de la connaissance des aliments dérivés de plantes à ADN recombiné pouvant être mis sur le marché – méritent une réponse:</a:t>
            </a:r>
            <a:endParaRPr b="0" lang="en-US" sz="24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aliments dérivés de plantes à ADN recombiné sont-ils sans danger?</a:t>
            </a:r>
            <a:endParaRPr b="0" lang="en-US" sz="20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ouels sont les aliments génétiquement modifié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perception des risque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Nous voyons tous le monde différemment (état d’esprit)</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gens qui viennent d’horizons similaires tendent à avoir la même perception des risqu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Quelques différences selon le sex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personnes qui maîtrisent moins bien leur existence tendent à «grandir les risqu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perception des risques fondée sur des preuves:</a:t>
            </a:r>
            <a:endParaRPr b="0" lang="en-US" sz="2400" spc="-1" strike="noStrike">
              <a:solidFill>
                <a:srgbClr val="ffffff"/>
              </a:solidFill>
              <a:latin typeface="Arial"/>
            </a:endParaRPr>
          </a:p>
          <a:p>
            <a:pPr marL="455760" indent="-4557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RISQUE = DANGER</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perception des risques par le consommateur:</a:t>
            </a:r>
            <a:endParaRPr b="0" lang="en-US" sz="2400" spc="-1" strike="noStrike">
              <a:solidFill>
                <a:srgbClr val="ffffff"/>
              </a:solidFill>
              <a:latin typeface="Arial"/>
            </a:endParaRPr>
          </a:p>
          <a:p>
            <a:pPr marL="455760" indent="-4557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RISQUE = DANGER + INDIGNATION</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erception du degré de risque</a:t>
            </a:r>
            <a:endParaRPr b="0" lang="en-US" sz="3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par les consommateurs</a:t>
            </a:r>
            <a:endParaRPr b="0" lang="en-US" sz="3600" spc="-1" strike="noStrike">
              <a:solidFill>
                <a:srgbClr val="ffffff"/>
              </a:solidFill>
              <a:latin typeface="Arial"/>
            </a:endParaRPr>
          </a:p>
        </p:txBody>
      </p:sp>
      <p:sp>
        <p:nvSpPr>
          <p:cNvPr id="121"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matériels d’information ciblés sont souvent alarmist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parties intéressées se préoccupent de l’équilibre entre les messages sanitaires et les risques potentiel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applique à de nombreux contaminants de produits alimentair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niveau de risque acceptable varie en fonction des pays et des communauté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nfiance</a:t>
            </a:r>
            <a:endParaRPr b="0" lang="en-US" sz="3600" spc="-1" strike="noStrike">
              <a:solidFill>
                <a:srgbClr val="ffffff"/>
              </a:solidFill>
              <a:latin typeface="Arial"/>
            </a:endParaRPr>
          </a:p>
        </p:txBody>
      </p:sp>
      <p:sp>
        <p:nvSpPr>
          <p:cNvPr id="123"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nfiance du public dans l’innocuité des approvisionnements alimentair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nfiance dans l’industrie et les organes de réglementation pour garantir l’innocuité des aliment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fficile de regagner la confiance quand elle est perdu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as de situation «à armes éga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événements négatifs se remarquent plus que les événements positif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sources de mauvaises nouvelles sont considérées comme plus crédib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médias sont attirés par les mauvaises nouvel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groupes d’intérêt se servent habilement des médias</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Diffuser l’information</a:t>
            </a:r>
            <a:endParaRPr b="0" lang="en-US" sz="3200" spc="-1" strike="noStrike">
              <a:solidFill>
                <a:srgbClr val="ffffff"/>
              </a:solidFill>
              <a:latin typeface="Arial"/>
            </a:endParaRPr>
          </a:p>
        </p:txBody>
      </p:sp>
      <p:sp>
        <p:nvSpPr>
          <p:cNvPr id="125"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diffusion rapide est indispensabl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fuites» sont inévitables – perte de confiance/crédibilité</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gens ont le droit d’être informés sur ce qui a une incidence sur leur vi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a rapidité de la résolution des problèmes en dépend</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Elle permet de mieux contrôler l’exactitude de l’information</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iffuser l’information demande moins de travail que de répondre aux question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probabilités de susciter la colère du public sont moindr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probabilités que le public grandisse les risques sont moindres</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on dispose de plus de temps pour associer le public</a:t>
            </a:r>
            <a:endParaRPr b="0" lang="en-US" sz="2000" spc="-1" strike="noStrike">
              <a:solidFill>
                <a:srgbClr val="ffffff"/>
              </a:solidFill>
              <a:latin typeface="Arial"/>
            </a:endParaRPr>
          </a:p>
          <a:p>
            <a:pPr lvl="1" marL="89856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lvl="1" marL="89856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Times New Roman"/>
                <a:ea typeface="Times New Roman"/>
              </a:rPr>
              <a:t>(Extrait d’un document du New Jersey Department </a:t>
            </a:r>
            <a:endParaRPr b="0" lang="en-US" sz="1800" spc="-1" strike="noStrike">
              <a:solidFill>
                <a:srgbClr val="ffffff"/>
              </a:solidFill>
              <a:latin typeface="Arial"/>
            </a:endParaRPr>
          </a:p>
          <a:p>
            <a:pPr lvl="1" marL="89856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Times New Roman"/>
                <a:ea typeface="Times New Roman"/>
              </a:rPr>
              <a:t>of Environmental Protection, 1987)</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ratégie de communication</a:t>
            </a:r>
            <a:endParaRPr b="0" lang="en-US" sz="3600" spc="-1" strike="noStrike">
              <a:solidFill>
                <a:srgbClr val="ffffff"/>
              </a:solidFill>
              <a:latin typeface="Arial"/>
            </a:endParaRPr>
          </a:p>
        </p:txBody>
      </p:sp>
      <p:graphicFrame>
        <p:nvGraphicFramePr>
          <p:cNvPr id="127" name=""/>
          <p:cNvGraphicFramePr/>
          <p:nvPr/>
        </p:nvGraphicFramePr>
        <p:xfrm>
          <a:off x="720720" y="1600200"/>
          <a:ext cx="8102520" cy="5000760"/>
        </p:xfrm>
        <a:graphic>
          <a:graphicData uri="http://schemas.openxmlformats.org/drawingml/2006/table">
            <a:tbl>
              <a:tblPr/>
              <a:tblGrid>
                <a:gridCol w="1565280"/>
                <a:gridCol w="1828800"/>
                <a:gridCol w="3124080"/>
                <a:gridCol w="1584360"/>
              </a:tblGrid>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Risque</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Risk Perçu</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Exemples</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Stratégie</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10350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Niveaux de contaminants autorisé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ss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4148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Times New Roman"/>
                          <a:ea typeface="Times New Roman"/>
                        </a:rPr>
                        <a:t>Aliments génétiquement modifiés, </a:t>
                      </a:r>
                      <a:r>
                        <a:rPr b="0" lang="en-US" sz="2000" spc="-1" strike="noStrike">
                          <a:solidFill>
                            <a:srgbClr val="000000"/>
                          </a:solidFill>
                          <a:latin typeface="Times New Roman"/>
                          <a:ea typeface="Times New Roman"/>
                        </a:rPr>
                        <a:t>dioxines, mercure dans le poisson</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éactu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8478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Faibl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ontamination microbienn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ducat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Élevé</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ESB</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roactive</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128" name="Rectangle 4"/>
          <p:cNvSpPr/>
          <p:nvPr/>
        </p:nvSpPr>
        <p:spPr>
          <a:xfrm>
            <a:off x="8090640" y="6095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bjectifs de la présentatio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a communication sur les risques dans le contexte de l’analyse des risques (Codex)</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ce que la communication sur les risques devrait et ne devrait pas êt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les processus de perception des risques et de confianc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une stratégie de communication liée à la sécurité sanitaire des aliment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es recommandations de la consultation d’experts FAO/OM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ratégie de communication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30"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Identifier les publics – fractionner les groupes de parties prenantes (ne pas oublier les publics intern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parer les messages – normalement trois messages clés et séparer les messages destinés à chaque type de public</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électionner les instruments de communication</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ea typeface="Arial"/>
              </a:rPr>
              <a:t>Médias</a:t>
            </a:r>
            <a:endParaRPr b="0" lang="en-US" sz="3600" spc="-1" strike="noStrike">
              <a:solidFill>
                <a:srgbClr val="ffffff"/>
              </a:solidFill>
              <a:latin typeface="Arial"/>
            </a:endParaRPr>
          </a:p>
        </p:txBody>
      </p:sp>
      <p:sp>
        <p:nvSpPr>
          <p:cNvPr id="132"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esse, radio et télévis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tablir des relations de travail et la crédibilité dans les périodes calm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avoir quels messages vous souhaitez transmett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tre ouvert et honnête… et disponib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tre «serviab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mprendre comment les médias travaillen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AO/OMS: Considérations util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our la communication sur les risques</a:t>
            </a:r>
            <a:endParaRPr b="0" lang="en-US" sz="3200" spc="-1" strike="noStrike">
              <a:solidFill>
                <a:srgbClr val="ffffff"/>
              </a:solidFill>
              <a:latin typeface="Arial"/>
            </a:endParaRPr>
          </a:p>
        </p:txBody>
      </p:sp>
      <p:sp>
        <p:nvSpPr>
          <p:cNvPr id="134"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nnaître le public</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ire intervenir des experts scientif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tablir l’expertise en matière de communic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Être une source d’information crédib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artager les responsabilité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ire la distinction entre opinion scientifique et jugement de valeur</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Garantir la transparence</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mmunication des risques liés à une évaluation de la sécurité sanitaire</a:t>
            </a:r>
            <a:endParaRPr b="0" lang="en-US" sz="3200" spc="-1" strike="noStrike">
              <a:solidFill>
                <a:srgbClr val="ffffff"/>
              </a:solidFill>
              <a:latin typeface="Arial"/>
            </a:endParaRPr>
          </a:p>
        </p:txBody>
      </p:sp>
      <p:sp>
        <p:nvSpPr>
          <p:cNvPr id="13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duction de meilleures informations sur le système de réglement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réation d’un organe d’information centralisé</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ccroître la sensibilisation et l’engagement du public</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âches du Groupe de travail</a:t>
            </a:r>
            <a:endParaRPr b="0" lang="en-US" sz="3600" spc="-1" strike="noStrike">
              <a:solidFill>
                <a:srgbClr val="ffffff"/>
              </a:solidFill>
              <a:latin typeface="Arial"/>
            </a:endParaRPr>
          </a:p>
        </p:txBody>
      </p:sp>
      <p:sp>
        <p:nvSpPr>
          <p:cNvPr id="13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À l’aide des études de ca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définir une stratégie</a:t>
            </a:r>
            <a:r>
              <a:rPr b="0" lang="en-US" sz="2800" spc="-1" strike="noStrike">
                <a:solidFill>
                  <a:srgbClr val="000000"/>
                </a:solidFill>
                <a:latin typeface="Times New Roman"/>
                <a:ea typeface="Times New Roman"/>
              </a:rPr>
              <a:t> pour les méthodes de communication sur les risqu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associer toutes les parties prenante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avoir de bonnes relations avec les médias?</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nstruire la crédibilité?</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préparer un exposé</a:t>
            </a:r>
            <a:r>
              <a:rPr b="0" lang="en-US" sz="2800" spc="-1" strike="noStrike">
                <a:solidFill>
                  <a:srgbClr val="000000"/>
                </a:solidFill>
                <a:latin typeface="Times New Roman"/>
                <a:ea typeface="Times New Roman"/>
              </a:rPr>
              <a:t> des décisions à l’intention du grand public</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a communication sur les risque</a:t>
            </a:r>
            <a:endParaRPr b="0" lang="en-US" sz="3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ans le contexte de l’analyse des risque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incipes de travail pour l’analyse des risques, destinés à être appliqués dans le cadre du Codex alimentarius (2003): orientations générales sur l’analyse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Communication liée au processus d’analyse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artie intégrante de l’évaluation des risques et de la gestion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pérationnelle dès le début du processus d’analyse des risques, et non pas ajoutée à la fi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esponsabilité partagée</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Le processus d’analyse des risques doit êtr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appliqué de manière cohérent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ouvert, transparent et documenté</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les trois volets de l'analyse des risques doivent être complètement et systématiquement documentés de manière transparente</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une communication et une consultation effectives avec toutes les parties intéressées doivent être assurées tout au long de l'analyse des risque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Démarche structurée comprenant:</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rois volets - évaluation des risques, gestion des risques et communication sur les risques - chacun de ces volets faisant partie intégrante de l'ensemble du processus et étant mis en oeuvre dans un cadre global</a:t>
            </a:r>
            <a:endParaRPr b="0" lang="en-US" sz="20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rincipes de travail: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spects généraux</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éfinition du Codex de la communication sur les risques</a:t>
            </a:r>
            <a:endParaRPr b="0" lang="en-US" sz="3600" spc="-1" strike="noStrike">
              <a:solidFill>
                <a:srgbClr val="ffffff"/>
              </a:solidFill>
              <a:latin typeface="Arial"/>
            </a:endParaRPr>
          </a:p>
        </p:txBody>
      </p:sp>
      <p:sp>
        <p:nvSpPr>
          <p:cNvPr id="99" name="Text Box 2"/>
          <p:cNvSpPr/>
          <p:nvPr/>
        </p:nvSpPr>
        <p:spPr>
          <a:xfrm>
            <a:off x="720720" y="1619280"/>
            <a:ext cx="8078760" cy="5234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Échange interactif, tout au long du processus d’analyse des risques, d’informations et d’opinions sur les risques, les facteurs liés aux risques et les perceptions des risques, entre les responsables de leur évaluation et de leur gestion, les consommateurs, l’industrie, les milieux universitaires et les autres parties intéressées, et notamment l’explication des résultats de l’évaluation des risques et des fondements des décisions prises en matière de gestion des risque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sur les risques doit:</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mouvoir la prise de conscience et la compréhension des enjeux spécifiques pris en compt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mouvoir la cohérence et la transparence dans la formulation des options et recommandations de gestion d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ournir une base solide pour la compréhension des décisions de gestion des risques proposé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méliorer l'efficacité et l'efficience globales de l'analyse des risques;</a:t>
            </a:r>
            <a:endParaRPr b="0" lang="en-US" sz="2800" spc="-1" strike="noStrike">
              <a:solidFill>
                <a:srgbClr val="ffffff"/>
              </a:solidFill>
              <a:latin typeface="Arial"/>
            </a:endParaRPr>
          </a:p>
          <a:p>
            <a:pPr marL="455760" indent="-45576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sur les risques doit: </a:t>
            </a:r>
            <a:r>
              <a:rPr b="0" i="1" lang="en-US" sz="2400" spc="-1" strike="noStrike">
                <a:solidFill>
                  <a:srgbClr val="000000"/>
                </a:solidFill>
                <a:latin typeface="Arial"/>
              </a:rPr>
              <a:t>(fin)</a:t>
            </a:r>
            <a:endParaRPr b="0" lang="en-US" sz="24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enforcer les relations de travail entre les participant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favoriser la compréhension du public afin de renforcer la confiance dans la sécurité de l'offre alimentai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mouvoir l'implication appropriée de toutes les parties intéressées et</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changer des informations relatives aux préoccupations des parties intéressées sur les risques associés aux alimen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des risques implique…</a:t>
            </a:r>
            <a:endParaRPr b="0" lang="en-US" sz="3600" spc="-1" strike="noStrike">
              <a:solidFill>
                <a:srgbClr val="ffffff"/>
              </a:solidFill>
              <a:latin typeface="Arial"/>
            </a:endParaRPr>
          </a:p>
        </p:txBody>
      </p:sp>
      <p:sp>
        <p:nvSpPr>
          <p:cNvPr id="105"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 processus à double sen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 comprendre comment les gens perçoivent l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opportunité d’associer le public à la prise de décis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fourniture d’information exactes, en temps voulu</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communication intern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 communication sur les risques n’est pas…</a:t>
            </a:r>
            <a:endParaRPr b="0" lang="en-US" sz="3600" spc="-1" strike="noStrike">
              <a:solidFill>
                <a:srgbClr val="ffffff"/>
              </a:solidFill>
              <a:latin typeface="Arial"/>
            </a:endParaRPr>
          </a:p>
        </p:txBody>
      </p:sp>
      <p:sp>
        <p:nvSpPr>
          <p:cNvPr id="10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iquement faite pour communiquer les ris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iquement faite pour vendre des décisions au public</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 processus lié à une cris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question qui relève uniquement de la responsabilité de spécialistes en communic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9:19:41Z</dcterms:created>
  <dc:creator>Takeuchi, Masami (AGNS)</dc:creator>
  <dc:description/>
  <dc:language>en-US</dc:language>
  <cp:lastModifiedBy>Claudio</cp:lastModifiedBy>
  <dcterms:modified xsi:type="dcterms:W3CDTF">2009-10-03T10:20:14Z</dcterms:modified>
  <cp:revision>221</cp:revision>
  <dc:subject/>
  <dc:title>Concepts and Principles of GM Food Safety Assessment</dc:title>
</cp:coreProperties>
</file>