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9017-4A92-4DFC-9AB1-1147101F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FCA-5B80-40AA-80B8-9093B170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6AE9-4AB7-4F2B-86D8-97ED8C21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4ACD-6766-4EB0-87CA-91233707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6B6-A857-45C4-9B19-D3C8E4FA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DF6E-ED75-4E81-9036-2FA55345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631-8510-46E5-A923-65D8069C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2FC7-CF7D-41C5-BB1F-6A0DAB13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0289-53D1-46C9-B26C-941F0DA8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48EB-BE25-4EAB-A850-1CDEEAB9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17D1-E0F4-4293-B83F-3CE15C01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C0AD-E178-42C6-97D9-98850BD0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E26D-419A-43A3-8767-BD8AC56724B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09-15T13:34:24Z</dcterms:modified>
  <cp:revision>6</cp:revision>
  <dc:subject/>
  <dc:title>Presentazione di PowerPoint</dc:title>
</cp:coreProperties>
</file>