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8212-D2C3-4DE3-8059-E6211213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8F7C-1B4D-43B1-888C-4E0FDC83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4CCE-1840-4119-8890-7D32363B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9FDC-5B96-4EA5-A27B-E03E4F31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E271-BF8D-4596-9928-C02835ED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41F7-C38D-40E6-A296-67E19DA5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21E8-91D1-43DD-8F7C-0F9653DA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72FC-BC7E-4F14-BDBB-0A5AAFC4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7C0F-3A61-4B6E-857A-F9E2931C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8AC0-FC99-4EB4-B632-6752E15F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40AB-D851-48E7-8866-E67843B9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93F5-CF9B-4863-8EEB-9D803205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F9FF-03B1-4A07-971A-61F8088225B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9-10-16T13:11:25Z</dcterms:modified>
  <cp:revision>8</cp:revision>
  <dc:subject/>
  <dc:title>Presentazione di PowerPoint</dc:title>
</cp:coreProperties>
</file>