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FB3-2B52-4930-AB36-BDE6FBF8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A97-2AC2-4DBD-A36F-AF90FBC3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DB8-CC70-4B59-B017-A82CD031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D51-5940-40E6-854C-8244A64A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2EB-B143-40DE-A52F-EDC1E08F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29B-A494-48C8-936E-07AB6190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AB3-8EFF-4749-93CD-67BBBDF8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7FC-6115-4569-9891-16EA8F5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502-D29E-4A65-A7E1-9D691D86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602-98C7-4A76-AB85-D9FA6A84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C73-B37B-4CBD-806C-62C8A21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FE7-E12B-47E9-9922-3E2DA21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AE93-E31B-4217-91E8-6ED22FA1193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51:51Z</dcterms:modified>
  <cp:revision>8</cp:revision>
  <dc:subject/>
  <dc:title>Presentazione di PowerPoint</dc:title>
</cp:coreProperties>
</file>