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ED9-EF9F-4164-8A3C-91AEEF48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CE7-EE75-45CC-83AC-AF2385A6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DA6-D3ED-4FE3-958B-096E021B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814-A1E6-4669-B195-9FF37322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E041-9145-49B5-B9DB-285DFD90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C26-6BE5-46D6-BD99-CCB08D7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2FD-9C95-4359-B192-EA7D073C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721-54BA-4004-8102-11EFFB99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7DC-4FA8-4E1A-B75D-DDE1C274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EC6-873D-4F16-B49E-0CAC6067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950-55E1-4BFB-AB9F-CE4325BC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EF4-12F2-4057-8501-51FD9D2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0C91-5714-40A5-AD3F-C598A1954BB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10-16T13:14:13Z</dcterms:modified>
  <cp:revision>8</cp:revision>
  <dc:subject/>
  <dc:title>Presentazione di PowerPoint</dc:title>
</cp:coreProperties>
</file>