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E04-01CC-41EC-BC8E-CB5B5126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850-3490-47D7-819A-851318B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7B4-4B57-413A-A6F3-B12707CE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E2A-2379-4737-9DBB-ACD8A29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2BF-954C-4566-887E-CAA6DA2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1E6-ABD8-42FB-A1E0-87E1314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9AE-D875-464F-8A28-86643C3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A52-8049-4572-A4E4-A34C8C2E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F52-E1D0-4893-B11B-E245328C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B46-C8F1-4662-963E-291A419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CC8-8760-4EC3-8BE6-7A92ED6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F3D-9F5A-4056-9F49-3E6B005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A9E-4CB4-4082-A913-D355DCE24F8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4:56Z</dcterms:modified>
  <cp:revision>7</cp:revision>
  <dc:subject/>
  <dc:title>Presentazione di PowerPoint</dc:title>
</cp:coreProperties>
</file>