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68D-BDFA-40EB-87DF-B36739C1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190-5374-4B3C-9977-02880F94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404A-BE7F-4E8F-8060-11F50F8A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D6C4-C22F-457F-8F81-257BCBEF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4B7-51BE-4E86-9ADC-03572176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6A4-565F-45C6-9216-CDE7F8B5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58B5-F121-4D06-AD34-4144F16C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6292-4AFA-4B55-B820-D49F058A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F08-4AC1-411D-9819-D78A6E9C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07D-8EAA-4DEF-858F-A49B75B6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0A5-497C-444C-A51D-650E3203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7E3-38F0-4F04-8B8D-9AFCD0A0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9104-5B3B-4458-9151-2074E01F760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224000"/>
            <a:ext cx="553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a84eb7"/>
                </a:solidFill>
                <a:latin typeface="Lucida Sans"/>
              </a:rPr>
              <a:t>Heading h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2367000"/>
            <a:ext cx="868680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a84eb7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84eb7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in text main text tanto va la gatta al lardo che ci lascia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lo zampino main text tanto va la gatta al lardo che ci lascia lo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zamp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a84eb7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84eb7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in text main text tanto va la gatta al lardo che ci lascia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lo zamp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a84eb7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84eb7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in text main text tanto va la gatta al lardo che ci lascia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lo zampino main text tanto va la gatta al lardo che ci lascia lo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zamp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15000" y="6405480"/>
            <a:ext cx="3124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a84eb7"/>
                </a:solidFill>
                <a:latin typeface="Lucida Sans"/>
              </a:rPr>
              <a:t>Modúlo ? / diapositiva ?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09-16T08:52:34Z</dcterms:modified>
  <cp:revision>7</cp:revision>
  <dc:subject/>
  <dc:title>Presentazione di PowerPoint</dc:title>
</cp:coreProperties>
</file>