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1EA14-3DC7-4932-BF56-F95A72EABA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29084-42DD-4C95-8649-E5578BDD88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CF587-D0D9-42F4-B3A6-080F93CC67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D1B0F-D0AE-4461-8468-15EC0D3AA8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46B98-283F-4C96-9A5D-08FA4697AC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C4A09-C200-48D8-9AF5-88D042AAE6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0A19D-BEE5-47A2-875D-C9CBA446E2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97D75-FF26-4A46-8F6E-B31DD9E395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9BD81-2A93-4507-B30A-A0BE0958A0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D4764-A55D-4C43-A8F1-CDDC60C8AD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C9338-5E93-4780-AE43-103FBAF337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6734C-2E8A-49DA-8C90-2F1ADCAF75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572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4528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572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4528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28520"/>
            <a:ext cx="73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6572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4528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6572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4528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28520"/>
            <a:ext cx="73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"/>
          <p:cNvSpPr/>
          <p:nvPr/>
        </p:nvSpPr>
        <p:spPr>
          <a:xfrm>
            <a:off x="3276720" y="63817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Text Box 2"/>
          <p:cNvSpPr/>
          <p:nvPr/>
        </p:nvSpPr>
        <p:spPr>
          <a:xfrm>
            <a:off x="6781680" y="228600"/>
            <a:ext cx="214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720720" y="1619280"/>
            <a:ext cx="77360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xposición gener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e un tal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720720" y="3959280"/>
            <a:ext cx="7543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ódulo de presentación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rograma: día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20720" y="1619280"/>
          <a:ext cx="8099280" cy="4933800"/>
        </p:xfrm>
        <a:graphic>
          <a:graphicData uri="http://schemas.openxmlformats.org/drawingml/2006/table">
            <a:tbl>
              <a:tblPr/>
              <a:tblGrid>
                <a:gridCol w="974880"/>
                <a:gridCol w="7124400"/>
              </a:tblGrid>
              <a:tr h="9021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4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racterización de la modificación o  modificaciones genéticas, evaluación de la posible toxicidad y alergenicidad y análisis de los componentes esenci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de trabajo en grupo 2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valuar la posible toxic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uerz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plenaria 2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Presentación de infor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de trabajo en grupo 3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Posible alergenic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a para el caf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plenaria 3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Presentación de infor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umen y conclusiones del día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rograma: día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20720" y="1619280"/>
          <a:ext cx="8099280" cy="5180040"/>
        </p:xfrm>
        <a:graphic>
          <a:graphicData uri="http://schemas.openxmlformats.org/drawingml/2006/table">
            <a:tbl>
              <a:tblPr/>
              <a:tblGrid>
                <a:gridCol w="898560"/>
                <a:gridCol w="7200720"/>
              </a:tblGrid>
              <a:tr h="4683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de trabajo en grupo 4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Análisis de la composi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a para el caf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plenaria 4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resentación de infor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uerz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5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unicación de riesg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 marL="336600" indent="-336600">
                        <a:lnSpc>
                          <a:spcPct val="74000"/>
                        </a:lnSpc>
                        <a:tabLst>
                          <a:tab algn="l" pos="0"/>
                          <a:tab algn="l" pos="338040"/>
                          <a:tab algn="l" pos="795240"/>
                          <a:tab algn="l" pos="1252440"/>
                          <a:tab algn="l" pos="1709640"/>
                          <a:tab algn="l" pos="2166840"/>
                          <a:tab algn="l" pos="2624040"/>
                          <a:tab algn="l" pos="3081240"/>
                          <a:tab algn="l" pos="3538440"/>
                          <a:tab algn="l" pos="3995640"/>
                          <a:tab algn="l" pos="4452840"/>
                          <a:tab algn="l" pos="4910040"/>
                          <a:tab algn="l" pos="5367240"/>
                          <a:tab algn="l" pos="5824440"/>
                          <a:tab algn="l" pos="6281640"/>
                          <a:tab algn="l" pos="6738840"/>
                          <a:tab algn="l" pos="7196040"/>
                          <a:tab algn="l" pos="7653240"/>
                          <a:tab algn="l" pos="8110440"/>
                          <a:tab algn="l" pos="8567640"/>
                          <a:tab algn="l" pos="9024840"/>
                          <a:tab algn="l" pos="948204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de trabajo en grupo 5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Utilizando estudios de cas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6600" indent="-336600">
                        <a:lnSpc>
                          <a:spcPct val="74000"/>
                        </a:lnSpc>
                        <a:buClr>
                          <a:srgbClr val="000000"/>
                        </a:buClr>
                        <a:buFont typeface="Symbol" charset="2"/>
                        <a:buChar char=""/>
                        <a:tabLst>
                          <a:tab algn="l" pos="338040"/>
                          <a:tab algn="l" pos="795240"/>
                          <a:tab algn="l" pos="1252440"/>
                          <a:tab algn="l" pos="1709640"/>
                          <a:tab algn="l" pos="2166840"/>
                          <a:tab algn="l" pos="2624040"/>
                          <a:tab algn="l" pos="3081240"/>
                          <a:tab algn="l" pos="3538440"/>
                          <a:tab algn="l" pos="3995640"/>
                          <a:tab algn="l" pos="4452840"/>
                          <a:tab algn="l" pos="4910040"/>
                          <a:tab algn="l" pos="5367240"/>
                          <a:tab algn="l" pos="5824440"/>
                          <a:tab algn="l" pos="6281640"/>
                          <a:tab algn="l" pos="6738840"/>
                          <a:tab algn="l" pos="7196040"/>
                          <a:tab algn="l" pos="7653240"/>
                          <a:tab algn="l" pos="8110440"/>
                          <a:tab algn="l" pos="8567640"/>
                          <a:tab algn="l" pos="9024840"/>
                          <a:tab algn="l" pos="948204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borar una estrategia sobre el sentido de la comunicación de riesg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6600" indent="-336600">
                        <a:lnSpc>
                          <a:spcPct val="74000"/>
                        </a:lnSpc>
                        <a:buClr>
                          <a:srgbClr val="000000"/>
                        </a:buClr>
                        <a:buFont typeface="Symbol" charset="2"/>
                        <a:buChar char=""/>
                        <a:tabLst>
                          <a:tab algn="l" pos="338040"/>
                          <a:tab algn="l" pos="795240"/>
                          <a:tab algn="l" pos="1252440"/>
                          <a:tab algn="l" pos="1709640"/>
                          <a:tab algn="l" pos="2166840"/>
                          <a:tab algn="l" pos="2624040"/>
                          <a:tab algn="l" pos="3081240"/>
                          <a:tab algn="l" pos="3538440"/>
                          <a:tab algn="l" pos="3995640"/>
                          <a:tab algn="l" pos="4452840"/>
                          <a:tab algn="l" pos="4910040"/>
                          <a:tab algn="l" pos="5367240"/>
                          <a:tab algn="l" pos="5824440"/>
                          <a:tab algn="l" pos="6281640"/>
                          <a:tab algn="l" pos="6738840"/>
                          <a:tab algn="l" pos="7196040"/>
                          <a:tab algn="l" pos="7653240"/>
                          <a:tab algn="l" pos="8110440"/>
                          <a:tab algn="l" pos="8567640"/>
                          <a:tab algn="l" pos="9024840"/>
                          <a:tab algn="l" pos="948204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parar un documento de decisiones para el público en genera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a para el caf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plenaria 5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Presentación de infor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 del taller, certificados, observaciones finales, clausura del tall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20720" y="270000"/>
            <a:ext cx="737856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tivos del tall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720720" y="1619280"/>
            <a:ext cx="80866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udar a aplic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incipios y directric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cionalmente acep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tir las experiencias de much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íses sobre métodos de reglamentación y evaluación de la inoc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Ámbito del tall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20720" y="1619280"/>
            <a:ext cx="80773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apacitación de expertos (formación de capacitadores) para impartir talleres con el fin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ejorar las aptitudes de las autoridades de regla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44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r, gestion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unic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los posibles riesgos asociados con los alimentos obtenidos de plantas de ADN recombin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720720" y="1619280"/>
            <a:ext cx="80964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os y principios para la evaluación de la inoc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que y marco de la evaluación de la inoc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la posible toxicidad y de la posible alergenicidad y análisis de la compos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 de riesgos y políticas públ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esentac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siones de trabajo en gru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20720" y="1619280"/>
            <a:ext cx="80964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sesiones separadas con estudios de casos ofrecerán a los participantes ejercicios prácticos para preparar y realizar talleres de capaci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tudios de casos incluy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íz MON 8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ja GTS 40-3-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ja con alto contenido en ácido ole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720720" y="270000"/>
            <a:ext cx="735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sultados previs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720720" y="1619280"/>
            <a:ext cx="8072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aller ofre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exposición general de las perspectivas internacionales sobre la evaluación de la inocuidad de los alimentos obtenidos de plantas de ADN recombinante (Codex y FAO/O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ias teóricas y prácticas sobre la metodología de evaluación de la inocu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ón práctica sobre cómo organizar e impartir talleres de capacit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cont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20720" y="270000"/>
            <a:ext cx="735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sultados previst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720720" y="1619280"/>
            <a:ext cx="8072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autoridades de reglamentación adecuadamente capacitadas pued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jorar la inocuidad de los alimentos, con lo que no sólo mejoran la salud de los consumidores, sino que garantizan la inocuidad de los alimentos destinados al comercio inter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grama: día 1, mañ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20720" y="1619280"/>
          <a:ext cx="8099280" cy="4983120"/>
        </p:xfrm>
        <a:graphic>
          <a:graphicData uri="http://schemas.openxmlformats.org/drawingml/2006/table">
            <a:tbl>
              <a:tblPr/>
              <a:tblGrid>
                <a:gridCol w="974880"/>
                <a:gridCol w="7124400"/>
              </a:tblGrid>
              <a:tr h="5173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xposición general del tall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de los participantes y capacitad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2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nceptos y principios de la evaluación de la inocuidad de los alimentos GM, principales iniciativas internacionales (Codex, FAO/OMS, OCDE, et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a para el caf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 marL="333360" indent="-333360">
                        <a:lnSpc>
                          <a:spcPts val="1800"/>
                        </a:lnSpc>
                        <a:tabLst>
                          <a:tab algn="l" pos="0"/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de tres estudios de cas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ts val="18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ct val="7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íz GM resistente a los insectos, evento MON 8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ct val="7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ja GM de alto contenido de ácido ole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ct val="7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ja GM tolerante a herbicid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ción de los grupos de trabaj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uerz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grama: día 1, tar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20720" y="1619280"/>
          <a:ext cx="8099280" cy="5118120"/>
        </p:xfrm>
        <a:graphic>
          <a:graphicData uri="http://schemas.openxmlformats.org/drawingml/2006/table">
            <a:tbl>
              <a:tblPr/>
              <a:tblGrid>
                <a:gridCol w="973080"/>
                <a:gridCol w="7126200"/>
              </a:tblGrid>
              <a:tr h="82980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3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nfoque comparativo y marco para la evaluación de la inocuidad de los alimentos G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76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de trabajo en grupo 1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Utilizando estudios de casos, señalar la descripción y examinar si es suficiente la información sobre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ción de la planta de ADN recombin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ción de la planta hospedadora y de su utilización como alimen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ción de el organismo u organismos dona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ción de la modificación o modificaciones genét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a para el caf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sión plenaria 1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Presentación de informes y debate sobre la sesión de trabajo en grupo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umen y conclusiones del día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0:49:41Z</dcterms:created>
  <dc:creator>Takeuchi, Masami (AGNS)</dc:creator>
  <dc:description/>
  <dc:language>en-US</dc:language>
  <cp:lastModifiedBy>Claudio</cp:lastModifiedBy>
  <dcterms:modified xsi:type="dcterms:W3CDTF">2009-10-03T09:11:13Z</dcterms:modified>
  <cp:revision>189</cp:revision>
  <dc:subject/>
  <dc:title>Concepts and Principles of GM Food Safety Assessment</dc:title>
</cp:coreProperties>
</file>