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8502F-7A23-48B6-BFD8-F837712041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2739C-338A-4A99-A463-1328315F8E1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6"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A20890-A704-4E5C-B4CF-9DFF0F20844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CD023-8DEF-48F7-B51B-F7A71DFF046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A75CD0-6DD1-4575-8037-B0747370FB6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1F371-0BBD-4CD0-93A6-D1583150423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ACF5E9-5F66-4669-961F-39572D0BF44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755CF-F036-421A-AE21-E9947D67226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1321A7-36F0-42E8-8DB3-C550DCCD964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883405-3C4B-486C-80E7-137492D11E9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24520-4F8A-4E67-B974-94A2D55940B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FC3CAC-E9C1-49A7-81FE-ABF6AA9BDFA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224D6-0143-4594-9AE5-442D08F3A75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A5A25-7D15-4460-8FBD-51127BDBC1F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D28E7-7EA9-407A-83DE-7483F440C2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EC019-03D9-4288-959C-878CF82BC7D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FFB49-A6FF-4F52-AE7D-736007C3DDF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84F76-13F8-416E-8D08-9811F803957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000000"/>
                </a:solidFill>
                <a:latin typeface="Arial"/>
              </a:rPr>
              <a:t>Caracterización de las modificaciones genéticas, evaluación de su posible toxicidad y alergenicidad y análisis de la composición</a:t>
            </a:r>
            <a:endParaRPr b="0" lang="en-US" sz="36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Módulo de presentación 4</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Parámetros importantes</a:t>
            </a:r>
            <a:endParaRPr b="0" lang="en-US" sz="3600" spc="-1" strike="noStrike">
              <a:solidFill>
                <a:srgbClr val="ffffff"/>
              </a:solidFill>
              <a:latin typeface="Arial"/>
            </a:endParaRPr>
          </a:p>
        </p:txBody>
      </p:sp>
      <p:sp>
        <p:nvSpPr>
          <p:cNvPr id="10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Fuente de la proteína</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Homología de secuencia de los aminoácido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Resistencia a la pepsina</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Selección mediante un suero específico</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Observaciones sobre la evaluación de la toxicidad y la alergenicidad</a:t>
            </a:r>
            <a:endParaRPr b="0" lang="en-US" sz="3200" spc="-1" strike="noStrike">
              <a:solidFill>
                <a:srgbClr val="ffffff"/>
              </a:solidFill>
              <a:latin typeface="Arial"/>
            </a:endParaRPr>
          </a:p>
        </p:txBody>
      </p:sp>
      <p:sp>
        <p:nvSpPr>
          <p:cNvPr id="11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600" spc="-1" strike="noStrike">
                <a:solidFill>
                  <a:srgbClr val="000000"/>
                </a:solidFill>
                <a:latin typeface="Times New Roman"/>
                <a:ea typeface="Times New Roman"/>
              </a:rPr>
              <a:t>Garantía de calidad</a:t>
            </a:r>
            <a:endParaRPr b="0" lang="en-US" sz="26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Times New Roman"/>
                <a:ea typeface="Times New Roman"/>
              </a:rPr>
              <a:t>Es muy importante que el proceso de organización y las condiciones en que se planifican, realizan, vigilan y registran los estudios de laboratorio, así como las condiciones en que se elaboran sus informes, sean conformes con los principios de las BPL</a:t>
            </a:r>
            <a:endParaRPr b="0" lang="en-US" sz="22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Times New Roman"/>
                <a:ea typeface="Times New Roman"/>
              </a:rPr>
              <a:t>Estudios toxicológicos: es importante establecer la relación entre los cambios en los parámetros fisiológicos medidos y las dosis del compuesto sometido a prueba</a:t>
            </a:r>
            <a:endParaRPr b="0" lang="en-US" sz="22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2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2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200" spc="-1" strike="noStrike">
              <a:solidFill>
                <a:srgbClr val="ffffff"/>
              </a:solidFill>
              <a:latin typeface="Arial"/>
            </a:endParaRPr>
          </a:p>
          <a:p>
            <a:pPr lvl="1" marL="898560" indent="-45720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s-E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Observaciones sobre la evaluación de la toxicidad y la alergenicidad </a:t>
            </a:r>
            <a:r>
              <a:rPr b="0" i="1" lang="es-ES" sz="2800" spc="-1" strike="noStrike">
                <a:solidFill>
                  <a:srgbClr val="000000"/>
                </a:solidFill>
                <a:latin typeface="Arial"/>
              </a:rPr>
              <a:t>(cont.)</a:t>
            </a:r>
            <a:endParaRPr b="0" lang="en-US" sz="2800" spc="-1" strike="noStrike">
              <a:solidFill>
                <a:srgbClr val="ffffff"/>
              </a:solidFill>
              <a:latin typeface="Arial"/>
            </a:endParaRPr>
          </a:p>
        </p:txBody>
      </p:sp>
      <p:sp>
        <p:nvSpPr>
          <p:cNvPr id="113"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Otros métodos e instrumentos</a:t>
            </a:r>
            <a:endParaRPr b="0" lang="en-US" sz="2800" spc="-1" strike="noStrike">
              <a:solidFill>
                <a:srgbClr val="ffffff"/>
              </a:solidFill>
              <a:latin typeface="Arial"/>
            </a:endParaRPr>
          </a:p>
          <a:p>
            <a:pPr lvl="2"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 medida que avancen el conocimiento científico y la tecnología, se podrán examinar otros métodos e instrumentos para evaluar el potencial alérgeno de las nuevas proteína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Análisis de la composición</a:t>
            </a:r>
            <a:endParaRPr b="0" lang="en-US" sz="3600" spc="-1" strike="noStrike">
              <a:solidFill>
                <a:srgbClr val="ffffff"/>
              </a:solidFill>
              <a:latin typeface="Arial"/>
            </a:endParaRPr>
          </a:p>
        </p:txBody>
      </p:sp>
      <p:sp>
        <p:nvSpPr>
          <p:cNvPr id="115"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Componentes beneficiosos y perjudiciales de la dieta humana:</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nutrie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componentes bioactivos no nutrie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antinutrie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sustancias tóxica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contamina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otros elementos potencialmente útiles o beneficioso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s importante decidir en qué nutrientes o elementos se debe centrar la evaluació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44</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46</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laboración de alimentos</a:t>
            </a:r>
            <a:endParaRPr b="0" lang="en-US" sz="3600" spc="-1" strike="noStrike">
              <a:solidFill>
                <a:srgbClr val="ffffff"/>
              </a:solidFill>
              <a:latin typeface="Arial"/>
            </a:endParaRPr>
          </a:p>
        </p:txBody>
      </p:sp>
      <p:sp>
        <p:nvSpPr>
          <p:cNvPr id="117"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 47</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os métodos de elaboración pueden ocasionar  variaciones significativas en el contenido nutricional de un alimento</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s modernas técnicas de separación  (molido, centrifugación, prensado, etc.) cambian el contenido nutricional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s técnicas de calentamiento pueden reducir el contenido de muchos nutrientes termolábiles (vitaminas, sustancias fitoquímicas, etc.)</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Modificaciones nutricionales</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irectrices del Codex, párrafos 48</a:t>
            </a:r>
            <a:r>
              <a:rPr b="1" lang="es-ES" sz="2400" spc="-1" strike="noStrike">
                <a:solidFill>
                  <a:srgbClr val="000000"/>
                </a:solidFill>
                <a:latin typeface="Times New Roman"/>
                <a:ea typeface="Times New Roman"/>
              </a:rPr>
              <a:t>–</a:t>
            </a:r>
            <a:r>
              <a:rPr b="0" lang="es-ES" sz="2400" spc="-1" strike="noStrike">
                <a:solidFill>
                  <a:srgbClr val="000000"/>
                </a:solidFill>
                <a:latin typeface="Times New Roman"/>
                <a:ea typeface="Times New Roman"/>
              </a:rPr>
              <a:t>53</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n el caso de las plantas de ADN recombinante que se han cultivado deliberadamente para que tengan nutrientes alterados, la finalidad de la evaluación nutricional es demostrar que no hay otros cambios no intencionales (en la biodisponibilidad, etc.)</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s probable que las diferencias de composición sean mayores, por lo que la utilidad de los métodos actuales  de evaluación de la inocuidad puede ser limitada dado que los cultivos nutricionalmente modificados no serán sustancialmente equivalentes a sus homólogos convencionales y, a efectos de comparación, compartirán menos valores en cuanto a su composición</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Nuevos métodos de análisis</a:t>
            </a:r>
            <a:endParaRPr b="0" lang="en-US" sz="3600" spc="-1" strike="noStrike">
              <a:solidFill>
                <a:srgbClr val="ffffff"/>
              </a:solidFill>
              <a:latin typeface="Arial"/>
            </a:endParaRPr>
          </a:p>
        </p:txBody>
      </p:sp>
      <p:sp>
        <p:nvSpPr>
          <p:cNvPr id="12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s metodologías mejoradas y las técnicas más sensibles permiten detectar alteraciones no intencionales en la composición que hasta ahora eran indetectables</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s necesario seguir estudiando la utilidad y aplicabilidad de las técnicas no selectivas en lo que respecta a la validación de la pertinencia de los cambios observados para la evaluación de riesgos</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os métodos de perfiles todavía no son adecuados para fines de evaluación de riesgos, pero si se validan pueden resultar útiles para confirmar y complementar otros datos</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s-ES" sz="3600" spc="-1" strike="noStrike">
                <a:solidFill>
                  <a:srgbClr val="000000"/>
                </a:solidFill>
                <a:latin typeface="Arial"/>
              </a:rPr>
              <a:t>Cometido del grupo de trabajo</a:t>
            </a:r>
            <a:endParaRPr b="0" lang="en-US" sz="3600" spc="-1" strike="noStrike">
              <a:solidFill>
                <a:srgbClr val="ffffff"/>
              </a:solidFill>
              <a:latin typeface="Arial"/>
            </a:endParaRPr>
          </a:p>
        </p:txBody>
      </p:sp>
      <p:sp>
        <p:nvSpPr>
          <p:cNvPr id="12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Utilizando estudios de casos:</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señalar </a:t>
            </a:r>
            <a:r>
              <a:rPr b="0" lang="es-ES" sz="2800" spc="-1" strike="noStrike">
                <a:solidFill>
                  <a:srgbClr val="000000"/>
                </a:solidFill>
                <a:latin typeface="Times New Roman"/>
                <a:ea typeface="Times New Roman"/>
              </a:rPr>
              <a:t>los estudios de toxicidad </a:t>
            </a:r>
            <a:br>
              <a:rPr sz="2800"/>
            </a:br>
            <a:r>
              <a:rPr b="0" lang="es-ES" sz="2800" spc="-1" strike="noStrike">
                <a:solidFill>
                  <a:srgbClr val="000000"/>
                </a:solidFill>
                <a:latin typeface="Times New Roman"/>
                <a:ea typeface="Times New Roman"/>
              </a:rPr>
              <a:t>y </a:t>
            </a:r>
            <a:r>
              <a:rPr b="1" lang="es-ES" sz="2800" spc="-1" strike="noStrike">
                <a:solidFill>
                  <a:srgbClr val="000000"/>
                </a:solidFill>
                <a:latin typeface="Times New Roman"/>
                <a:ea typeface="Times New Roman"/>
              </a:rPr>
              <a:t>evaluar</a:t>
            </a:r>
            <a:r>
              <a:rPr b="0" lang="es-ES" sz="2800" spc="-1" strike="noStrike">
                <a:solidFill>
                  <a:srgbClr val="000000"/>
                </a:solidFill>
                <a:latin typeface="Times New Roman"/>
                <a:ea typeface="Times New Roman"/>
              </a:rPr>
              <a:t> la posible toxicidad</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señalar </a:t>
            </a:r>
            <a:r>
              <a:rPr b="0" lang="es-ES" sz="2800" spc="-1" strike="noStrike">
                <a:solidFill>
                  <a:srgbClr val="000000"/>
                </a:solidFill>
                <a:latin typeface="Times New Roman"/>
                <a:ea typeface="Times New Roman"/>
              </a:rPr>
              <a:t>los estudios de alergenicidad </a:t>
            </a:r>
            <a:br>
              <a:rPr sz="2800"/>
            </a:br>
            <a:r>
              <a:rPr b="0" lang="es-ES" sz="2800" spc="-1" strike="noStrike">
                <a:solidFill>
                  <a:srgbClr val="000000"/>
                </a:solidFill>
                <a:latin typeface="Times New Roman"/>
                <a:ea typeface="Times New Roman"/>
              </a:rPr>
              <a:t>y </a:t>
            </a:r>
            <a:r>
              <a:rPr b="1" lang="es-ES" sz="2800" spc="-1" strike="noStrike">
                <a:solidFill>
                  <a:srgbClr val="000000"/>
                </a:solidFill>
                <a:latin typeface="Times New Roman"/>
                <a:ea typeface="Times New Roman"/>
              </a:rPr>
              <a:t>evaluar</a:t>
            </a:r>
            <a:r>
              <a:rPr b="0" lang="es-ES" sz="2800" spc="-1" strike="noStrike">
                <a:solidFill>
                  <a:srgbClr val="000000"/>
                </a:solidFill>
                <a:latin typeface="Times New Roman"/>
                <a:ea typeface="Times New Roman"/>
              </a:rPr>
              <a:t> a continuación la posible alergenicidad</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señalar </a:t>
            </a:r>
            <a:r>
              <a:rPr b="0" lang="es-ES" sz="2800" spc="-1" strike="noStrike">
                <a:solidFill>
                  <a:srgbClr val="000000"/>
                </a:solidFill>
                <a:latin typeface="Times New Roman"/>
                <a:ea typeface="Times New Roman"/>
              </a:rPr>
              <a:t>la descripción del análisis de la composición </a:t>
            </a:r>
            <a:br>
              <a:rPr sz="2800"/>
            </a:br>
            <a:r>
              <a:rPr b="0" lang="es-ES" sz="2800" spc="-1" strike="noStrike">
                <a:solidFill>
                  <a:srgbClr val="000000"/>
                </a:solidFill>
                <a:latin typeface="Times New Roman"/>
                <a:ea typeface="Times New Roman"/>
              </a:rPr>
              <a:t>y </a:t>
            </a:r>
            <a:r>
              <a:rPr b="1" lang="es-ES" sz="2800" spc="-1" strike="noStrike">
                <a:solidFill>
                  <a:srgbClr val="000000"/>
                </a:solidFill>
                <a:latin typeface="Times New Roman"/>
                <a:ea typeface="Times New Roman"/>
              </a:rPr>
              <a:t>evaluar</a:t>
            </a:r>
            <a:r>
              <a:rPr b="0" lang="es-ES" sz="2800" spc="-1" strike="noStrike">
                <a:solidFill>
                  <a:srgbClr val="000000"/>
                </a:solidFill>
                <a:latin typeface="Times New Roman"/>
                <a:ea typeface="Times New Roman"/>
              </a:rPr>
              <a:t> a continuación el análisi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Objetivos de la presentació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xplicar la metodología de la caracterización de la modificación o modificaciones genética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la metodología de la evaluación de la toxicidad, incluidos estudios en animale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la metodología de la evaluación de la posible alergenicidad, incluidos los parámetros importante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las metodologías de los análisis de la composición, la evaluación de los metabolitos, la elaboración de alimentos y la modificación nutricional</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aracterización de la modificación o modificaciones genética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30</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33</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Análisis molecular </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ventos de transformación de plantas generados aleatoriament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tección de transgenes mediante cebadores específicos para cada evento</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Grado de precisión con el nivel actual de la tecnología</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34</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40</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incipales consideracion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s proteínas producto de la expresión del gen o genes insertado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fectos de la perturbación de la expresión génica debidos a la inserción de ADN del organismo donante en el genoma hospedador</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Finalidad de la determinación de la inocuidad: tan inocuo como su homólogo convencional</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p.ej., la soja convencional puede afectar a las funciones endocrinas, y la soja GM con una composición equivalente podría afectarlas en la misma medida</a:t>
            </a:r>
            <a:endParaRPr b="0" lang="en-US" sz="24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Toxicidad</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studios</a:t>
            </a:r>
            <a:r>
              <a:rPr b="0" i="1" lang="es-ES" sz="3600" spc="-1" strike="noStrike">
                <a:solidFill>
                  <a:srgbClr val="000000"/>
                </a:solidFill>
                <a:latin typeface="Arial"/>
              </a:rPr>
              <a:t> in vitro</a:t>
            </a:r>
            <a:r>
              <a:rPr b="0" lang="es-ES" sz="3600" spc="-1" strike="noStrike">
                <a:solidFill>
                  <a:srgbClr val="000000"/>
                </a:solidFill>
                <a:latin typeface="Arial"/>
              </a:rPr>
              <a:t> </a:t>
            </a:r>
            <a:endParaRPr b="0" lang="en-US" sz="3600" spc="-1" strike="noStrike">
              <a:solidFill>
                <a:srgbClr val="ffffff"/>
              </a:solidFill>
              <a:latin typeface="Arial"/>
            </a:endParaRPr>
          </a:p>
        </p:txBody>
      </p:sp>
      <p:sp>
        <p:nvSpPr>
          <p:cNvPr id="99" name="Text Box 2"/>
          <p:cNvSpPr/>
          <p:nvPr/>
        </p:nvSpPr>
        <p:spPr>
          <a:xfrm>
            <a:off x="720720" y="1619280"/>
            <a:ext cx="8082000" cy="518616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Nuevas proteínas (frente a otras sustancias química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tino metabólico previsible en el intestino humano o animal</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un ensayo de digestibilidad </a:t>
            </a:r>
            <a:r>
              <a:rPr b="0" i="1" lang="es-ES" sz="2400" spc="-1" strike="noStrike">
                <a:solidFill>
                  <a:srgbClr val="000000"/>
                </a:solidFill>
                <a:latin typeface="Times New Roman"/>
                <a:ea typeface="Times New Roman"/>
              </a:rPr>
              <a:t>in vitro</a:t>
            </a:r>
            <a:r>
              <a:rPr b="0" lang="es-ES" sz="2400" spc="-1" strike="noStrike">
                <a:solidFill>
                  <a:srgbClr val="000000"/>
                </a:solidFill>
                <a:latin typeface="Times New Roman"/>
                <a:ea typeface="Times New Roman"/>
              </a:rPr>
              <a:t> muestra la probabilidad de que una proteína posea características poco frecuent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l que una proteína sea resistente a los fluidos digestivos normales es indicio significativo de que puede tener actividades biológicas nocivas (toxicidad o alergenicidad)</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s proteínas que muestran toxicidad suelen ejercer su efecto en un plazo breve. Las pruebas de toxicidad aguda se consideran apropiada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studios en animales</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emento importante de la evaluación de la inocuidad de muchos compuestos: plaguicidas, fármacos, productos químicos, aditivos alimentarios, etc.</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Sustancia: pureza conocida, sin valor nutricional</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10</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12 y 53</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ficultades: los alimentos son mezclas complejas de compuestos en lo que respecta a su composición y valor nutricional; identificar los posibles efectos nocivos en estudios con animales sin los tratamientos de control adecuados es muy difícil</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Alergenicidad (de las proteínas)</a:t>
            </a:r>
            <a:endParaRPr b="0" lang="en-US" sz="36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irectrices del Codex, párrafos 41</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43</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s auténticas alergias alimentarias pueden abarcar varios tipos de respuesta inmunológica</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Tipos más habituales: anticuerpos IgE específicos del alérgeno</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s auténticas alergias alimentarias pueden abarcar también reacciones mediadas por células</a:t>
            </a:r>
            <a:endParaRPr b="0" lang="en-US" sz="2800" spc="-1" strike="noStrike">
              <a:solidFill>
                <a:srgbClr val="ffffff"/>
              </a:solidFill>
              <a:latin typeface="Arial"/>
            </a:endParaRPr>
          </a:p>
          <a:p>
            <a:pPr marL="449280" indent="-44928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s-ES" sz="3600" spc="-1" strike="noStrike">
                <a:solidFill>
                  <a:srgbClr val="000000"/>
                </a:solidFill>
                <a:latin typeface="Arial"/>
              </a:rPr>
              <a:t>Alergenicidad (de las proteínas) </a:t>
            </a:r>
            <a:r>
              <a:rPr b="0" lang="en-US" sz="3600" spc="-1" strike="noStrike">
                <a:solidFill>
                  <a:srgbClr val="000000"/>
                </a:solidFill>
                <a:latin typeface="Arial"/>
              </a:rPr>
              <a:t>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0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 Codex ha establecido una lista de los alimentos alérgenos más comunes asociados con reacciones mediadas por IgE</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os cultivos alimentarios GM pueden introducir un potencial alérgeno en la dieta humana</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 Codex recomienda utilizar un enfoque integrado, gradual y específico de cada caso para evaluar la posible alergenicidad de los alimentos GM</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strategia de evaluación</a:t>
            </a:r>
            <a:endParaRPr b="0" lang="en-US" sz="3600" spc="-1" strike="noStrike">
              <a:solidFill>
                <a:srgbClr val="ffffff"/>
              </a:solidFill>
              <a:latin typeface="Arial"/>
            </a:endParaRPr>
          </a:p>
        </p:txBody>
      </p:sp>
      <p:sp>
        <p:nvSpPr>
          <p:cNvPr id="107"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primera etapa consiste en determinar:</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fuente de la proteína introducida</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cualquier similitud significativa entre la secuencia de aminoácidos de la proteína y la de alérgenos conocido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sus propiedades estructura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No hay una única prueba que pueda predecir la probable respuesta humana IgE a la exposición oral</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Se deben aislar todas las nuevas proteínas obtenidas de la planta de ADN recombinante para caracterizar la proteína</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s importante establecer si hay conocimiento de que la fuente ocasiona reacciones alérgica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3:22:37Z</dcterms:created>
  <dc:creator>Takeuchi, Masami (AGNS)</dc:creator>
  <dc:description/>
  <dc:language>en-US</dc:language>
  <cp:lastModifiedBy>Claudio</cp:lastModifiedBy>
  <dcterms:modified xsi:type="dcterms:W3CDTF">2009-10-03T08:58:22Z</dcterms:modified>
  <cp:revision>190</cp:revision>
  <dc:subject/>
  <dc:title>Concepts and Principles of GM Food Safety Assessment</dc:title>
</cp:coreProperties>
</file>