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4080" cy="34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1"/>
          </p:nvPr>
        </p:nvSpPr>
        <p:spPr>
          <a:xfrm>
            <a:off x="388440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28BC0F-BDF8-490D-A63D-FED34636CC9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A84047-CEA1-4C56-8D0C-2B2A3BF1D32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850EB7-3D08-4507-837B-03207BDD172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AF0DFC-133C-4386-9EC7-2997D8BBF4B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2BE38C-0D7F-4A8D-83CA-33FAD2BF3A6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2E4437-BC4B-49B1-811F-666716EE4E5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2FB8E1-B377-4E6E-AA37-44A5772F5A2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19BA02-3017-4999-A855-DA6AED9325D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28E498-8417-4DF0-A15C-D63FFD27D7D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F38052-EDC5-481A-9F63-32AD0DF4368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C2D326-2728-4697-B0C8-031D53FFCBC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3E08B1-60C5-4ED8-AD55-B3424E07A6D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2F39D9-09A2-405F-A418-19EC1289BAB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3C0022-55A3-4AB4-A95F-08E5D30B0CC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1D6245-40FC-4936-9A1E-0623C783E23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CBB9E0-8968-48D9-820A-9E033275E6C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084C8E-42B5-4251-8C46-D7D1053C500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BBFC7F-05C9-42CE-A27D-D46790FBB80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E4EB38-1F4A-4298-A38D-B3060DFFD0E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85C7B0-2F2E-4F1F-A321-8147C54AB2A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0CF15F-AA10-486B-A618-84FC27DC46D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1990CD-AD4C-4387-99E4-34983BFC53A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69901C-A86D-4E2A-B39A-377A8110F3D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0746E2-BD86-4BEB-8E0A-6DE27D4D6A7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BBD2DA-0180-4314-9649-03AF0967EA0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16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223160"/>
            <a:ext cx="82216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8520" y="160020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22316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898520" y="422316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47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65720" y="1600200"/>
            <a:ext cx="2647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45280" y="1600200"/>
            <a:ext cx="2647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223160"/>
            <a:ext cx="2647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65720" y="4223160"/>
            <a:ext cx="2647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245280" y="4223160"/>
            <a:ext cx="2647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22168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168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184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98520" y="1600200"/>
            <a:ext cx="401184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128520"/>
            <a:ext cx="73072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98520" y="1600200"/>
            <a:ext cx="401184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22316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22168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184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8520" y="160020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898520" y="422316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8520" y="160020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223160"/>
            <a:ext cx="82216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16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223160"/>
            <a:ext cx="82216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8520" y="160020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22316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898520" y="422316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47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65720" y="1600200"/>
            <a:ext cx="2647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45280" y="1600200"/>
            <a:ext cx="2647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223160"/>
            <a:ext cx="2647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465720" y="4223160"/>
            <a:ext cx="2647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245280" y="4223160"/>
            <a:ext cx="2647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168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184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898520" y="1600200"/>
            <a:ext cx="401184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128520"/>
            <a:ext cx="73072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8520" y="1600200"/>
            <a:ext cx="401184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22316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184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8520" y="160020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898520" y="422316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8520" y="160020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23160"/>
            <a:ext cx="82216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22168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"/>
          <p:cNvSpPr/>
          <p:nvPr/>
        </p:nvSpPr>
        <p:spPr>
          <a:xfrm>
            <a:off x="3276720" y="638172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Text Box 2"/>
          <p:cNvSpPr/>
          <p:nvPr/>
        </p:nvSpPr>
        <p:spPr>
          <a:xfrm>
            <a:off x="6781680" y="228600"/>
            <a:ext cx="2149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22168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720720" y="1619280"/>
            <a:ext cx="773604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Decisiones relativas a la comunicación de riesgos y a la evaluación de la inocuida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720720" y="3959280"/>
            <a:ext cx="75438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ódulo de presentación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720720" y="270000"/>
            <a:ext cx="735012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Función principal de la comunicación de riesg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720720" y="1619280"/>
            <a:ext cx="807228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egurar que toda la información y las opiniones necesarias para una gestión de riesgos eficaz se incorporan al proceso de toma de decis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ería incluir una explicación clara de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9856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políticas de evaluación de riesg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9856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ropia evaluación de riesg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9856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 omitir la incertidumb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720720" y="270000"/>
            <a:ext cx="735012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Como parte importante del sistema de bioinocuida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720720" y="1619280"/>
            <a:ext cx="810252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rantiza la aceptación pública de los alimentos obtenidos de plantas de ADN recombina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ción e interacción con el público sobre los riesgos concretos y las medidas adopta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anismo que crea confianza entre las partes interesadas de forma gradual, a medida que se pasa por las distintas fases de obtención de la planta de ADN recombinante y de los alimentos que de ella se deriv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720720" y="270000"/>
            <a:ext cx="7350120" cy="12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Dos componentes de la comunicación de riesg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720720" y="1619280"/>
            <a:ext cx="8067600" cy="52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39800"/>
                <a:tab algn="l" pos="1197000"/>
                <a:tab algn="l" pos="1654200"/>
                <a:tab algn="l" pos="2111400"/>
                <a:tab algn="l" pos="2568600"/>
                <a:tab algn="l" pos="3025800"/>
                <a:tab algn="l" pos="3483000"/>
                <a:tab algn="l" pos="3940200"/>
                <a:tab algn="l" pos="4397400"/>
                <a:tab algn="l" pos="4854600"/>
                <a:tab algn="l" pos="5311800"/>
                <a:tab algn="l" pos="5769000"/>
                <a:tab algn="l" pos="6226200"/>
                <a:tab algn="l" pos="6683400"/>
                <a:tab algn="l" pos="7140600"/>
                <a:tab algn="l" pos="7597800"/>
                <a:tab algn="l" pos="8055000"/>
                <a:tab algn="l" pos="8512200"/>
                <a:tab algn="l" pos="8969400"/>
                <a:tab algn="l" pos="9426600"/>
                <a:tab algn="l" pos="9883800"/>
                <a:tab algn="l" pos="10058400"/>
                <a:tab algn="l" pos="105156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es técnic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que normalmente  incluyen los peligros científicos estudiados en la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ción de riesg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las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ciones de gestión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e se derivan de el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39800"/>
                <a:tab algn="l" pos="1197000"/>
                <a:tab algn="l" pos="1654200"/>
                <a:tab algn="l" pos="2111400"/>
                <a:tab algn="l" pos="2568600"/>
                <a:tab algn="l" pos="3025800"/>
                <a:tab algn="l" pos="3483000"/>
                <a:tab algn="l" pos="3940200"/>
                <a:tab algn="l" pos="4397400"/>
                <a:tab algn="l" pos="4854600"/>
                <a:tab algn="l" pos="5311800"/>
                <a:tab algn="l" pos="5769000"/>
                <a:tab algn="l" pos="6226200"/>
                <a:tab algn="l" pos="6683400"/>
                <a:tab algn="l" pos="7140600"/>
                <a:tab algn="l" pos="7597800"/>
                <a:tab algn="l" pos="8055000"/>
                <a:tab algn="l" pos="8512200"/>
                <a:tab algn="l" pos="8969400"/>
                <a:tab algn="l" pos="9426600"/>
                <a:tab algn="l" pos="9883800"/>
                <a:tab algn="l" pos="10058400"/>
                <a:tab algn="l" pos="105156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es no técnic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ntre los que cabe citar los protocolos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ministrativ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los asuntos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ltural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tic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e surgen en la sociedad y que los organismos de reglamentación tratan durante el proceso de análisis de riesg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1"/>
          <p:cNvSpPr/>
          <p:nvPr/>
        </p:nvSpPr>
        <p:spPr>
          <a:xfrm>
            <a:off x="720720" y="270000"/>
            <a:ext cx="735012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Comunicación reglamentaria de riesg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720720" y="1619280"/>
            <a:ext cx="808524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ios del Codex, párrafos 22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9856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lica cómo y por qué se toman las deci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9856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noce cualquier preocupación que planteen las partes interesa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9856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lica cómo se han abordado esas preocupa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s países han adoptado medidas de la OCDE para la difusión de la inform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9856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itar al público a que haga observaciones sobre informes de evaluaciones de la inocu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9856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ulgar datos utilizados en evaluaciones de la inocu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9856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ar los resultados de reuniones de organismos de evaluación de la inocu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720720" y="270000"/>
            <a:ext cx="7350120" cy="12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La comunicación de riesgos como un proceso en ambos sentid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720720" y="1619280"/>
            <a:ext cx="808524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ción reglamentaria de riesg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9856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recer información sobre el marco y los procesos normativ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9856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abar aportaciones y respuest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un proceso de información se gana credibilidad ofreciendo análisis técnicos del proceso en un lenguaje sencil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y dos preguntas a las que se debe responder y que plantean los asuntos de la elección y de saber qué alimentos obtenidos de plantas de ADN recombinante pueden estar en el mercad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9856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Son inocuos los alimentos obtenidos de plantas de ADN recombinant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9856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Qué alimentos han sido modificados genéticament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"/>
          <p:cNvSpPr/>
          <p:nvPr/>
        </p:nvSpPr>
        <p:spPr>
          <a:xfrm>
            <a:off x="720720" y="270000"/>
            <a:ext cx="7350120" cy="12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Percepción del riesg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720720" y="1619280"/>
            <a:ext cx="808524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os vemos el mundo de distinta forma (mentalidad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personas de procedencias similares suelen percibir el riesgo de forma pareci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y algunas diferencias de géne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personas que tienen menos control sobre sus vidas suelen ver mayores riesg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cepción del riesgo basada en dat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ESGO = PELIG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cepción del riesgo del consumido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ESGO = PELIGRO + ULTRA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"/>
          <p:cNvSpPr/>
          <p:nvPr/>
        </p:nvSpPr>
        <p:spPr>
          <a:xfrm>
            <a:off x="720720" y="270000"/>
            <a:ext cx="7350120" cy="12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Percepciones del consumidor de los niveles de riesg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685800" y="1619280"/>
            <a:ext cx="808524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obertura de los medios de comunicación pude ser alarmista en ocas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partes interesadas se preocupan por equilibrar los mensajes sobre salud y los posibles riesg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arcan muchos asuntos relacionados con los contaminantes de los alimen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nivel de riesgo aceptable varía mucho entre países y comuni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"/>
          <p:cNvSpPr/>
          <p:nvPr/>
        </p:nvSpPr>
        <p:spPr>
          <a:xfrm>
            <a:off x="720720" y="270000"/>
            <a:ext cx="73501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Confianz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720720" y="1619280"/>
            <a:ext cx="809640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ianza pública en la inocuidad de los suministros alimentari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ianza en la industria y en las autoridades de reglamentación del gobierno para garantizar alimentos inocu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ícil de recuperar cuando se ha perdid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un “campo de juego” desigu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sucesos negativos tienen más repercusión en los medios que los positiv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fuentes de malas noticias parecen más creíbl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medios de comunicación se sienten atraídos por las malas noticia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ados grupos de interés utilizan hábilmente los medios de comunicació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720720" y="270000"/>
            <a:ext cx="73501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ifusión de inform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720720" y="1619280"/>
            <a:ext cx="807228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pronta difusión es funda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9856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noticia se filtrará de todas formas y se perderá confianza y credibil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9856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gente tiene derecho a recibir información sobre asuntos que afectan a su vi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9856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a la pauta para la resolución del asu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9856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ontrola mejor la exactitud de la inform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9856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esta menos trabajo difundir información que responder a las indag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9856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osibilidad de que el público se indigne es men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9856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osibilidad de que el público sobreestime el riesgo es men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9856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y más tiempo para la participación públ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9856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omado de New Jersey Department of Environmental Protection, 198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1"/>
          <p:cNvSpPr/>
          <p:nvPr/>
        </p:nvSpPr>
        <p:spPr>
          <a:xfrm>
            <a:off x="720720" y="27000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strategia de comunicació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20720" y="1600200"/>
          <a:ext cx="8102520" cy="5030640"/>
        </p:xfrm>
        <a:graphic>
          <a:graphicData uri="http://schemas.openxmlformats.org/drawingml/2006/table">
            <a:tbl>
              <a:tblPr/>
              <a:tblGrid>
                <a:gridCol w="2025720"/>
                <a:gridCol w="2025720"/>
                <a:gridCol w="2025360"/>
                <a:gridCol w="2025720"/>
              </a:tblGrid>
              <a:tr h="10382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iesg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iesgo percibid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jempl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rategi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916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j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j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vel de contaminantes permitid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iv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32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j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t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imentos GM,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dioxinas, mercurio en el pescad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nsib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t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j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aminación microbia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ucativ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4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t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t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E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activ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Rectangle 4"/>
          <p:cNvSpPr/>
          <p:nvPr/>
        </p:nvSpPr>
        <p:spPr>
          <a:xfrm>
            <a:off x="8089920" y="6095880"/>
            <a:ext cx="8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t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720720" y="270000"/>
            <a:ext cx="737856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Objetivos de la presentació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720720" y="1619280"/>
            <a:ext cx="808668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r la comunicación de riesgos en el contexto del análisis de riesgos (Code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licar lo que debe ser y lo que no debe ser la comunicación de riesg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licar las modalidades de la percepción de riesgos y de la confianz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r una estrategia de comunicación relativa a la inocuidad de los alimen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r las recomendaciones de una consulta FAO/OMS de exper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"/>
          <p:cNvSpPr/>
          <p:nvPr/>
        </p:nvSpPr>
        <p:spPr>
          <a:xfrm>
            <a:off x="720720" y="270000"/>
            <a:ext cx="735012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strategia de comunicació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2"/>
          <p:cNvSpPr/>
          <p:nvPr/>
        </p:nvSpPr>
        <p:spPr>
          <a:xfrm>
            <a:off x="720720" y="1619280"/>
            <a:ext cx="807732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icar a los destinatarios (grupos de partes interesadas) sin olvidar a los destinatarios intern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arar los mensajes; normalmente tres mensajes fundamentales y mensajes independientes para cada destinata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cionar instrumentos de comunic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720720" y="270000"/>
            <a:ext cx="735012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Medios de comunicació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720720" y="1619280"/>
            <a:ext cx="8085240" cy="51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nsa, radio y televis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ecer relaciones de trabajo y ganar credibilidad en momentos en que no haya cri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ber que mensajes se quieren transmit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 abiertos, honrados… y estar disponi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yud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render cómo trabajan los medios de comunic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1"/>
          <p:cNvSpPr/>
          <p:nvPr/>
        </p:nvSpPr>
        <p:spPr>
          <a:xfrm>
            <a:off x="720720" y="270000"/>
            <a:ext cx="735012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FAO/OMS: Consideraciones útiles sobre comunicación de riesg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720720" y="1619280"/>
            <a:ext cx="8085240" cy="51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ocer a los destinata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r con expertos científic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r con personal especializado en comunic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 una fuente creíble de inform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tir la responsabil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erenciar entre ciencia y juicio de val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rantizar la transparen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"/>
          <p:cNvSpPr/>
          <p:nvPr/>
        </p:nvSpPr>
        <p:spPr>
          <a:xfrm>
            <a:off x="720720" y="270000"/>
            <a:ext cx="735012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La comunicación de riesgos en la evaluación de la inocuida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2"/>
          <p:cNvSpPr/>
          <p:nvPr/>
        </p:nvSpPr>
        <p:spPr>
          <a:xfrm>
            <a:off x="720720" y="1619280"/>
            <a:ext cx="808524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aborar mejor información sobre el sistema de reglament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r un organismo informativo centraliz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mentar la sensibilidad y la participación del públ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720720" y="270000"/>
            <a:ext cx="735012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Cometido del grupo de trabaj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720720" y="1619280"/>
            <a:ext cx="808524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zando estudios de cas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aborar una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ategia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bre los métodos de comunicación de riesg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89856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-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Participan todas las partes interesada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9856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-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Tienen una buena relación con los medios de comunicació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9856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-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Están ganando credibilida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arar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documento de decisiones para el público en gen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"/>
          <p:cNvSpPr/>
          <p:nvPr/>
        </p:nvSpPr>
        <p:spPr>
          <a:xfrm>
            <a:off x="720720" y="270000"/>
            <a:ext cx="735012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Comunicación de riesgos en el contexto del análisis de riesg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720720" y="1619280"/>
            <a:ext cx="807732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ios de Aplicación Práctica para el Análisis de Riesgos en el Marco del Codex Alimentarius (2003): orientación general sobre el análisis de riesg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omunicación está relacionada con el proceso de análisis de riesg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encuadra en la evaluación y la gestión de riesg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e ser activa desde el principio del proceso de análisis de riesgos, y no un suplemento al fi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responsabilidad de to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3"/>
          <p:cNvSpPr/>
          <p:nvPr/>
        </p:nvSpPr>
        <p:spPr>
          <a:xfrm>
            <a:off x="720720" y="1619280"/>
            <a:ext cx="809640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o de análisis de riesg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44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licación coher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44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ierto, transparente y documen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44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tres componentes del análisis de riesgos deben estar documentados de forma cabal, sistemática y transpar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44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ción y consulta efectivas con las partes interesadas a lo largo de todo el proceso de análisis de riesg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foque estructurad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ción, gestión y comunicación de riesgos, cada uno de los tres componentes debe ser parte integrante del proceso en su conjunto y deben aplicarse en un marco gene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1"/>
          <p:cNvSpPr/>
          <p:nvPr/>
        </p:nvSpPr>
        <p:spPr>
          <a:xfrm>
            <a:off x="720720" y="270000"/>
            <a:ext cx="735012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Principios de aplicación práctica: aspectos genera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720720" y="270000"/>
            <a:ext cx="735012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Definición de comunicación de riesgos del Code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720720" y="1619280"/>
            <a:ext cx="8078760" cy="52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cambio interactivo de información y opiniones a lo largo de todo el proceso de análisis de riesgos sobre los riesgos, los factores relacionados con los riesgos y las percepciones de los riesgos, entre las personas encargadas de la evaluación de los riesgos, las encargadas de la gestión de riesgos, los consumidores, la industria, la comunidad académica y otras partes interesadas, comprendida la explicación de los resultados de la evaluación de los riesgos y de los fundamentos de las decisiones relacionadas con la gestión de los riesg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720720" y="270000"/>
            <a:ext cx="73501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La comunicación de riesgos debería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720720" y="1619280"/>
            <a:ext cx="807228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mover un mayor conocimiento y comprensión de las cuestiones concretas sometidas a exa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mover la coherencia y la transparencia en la formulación de opciones y recomendaciones relativas a la gestión de riesg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rcionar una base sólida para la comprensión de las decisiones propuestas en materia de gestión de riesg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jorar la efectividad y eficacia generales de los análisis de riesg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t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720720" y="270000"/>
            <a:ext cx="737856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La comunicación de riesgos debería: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720720" y="1619280"/>
            <a:ext cx="808524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talecer las relaciones de trabajo entre los participa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mentar la comprensión pública del proceso, con vistas a aumentar la confianza en la inocuidad de los suministros alimenta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mover la participación adecuada de todas las partes interesa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cambiar información en relación con las preocupaciones de las partes interesadas sobre riesgos asociados con los alimen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720720" y="270000"/>
            <a:ext cx="735012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La comunicación de riesgos comprende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720720" y="1619280"/>
            <a:ext cx="822960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proceso en ambos senti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omprensión de la percepción pública del ries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ortunidades para que el público participe en la toma de decis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ción oportuna y exac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ción inter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720720" y="270000"/>
            <a:ext cx="735012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La comunicación de riesgos no es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720720" y="1619280"/>
            <a:ext cx="808524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 únicamente los riesg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derle sencillamente las decisiones al públ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proceso relacionado con las cri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sabilidad únicamente de los especialistas en comunic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13:22:40Z</dcterms:created>
  <dc:creator>Takeuchi, Masami (AGNS)</dc:creator>
  <dc:description/>
  <dc:language>en-US</dc:language>
  <cp:lastModifiedBy>Claudio</cp:lastModifiedBy>
  <dcterms:modified xsi:type="dcterms:W3CDTF">2009-10-03T10:20:51Z</dcterms:modified>
  <cp:revision>201</cp:revision>
  <dc:subject/>
  <dc:title>Concepts and Principles of GM Food Safety Assessment</dc:title>
</cp:coreProperties>
</file>